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B13B-35F6-4680-9B87-63C1DEBE1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350F-13E7-48CD-A255-3EDCAF5D4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36FE-7139-43DB-BC03-8EAA1DFE3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AAB7-A472-43D7-85BE-CEE43088B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57A5A-2154-4660-8AEB-2F1A33574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4B5A6-3525-4FD6-B6A0-4E21C744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A2C0D-30FA-499E-93EB-3F767549C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CF04D-FC3F-49AC-B76E-E98A6D6B9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6DCC3-376E-40CA-BECD-411F89C33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79D09-4892-4809-9F00-81187EECA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4A58A-9D00-43A3-867F-780BC598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A907-7FFA-4E41-8138-CFF95918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CCD1F-E4E7-4467-ACA4-5611426A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7210A-11AE-44EF-B6B2-D45A5EF6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1659C-2EE7-4EF8-85C9-DD8DDFFBF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558DC-08A5-43CE-9455-2ED3F3C52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8019C-DFB2-4FC8-877E-E5E4FAA64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B5CF-F282-45F0-8B2D-10F05FB17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9797-26B8-456D-AD59-ED11F5C2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2461-8BB3-4934-975B-C7CC49183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3FD8-C627-4947-9922-737C83692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9045-BAAE-4EA5-8EEF-D384BE0C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6C6F-422A-483A-A247-3876FC42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286A-D2EA-4147-A337-C84B208E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bcbc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1ECF2-E9F3-4345-9C9B-583268CBDE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bcbc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FF81D-B309-479F-8019-E75391F995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rm-up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SA Re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ive:  Students will identify the probability of an event as a decimal, fraction, percent and rat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desk drawer contains 6 black pens, 5 blue pens, 4 red pens, and 5 green pe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ex picks one pen from the drawer without look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the probability Alex picks a blue pen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express as a decimal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428840" y="3732120"/>
            <a:ext cx="723960" cy="625680"/>
          </a:xfrm>
          <a:custGeom>
            <a:avLst/>
            <a:gdLst/>
            <a:ahLst/>
            <a:rect l="l" t="t" r="r" b="b"/>
            <a:pathLst>
              <a:path w="2010" h="1738">
                <a:moveTo>
                  <a:pt x="4762" y="10368"/>
                </a:moveTo>
                <a:cubicBezTo>
                  <a:pt x="4705" y="10381"/>
                  <a:pt x="4609" y="10338"/>
                  <a:pt x="4589" y="10393"/>
                </a:cubicBezTo>
                <a:cubicBezTo>
                  <a:pt x="4568" y="10451"/>
                  <a:pt x="4550" y="10552"/>
                  <a:pt x="4539" y="10616"/>
                </a:cubicBezTo>
                <a:cubicBezTo>
                  <a:pt x="4685" y="10575"/>
                  <a:pt x="4825" y="10475"/>
                  <a:pt x="4961" y="10616"/>
                </a:cubicBezTo>
                <a:cubicBezTo>
                  <a:pt x="5163" y="10826"/>
                  <a:pt x="4645" y="10877"/>
                  <a:pt x="4589" y="10889"/>
                </a:cubicBezTo>
                <a:cubicBezTo>
                  <a:pt x="4572" y="10897"/>
                  <a:pt x="4556" y="10906"/>
                  <a:pt x="4539" y="10914"/>
                </a:cubicBezTo>
              </a:path>
              <a:path w="2010" h="1738">
                <a:moveTo>
                  <a:pt x="3994" y="11187"/>
                </a:moveTo>
                <a:cubicBezTo>
                  <a:pt x="4247" y="11136"/>
                  <a:pt x="5011" y="10834"/>
                  <a:pt x="5234" y="10988"/>
                </a:cubicBezTo>
                <a:cubicBezTo>
                  <a:pt x="5209" y="11013"/>
                  <a:pt x="5184" y="11038"/>
                  <a:pt x="5159" y="11063"/>
                </a:cubicBezTo>
              </a:path>
              <a:path w="2010" h="1738">
                <a:moveTo>
                  <a:pt x="4192" y="11559"/>
                </a:moveTo>
                <a:cubicBezTo>
                  <a:pt x="4490" y="11630"/>
                  <a:pt x="4569" y="11822"/>
                  <a:pt x="4242" y="12030"/>
                </a:cubicBezTo>
                <a:cubicBezTo>
                  <a:pt x="4076" y="12092"/>
                  <a:pt x="4035" y="12143"/>
                  <a:pt x="3969" y="12030"/>
                </a:cubicBezTo>
                <a:cubicBezTo>
                  <a:pt x="4126" y="11849"/>
                  <a:pt x="4213" y="11831"/>
                  <a:pt x="4440" y="11931"/>
                </a:cubicBezTo>
              </a:path>
              <a:path w="2010" h="1738">
                <a:moveTo>
                  <a:pt x="4762" y="11435"/>
                </a:moveTo>
                <a:cubicBezTo>
                  <a:pt x="4718" y="11635"/>
                  <a:pt x="4694" y="11686"/>
                  <a:pt x="4762" y="11807"/>
                </a:cubicBezTo>
                <a:cubicBezTo>
                  <a:pt x="4908" y="11786"/>
                  <a:pt x="5419" y="11626"/>
                  <a:pt x="5060" y="11410"/>
                </a:cubicBezTo>
                <a:cubicBezTo>
                  <a:pt x="4926" y="11391"/>
                  <a:pt x="4904" y="11365"/>
                  <a:pt x="4837" y="11410"/>
                </a:cubicBezTo>
              </a:path>
              <a:path w="2010" h="1738">
                <a:moveTo>
                  <a:pt x="5655" y="10815"/>
                </a:moveTo>
                <a:cubicBezTo>
                  <a:pt x="5758" y="10815"/>
                  <a:pt x="5865" y="10810"/>
                  <a:pt x="5953" y="10840"/>
                </a:cubicBezTo>
              </a:path>
              <a:path w="2010" h="1738">
                <a:moveTo>
                  <a:pt x="5680" y="11063"/>
                </a:moveTo>
                <a:cubicBezTo>
                  <a:pt x="5827" y="11014"/>
                  <a:pt x="5875" y="10997"/>
                  <a:pt x="5978" y="10988"/>
                </a:cubicBezTo>
              </a:path>
              <a:path w="2010" h="1738">
                <a:moveTo>
                  <a:pt x="5978" y="10988"/>
                </a:moveTo>
                <a:lnTo>
                  <a:pt x="5978" y="10988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55920" y="3705120"/>
            <a:ext cx="276120" cy="617760"/>
          </a:xfrm>
          <a:custGeom>
            <a:avLst/>
            <a:gdLst/>
            <a:ahLst/>
            <a:rect l="l" t="t" r="r" b="b"/>
            <a:pathLst>
              <a:path w="770" h="1712">
                <a:moveTo>
                  <a:pt x="7119" y="10294"/>
                </a:moveTo>
                <a:cubicBezTo>
                  <a:pt x="7171" y="10533"/>
                  <a:pt x="7241" y="10710"/>
                  <a:pt x="7119" y="10914"/>
                </a:cubicBezTo>
              </a:path>
              <a:path w="770" h="1712">
                <a:moveTo>
                  <a:pt x="6896" y="10988"/>
                </a:moveTo>
                <a:cubicBezTo>
                  <a:pt x="7121" y="10982"/>
                  <a:pt x="7415" y="10919"/>
                  <a:pt x="7590" y="11013"/>
                </a:cubicBezTo>
              </a:path>
              <a:path w="770" h="1712">
                <a:moveTo>
                  <a:pt x="6821" y="11460"/>
                </a:moveTo>
                <a:cubicBezTo>
                  <a:pt x="6844" y="11567"/>
                  <a:pt x="6854" y="11672"/>
                  <a:pt x="6871" y="11782"/>
                </a:cubicBezTo>
                <a:cubicBezTo>
                  <a:pt x="7110" y="11819"/>
                  <a:pt x="7196" y="11733"/>
                  <a:pt x="7342" y="11559"/>
                </a:cubicBezTo>
              </a:path>
              <a:path w="770" h="1712">
                <a:moveTo>
                  <a:pt x="7193" y="11361"/>
                </a:moveTo>
                <a:cubicBezTo>
                  <a:pt x="7193" y="11576"/>
                  <a:pt x="7193" y="11790"/>
                  <a:pt x="7193" y="120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98880" y="3902040"/>
            <a:ext cx="125280" cy="384120"/>
          </a:xfrm>
          <a:custGeom>
            <a:avLst/>
            <a:gdLst/>
            <a:ahLst/>
            <a:rect l="l" t="t" r="r" b="b"/>
            <a:pathLst>
              <a:path w="348" h="1067">
                <a:moveTo>
                  <a:pt x="8657" y="10889"/>
                </a:moveTo>
                <a:cubicBezTo>
                  <a:pt x="8710" y="10916"/>
                  <a:pt x="8696" y="10901"/>
                  <a:pt x="8731" y="10840"/>
                </a:cubicBezTo>
                <a:cubicBezTo>
                  <a:pt x="8629" y="10860"/>
                  <a:pt x="8622" y="10902"/>
                  <a:pt x="8632" y="10988"/>
                </a:cubicBezTo>
              </a:path>
              <a:path w="348" h="1067">
                <a:moveTo>
                  <a:pt x="8954" y="11509"/>
                </a:moveTo>
                <a:cubicBezTo>
                  <a:pt x="8903" y="11708"/>
                  <a:pt x="8886" y="11882"/>
                  <a:pt x="8657" y="118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544920" y="3803760"/>
            <a:ext cx="849240" cy="322200"/>
          </a:xfrm>
          <a:custGeom>
            <a:avLst/>
            <a:gdLst/>
            <a:ahLst/>
            <a:rect l="l" t="t" r="r" b="b"/>
            <a:pathLst>
              <a:path w="2358" h="894">
                <a:moveTo>
                  <a:pt x="9996" y="10815"/>
                </a:moveTo>
                <a:cubicBezTo>
                  <a:pt x="10149" y="10842"/>
                  <a:pt x="10573" y="10931"/>
                  <a:pt x="10418" y="11187"/>
                </a:cubicBezTo>
                <a:cubicBezTo>
                  <a:pt x="10219" y="11362"/>
                  <a:pt x="10152" y="11420"/>
                  <a:pt x="9971" y="11460"/>
                </a:cubicBezTo>
                <a:cubicBezTo>
                  <a:pt x="9930" y="11452"/>
                  <a:pt x="9888" y="11443"/>
                  <a:pt x="9847" y="11435"/>
                </a:cubicBezTo>
                <a:cubicBezTo>
                  <a:pt x="9979" y="11237"/>
                  <a:pt x="10196" y="10970"/>
                  <a:pt x="10443" y="11237"/>
                </a:cubicBezTo>
                <a:cubicBezTo>
                  <a:pt x="10451" y="11262"/>
                  <a:pt x="10460" y="11286"/>
                  <a:pt x="10468" y="11311"/>
                </a:cubicBezTo>
              </a:path>
              <a:path w="2358" h="894">
                <a:moveTo>
                  <a:pt x="10964" y="10666"/>
                </a:moveTo>
                <a:cubicBezTo>
                  <a:pt x="10907" y="10666"/>
                  <a:pt x="10833" y="10658"/>
                  <a:pt x="10790" y="10691"/>
                </a:cubicBezTo>
                <a:cubicBezTo>
                  <a:pt x="10719" y="10746"/>
                  <a:pt x="10724" y="10808"/>
                  <a:pt x="10716" y="10889"/>
                </a:cubicBezTo>
                <a:cubicBezTo>
                  <a:pt x="10835" y="10872"/>
                  <a:pt x="11007" y="10749"/>
                  <a:pt x="11112" y="10864"/>
                </a:cubicBezTo>
                <a:cubicBezTo>
                  <a:pt x="11328" y="11101"/>
                  <a:pt x="10979" y="11270"/>
                  <a:pt x="10790" y="11261"/>
                </a:cubicBezTo>
                <a:cubicBezTo>
                  <a:pt x="10648" y="11214"/>
                  <a:pt x="10596" y="11205"/>
                  <a:pt x="10691" y="11088"/>
                </a:cubicBezTo>
              </a:path>
              <a:path w="2358" h="894">
                <a:moveTo>
                  <a:pt x="11534" y="10592"/>
                </a:moveTo>
                <a:cubicBezTo>
                  <a:pt x="11479" y="10697"/>
                  <a:pt x="11369" y="10853"/>
                  <a:pt x="11559" y="10815"/>
                </a:cubicBezTo>
                <a:cubicBezTo>
                  <a:pt x="11566" y="10720"/>
                  <a:pt x="11472" y="10585"/>
                  <a:pt x="11609" y="10567"/>
                </a:cubicBezTo>
                <a:cubicBezTo>
                  <a:pt x="11955" y="10523"/>
                  <a:pt x="11926" y="10820"/>
                  <a:pt x="11807" y="11038"/>
                </a:cubicBezTo>
                <a:cubicBezTo>
                  <a:pt x="11713" y="11211"/>
                  <a:pt x="11580" y="11250"/>
                  <a:pt x="11683" y="11336"/>
                </a:cubicBezTo>
              </a:path>
              <a:path w="2358" h="894">
                <a:moveTo>
                  <a:pt x="12055" y="11286"/>
                </a:moveTo>
                <a:cubicBezTo>
                  <a:pt x="12091" y="11304"/>
                  <a:pt x="12292" y="11226"/>
                  <a:pt x="12179" y="11162"/>
                </a:cubicBezTo>
                <a:cubicBezTo>
                  <a:pt x="12111" y="11162"/>
                  <a:pt x="12092" y="11159"/>
                  <a:pt x="12055" y="111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633920" y="3867120"/>
            <a:ext cx="98280" cy="411120"/>
          </a:xfrm>
          <a:custGeom>
            <a:avLst/>
            <a:gdLst/>
            <a:ahLst/>
            <a:rect l="l" t="t" r="r" b="b"/>
            <a:pathLst>
              <a:path w="273" h="1142">
                <a:moveTo>
                  <a:pt x="12898" y="10740"/>
                </a:moveTo>
                <a:cubicBezTo>
                  <a:pt x="12918" y="10781"/>
                  <a:pt x="12927" y="10787"/>
                  <a:pt x="12923" y="10815"/>
                </a:cubicBezTo>
              </a:path>
              <a:path w="273" h="1142">
                <a:moveTo>
                  <a:pt x="13146" y="11410"/>
                </a:moveTo>
                <a:cubicBezTo>
                  <a:pt x="13110" y="11743"/>
                  <a:pt x="13157" y="11734"/>
                  <a:pt x="12874" y="118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072040" y="3830760"/>
            <a:ext cx="642960" cy="241200"/>
          </a:xfrm>
          <a:custGeom>
            <a:avLst/>
            <a:gdLst/>
            <a:ahLst/>
            <a:rect l="l" t="t" r="r" b="b"/>
            <a:pathLst>
              <a:path w="1787" h="671">
                <a:moveTo>
                  <a:pt x="14188" y="11212"/>
                </a:moveTo>
                <a:cubicBezTo>
                  <a:pt x="14139" y="11231"/>
                  <a:pt x="14059" y="11285"/>
                  <a:pt x="14163" y="11311"/>
                </a:cubicBezTo>
                <a:cubicBezTo>
                  <a:pt x="14205" y="11311"/>
                  <a:pt x="14221" y="11319"/>
                  <a:pt x="14213" y="11286"/>
                </a:cubicBezTo>
                <a:cubicBezTo>
                  <a:pt x="14066" y="11232"/>
                  <a:pt x="14067" y="11275"/>
                  <a:pt x="14213" y="11162"/>
                </a:cubicBezTo>
              </a:path>
              <a:path w="1787" h="671">
                <a:moveTo>
                  <a:pt x="14660" y="10691"/>
                </a:moveTo>
                <a:cubicBezTo>
                  <a:pt x="14871" y="10728"/>
                  <a:pt x="15223" y="10822"/>
                  <a:pt x="15007" y="11112"/>
                </a:cubicBezTo>
                <a:cubicBezTo>
                  <a:pt x="14885" y="11277"/>
                  <a:pt x="14748" y="11232"/>
                  <a:pt x="14635" y="11162"/>
                </a:cubicBezTo>
                <a:cubicBezTo>
                  <a:pt x="14777" y="11087"/>
                  <a:pt x="15000" y="10976"/>
                  <a:pt x="15081" y="11212"/>
                </a:cubicBezTo>
                <a:cubicBezTo>
                  <a:pt x="15073" y="11220"/>
                  <a:pt x="15064" y="11229"/>
                  <a:pt x="15056" y="11237"/>
                </a:cubicBezTo>
              </a:path>
              <a:path w="1787" h="671">
                <a:moveTo>
                  <a:pt x="15602" y="10641"/>
                </a:moveTo>
                <a:cubicBezTo>
                  <a:pt x="15535" y="10684"/>
                  <a:pt x="15463" y="10702"/>
                  <a:pt x="15429" y="10765"/>
                </a:cubicBezTo>
                <a:cubicBezTo>
                  <a:pt x="15392" y="10838"/>
                  <a:pt x="15375" y="10843"/>
                  <a:pt x="15379" y="10889"/>
                </a:cubicBezTo>
                <a:cubicBezTo>
                  <a:pt x="15543" y="10860"/>
                  <a:pt x="15695" y="10763"/>
                  <a:pt x="15825" y="10939"/>
                </a:cubicBezTo>
                <a:cubicBezTo>
                  <a:pt x="16018" y="11200"/>
                  <a:pt x="15546" y="11361"/>
                  <a:pt x="15379" y="11237"/>
                </a:cubicBezTo>
                <a:cubicBezTo>
                  <a:pt x="15371" y="11195"/>
                  <a:pt x="15362" y="11154"/>
                  <a:pt x="15354" y="111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018120" y="3875040"/>
            <a:ext cx="98640" cy="393840"/>
          </a:xfrm>
          <a:custGeom>
            <a:avLst/>
            <a:gdLst/>
            <a:ahLst/>
            <a:rect l="l" t="t" r="r" b="b"/>
            <a:pathLst>
              <a:path w="274" h="1093">
                <a:moveTo>
                  <a:pt x="16793" y="10840"/>
                </a:moveTo>
                <a:cubicBezTo>
                  <a:pt x="16834" y="10880"/>
                  <a:pt x="16864" y="10882"/>
                  <a:pt x="16917" y="10840"/>
                </a:cubicBezTo>
                <a:cubicBezTo>
                  <a:pt x="16880" y="10746"/>
                  <a:pt x="16883" y="10782"/>
                  <a:pt x="16793" y="10790"/>
                </a:cubicBezTo>
              </a:path>
              <a:path w="274" h="1093">
                <a:moveTo>
                  <a:pt x="16991" y="11435"/>
                </a:moveTo>
                <a:cubicBezTo>
                  <a:pt x="16962" y="11637"/>
                  <a:pt x="16951" y="11871"/>
                  <a:pt x="16718" y="118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626160" y="3803760"/>
            <a:ext cx="34920" cy="241200"/>
          </a:xfrm>
          <a:custGeom>
            <a:avLst/>
            <a:gdLst/>
            <a:ahLst/>
            <a:rect l="l" t="t" r="r" b="b"/>
            <a:pathLst>
              <a:path w="100" h="671">
                <a:moveTo>
                  <a:pt x="18405" y="10592"/>
                </a:moveTo>
                <a:cubicBezTo>
                  <a:pt x="18488" y="10537"/>
                  <a:pt x="18454" y="10882"/>
                  <a:pt x="18455" y="10889"/>
                </a:cubicBezTo>
                <a:cubicBezTo>
                  <a:pt x="18463" y="10987"/>
                  <a:pt x="18409" y="11244"/>
                  <a:pt x="18504" y="112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85000" y="3848040"/>
            <a:ext cx="258840" cy="162000"/>
          </a:xfrm>
          <a:custGeom>
            <a:avLst/>
            <a:gdLst/>
            <a:ahLst/>
            <a:rect l="l" t="t" r="r" b="b"/>
            <a:pathLst>
              <a:path w="721" h="447">
                <a:moveTo>
                  <a:pt x="19124" y="10716"/>
                </a:moveTo>
                <a:cubicBezTo>
                  <a:pt x="19124" y="10802"/>
                  <a:pt x="19124" y="10627"/>
                  <a:pt x="19124" y="10716"/>
                </a:cubicBezTo>
              </a:path>
              <a:path w="721" h="447">
                <a:moveTo>
                  <a:pt x="19149" y="11038"/>
                </a:moveTo>
                <a:cubicBezTo>
                  <a:pt x="19149" y="11079"/>
                  <a:pt x="19149" y="11153"/>
                  <a:pt x="19149" y="11112"/>
                </a:cubicBezTo>
              </a:path>
              <a:path w="721" h="447">
                <a:moveTo>
                  <a:pt x="19422" y="10740"/>
                </a:moveTo>
                <a:cubicBezTo>
                  <a:pt x="19439" y="10895"/>
                  <a:pt x="19464" y="10906"/>
                  <a:pt x="19621" y="10914"/>
                </a:cubicBezTo>
                <a:cubicBezTo>
                  <a:pt x="19745" y="10914"/>
                  <a:pt x="19786" y="10914"/>
                  <a:pt x="19844" y="108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473880" y="4295880"/>
            <a:ext cx="760320" cy="463320"/>
          </a:xfrm>
          <a:custGeom>
            <a:avLst/>
            <a:gdLst/>
            <a:ahLst/>
            <a:rect l="l" t="t" r="r" b="b"/>
            <a:pathLst>
              <a:path w="2110" h="1291">
                <a:moveTo>
                  <a:pt x="18802" y="12005"/>
                </a:moveTo>
                <a:cubicBezTo>
                  <a:pt x="18752" y="12063"/>
                  <a:pt x="18752" y="12057"/>
                  <a:pt x="18752" y="12154"/>
                </a:cubicBezTo>
                <a:cubicBezTo>
                  <a:pt x="18792" y="12150"/>
                  <a:pt x="19113" y="12106"/>
                  <a:pt x="18926" y="11981"/>
                </a:cubicBezTo>
                <a:cubicBezTo>
                  <a:pt x="18869" y="11962"/>
                  <a:pt x="18826" y="11953"/>
                  <a:pt x="18876" y="11956"/>
                </a:cubicBezTo>
              </a:path>
              <a:path w="2110" h="1291">
                <a:moveTo>
                  <a:pt x="19248" y="12080"/>
                </a:moveTo>
                <a:cubicBezTo>
                  <a:pt x="19248" y="12096"/>
                  <a:pt x="19248" y="12113"/>
                  <a:pt x="19248" y="12129"/>
                </a:cubicBezTo>
                <a:cubicBezTo>
                  <a:pt x="19284" y="12023"/>
                  <a:pt x="19351" y="11969"/>
                  <a:pt x="19447" y="11931"/>
                </a:cubicBezTo>
              </a:path>
              <a:path w="2110" h="1291">
                <a:moveTo>
                  <a:pt x="18355" y="12675"/>
                </a:moveTo>
                <a:cubicBezTo>
                  <a:pt x="18201" y="12717"/>
                  <a:pt x="18131" y="12687"/>
                  <a:pt x="18107" y="12799"/>
                </a:cubicBezTo>
                <a:cubicBezTo>
                  <a:pt x="18089" y="12890"/>
                  <a:pt x="18081" y="12897"/>
                  <a:pt x="18083" y="12948"/>
                </a:cubicBezTo>
                <a:cubicBezTo>
                  <a:pt x="18230" y="12991"/>
                  <a:pt x="18303" y="12963"/>
                  <a:pt x="18455" y="13072"/>
                </a:cubicBezTo>
                <a:cubicBezTo>
                  <a:pt x="18410" y="13150"/>
                  <a:pt x="18002" y="13374"/>
                  <a:pt x="17983" y="13171"/>
                </a:cubicBezTo>
                <a:cubicBezTo>
                  <a:pt x="18016" y="13130"/>
                  <a:pt x="18050" y="13088"/>
                  <a:pt x="18083" y="13047"/>
                </a:cubicBezTo>
              </a:path>
              <a:path w="2110" h="1291">
                <a:moveTo>
                  <a:pt x="18678" y="12824"/>
                </a:moveTo>
                <a:cubicBezTo>
                  <a:pt x="18678" y="12859"/>
                  <a:pt x="18683" y="12876"/>
                  <a:pt x="18703" y="12898"/>
                </a:cubicBezTo>
              </a:path>
              <a:path w="2110" h="1291">
                <a:moveTo>
                  <a:pt x="18752" y="13047"/>
                </a:moveTo>
                <a:cubicBezTo>
                  <a:pt x="18760" y="13047"/>
                  <a:pt x="18769" y="13047"/>
                  <a:pt x="18777" y="13047"/>
                </a:cubicBezTo>
              </a:path>
              <a:path w="2110" h="1291">
                <a:moveTo>
                  <a:pt x="18777" y="13047"/>
                </a:moveTo>
                <a:lnTo>
                  <a:pt x="18777" y="13047"/>
                </a:lnTo>
              </a:path>
              <a:path w="2110" h="1291">
                <a:moveTo>
                  <a:pt x="19149" y="12725"/>
                </a:moveTo>
                <a:cubicBezTo>
                  <a:pt x="19357" y="12794"/>
                  <a:pt x="19635" y="12998"/>
                  <a:pt x="19248" y="13146"/>
                </a:cubicBezTo>
                <a:cubicBezTo>
                  <a:pt x="19109" y="13146"/>
                  <a:pt x="19076" y="13170"/>
                  <a:pt x="19025" y="13097"/>
                </a:cubicBezTo>
                <a:cubicBezTo>
                  <a:pt x="19225" y="12954"/>
                  <a:pt x="19210" y="13064"/>
                  <a:pt x="19422" y="13097"/>
                </a:cubicBezTo>
                <a:cubicBezTo>
                  <a:pt x="19463" y="13097"/>
                  <a:pt x="19505" y="13097"/>
                  <a:pt x="19546" y="13097"/>
                </a:cubicBezTo>
              </a:path>
              <a:path w="2110" h="1291">
                <a:moveTo>
                  <a:pt x="19794" y="12725"/>
                </a:moveTo>
                <a:cubicBezTo>
                  <a:pt x="19733" y="12875"/>
                  <a:pt x="19670" y="13336"/>
                  <a:pt x="20017" y="13097"/>
                </a:cubicBezTo>
                <a:cubicBezTo>
                  <a:pt x="20042" y="13056"/>
                  <a:pt x="20067" y="13014"/>
                  <a:pt x="20092" y="12973"/>
                </a:cubicBezTo>
                <a:cubicBezTo>
                  <a:pt x="19953" y="12765"/>
                  <a:pt x="19872" y="12774"/>
                  <a:pt x="19621" y="127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116840" y="3768840"/>
            <a:ext cx="19080" cy="295200"/>
          </a:xfrm>
          <a:custGeom>
            <a:avLst/>
            <a:gdLst/>
            <a:ahLst/>
            <a:rect l="l" t="t" r="r" b="b"/>
            <a:pathLst>
              <a:path w="51" h="819">
                <a:moveTo>
                  <a:pt x="19819" y="10468"/>
                </a:moveTo>
                <a:cubicBezTo>
                  <a:pt x="19791" y="10743"/>
                  <a:pt x="19769" y="11010"/>
                  <a:pt x="19769" y="112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se 1:  Practice Workbook pg. 171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se 2:  Practice Workbook pg. 169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438960" y="3606840"/>
            <a:ext cx="911160" cy="73080"/>
          </a:xfrm>
          <a:custGeom>
            <a:avLst/>
            <a:gdLst/>
            <a:ahLst/>
            <a:rect l="l" t="t" r="r" b="b"/>
            <a:pathLst>
              <a:path w="2531" h="200">
                <a:moveTo>
                  <a:pt x="17884" y="10220"/>
                </a:moveTo>
                <a:cubicBezTo>
                  <a:pt x="17980" y="10220"/>
                  <a:pt x="18064" y="10201"/>
                  <a:pt x="18157" y="10195"/>
                </a:cubicBezTo>
                <a:cubicBezTo>
                  <a:pt x="18455" y="10175"/>
                  <a:pt x="18752" y="10145"/>
                  <a:pt x="19050" y="10120"/>
                </a:cubicBezTo>
                <a:cubicBezTo>
                  <a:pt x="19317" y="10098"/>
                  <a:pt x="19578" y="10031"/>
                  <a:pt x="19844" y="10021"/>
                </a:cubicBezTo>
                <a:cubicBezTo>
                  <a:pt x="20004" y="10015"/>
                  <a:pt x="20160" y="10026"/>
                  <a:pt x="20315" y="10046"/>
                </a:cubicBezTo>
                <a:cubicBezTo>
                  <a:pt x="20365" y="10046"/>
                  <a:pt x="20381" y="10046"/>
                  <a:pt x="20414" y="100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t 8: Statistics and</a:t>
            </a: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t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ive:  Students will express the probability of an event as a decimal, fraction, percent and rati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 Students will identify the probability of an event as a decimal, fraction, percent and rat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0000" y="2707920"/>
            <a:ext cx="7772400" cy="33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cabulary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ossing a coin is an example of an experimen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come: possible result of an experiment (such as hea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t: Collection of outc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20840" y="4214880"/>
            <a:ext cx="2135160" cy="723960"/>
          </a:xfrm>
          <a:custGeom>
            <a:avLst/>
            <a:gdLst/>
            <a:ahLst/>
            <a:rect l="l" t="t" r="r" b="b"/>
            <a:pathLst>
              <a:path w="5929" h="2010">
                <a:moveTo>
                  <a:pt x="4390" y="11807"/>
                </a:moveTo>
                <a:cubicBezTo>
                  <a:pt x="4531" y="11801"/>
                  <a:pt x="4672" y="11797"/>
                  <a:pt x="4812" y="11782"/>
                </a:cubicBezTo>
                <a:cubicBezTo>
                  <a:pt x="5070" y="11755"/>
                  <a:pt x="5297" y="11752"/>
                  <a:pt x="5556" y="11757"/>
                </a:cubicBezTo>
                <a:cubicBezTo>
                  <a:pt x="5628" y="11758"/>
                  <a:pt x="5669" y="11764"/>
                  <a:pt x="5730" y="11782"/>
                </a:cubicBezTo>
                <a:cubicBezTo>
                  <a:pt x="5789" y="11799"/>
                  <a:pt x="5843" y="11796"/>
                  <a:pt x="5904" y="11807"/>
                </a:cubicBezTo>
                <a:cubicBezTo>
                  <a:pt x="5998" y="11823"/>
                  <a:pt x="6031" y="11811"/>
                  <a:pt x="6127" y="11807"/>
                </a:cubicBezTo>
                <a:cubicBezTo>
                  <a:pt x="6614" y="11785"/>
                  <a:pt x="7108" y="11814"/>
                  <a:pt x="7590" y="11782"/>
                </a:cubicBezTo>
                <a:cubicBezTo>
                  <a:pt x="7969" y="11757"/>
                  <a:pt x="8355" y="11781"/>
                  <a:pt x="8731" y="11757"/>
                </a:cubicBezTo>
                <a:cubicBezTo>
                  <a:pt x="8833" y="11750"/>
                  <a:pt x="8928" y="11738"/>
                  <a:pt x="9029" y="11733"/>
                </a:cubicBezTo>
                <a:cubicBezTo>
                  <a:pt x="9181" y="11725"/>
                  <a:pt x="9384" y="11699"/>
                  <a:pt x="9525" y="11708"/>
                </a:cubicBezTo>
                <a:cubicBezTo>
                  <a:pt x="9558" y="11710"/>
                  <a:pt x="9566" y="11728"/>
                  <a:pt x="9599" y="11733"/>
                </a:cubicBezTo>
              </a:path>
              <a:path w="5929" h="2010">
                <a:moveTo>
                  <a:pt x="3671" y="13692"/>
                </a:moveTo>
                <a:cubicBezTo>
                  <a:pt x="3713" y="13681"/>
                  <a:pt x="3749" y="13677"/>
                  <a:pt x="3795" y="13667"/>
                </a:cubicBezTo>
                <a:cubicBezTo>
                  <a:pt x="3861" y="13652"/>
                  <a:pt x="3926" y="13626"/>
                  <a:pt x="3994" y="13618"/>
                </a:cubicBezTo>
                <a:cubicBezTo>
                  <a:pt x="4070" y="13609"/>
                  <a:pt x="4124" y="13600"/>
                  <a:pt x="4192" y="13593"/>
                </a:cubicBezTo>
                <a:cubicBezTo>
                  <a:pt x="4224" y="13590"/>
                  <a:pt x="4326" y="13567"/>
                  <a:pt x="4341" y="13568"/>
                </a:cubicBezTo>
                <a:cubicBezTo>
                  <a:pt x="4382" y="13571"/>
                  <a:pt x="4445" y="13614"/>
                  <a:pt x="4490" y="13618"/>
                </a:cubicBezTo>
                <a:cubicBezTo>
                  <a:pt x="4581" y="13626"/>
                  <a:pt x="4674" y="13635"/>
                  <a:pt x="4762" y="13643"/>
                </a:cubicBezTo>
                <a:cubicBezTo>
                  <a:pt x="4859" y="13652"/>
                  <a:pt x="4968" y="13659"/>
                  <a:pt x="5060" y="13667"/>
                </a:cubicBezTo>
                <a:cubicBezTo>
                  <a:pt x="5207" y="13680"/>
                  <a:pt x="5360" y="13683"/>
                  <a:pt x="5507" y="13692"/>
                </a:cubicBezTo>
                <a:cubicBezTo>
                  <a:pt x="5878" y="13715"/>
                  <a:pt x="6254" y="13690"/>
                  <a:pt x="6623" y="13717"/>
                </a:cubicBezTo>
                <a:cubicBezTo>
                  <a:pt x="6776" y="13728"/>
                  <a:pt x="6920" y="13704"/>
                  <a:pt x="7069" y="13692"/>
                </a:cubicBezTo>
                <a:cubicBezTo>
                  <a:pt x="7241" y="13678"/>
                  <a:pt x="7419" y="13680"/>
                  <a:pt x="7590" y="13667"/>
                </a:cubicBezTo>
                <a:cubicBezTo>
                  <a:pt x="7671" y="13661"/>
                  <a:pt x="7756" y="13667"/>
                  <a:pt x="7838" y="136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153040" y="5884920"/>
            <a:ext cx="625320" cy="500040"/>
          </a:xfrm>
          <a:custGeom>
            <a:avLst/>
            <a:gdLst/>
            <a:ahLst/>
            <a:rect l="l" t="t" r="r" b="b"/>
            <a:pathLst>
              <a:path w="1738" h="1390">
                <a:moveTo>
                  <a:pt x="14461" y="16917"/>
                </a:moveTo>
                <a:cubicBezTo>
                  <a:pt x="14537" y="16866"/>
                  <a:pt x="14628" y="16841"/>
                  <a:pt x="14709" y="16793"/>
                </a:cubicBezTo>
                <a:cubicBezTo>
                  <a:pt x="14784" y="16748"/>
                  <a:pt x="14829" y="16709"/>
                  <a:pt x="14908" y="16694"/>
                </a:cubicBezTo>
              </a:path>
              <a:path w="1738" h="1390">
                <a:moveTo>
                  <a:pt x="14536" y="16644"/>
                </a:moveTo>
                <a:cubicBezTo>
                  <a:pt x="14516" y="16792"/>
                  <a:pt x="14427" y="16905"/>
                  <a:pt x="14387" y="17016"/>
                </a:cubicBezTo>
                <a:cubicBezTo>
                  <a:pt x="14395" y="17016"/>
                  <a:pt x="14404" y="17016"/>
                  <a:pt x="14412" y="17016"/>
                </a:cubicBezTo>
                <a:cubicBezTo>
                  <a:pt x="14567" y="16986"/>
                  <a:pt x="14678" y="16971"/>
                  <a:pt x="14833" y="16991"/>
                </a:cubicBezTo>
              </a:path>
              <a:path w="1738" h="1390">
                <a:moveTo>
                  <a:pt x="15354" y="16346"/>
                </a:moveTo>
                <a:cubicBezTo>
                  <a:pt x="15354" y="16469"/>
                  <a:pt x="15389" y="16579"/>
                  <a:pt x="15429" y="16694"/>
                </a:cubicBezTo>
                <a:cubicBezTo>
                  <a:pt x="15453" y="16743"/>
                  <a:pt x="15461" y="16760"/>
                  <a:pt x="15478" y="16793"/>
                </a:cubicBezTo>
              </a:path>
              <a:path w="1738" h="1390">
                <a:moveTo>
                  <a:pt x="15230" y="16669"/>
                </a:moveTo>
                <a:cubicBezTo>
                  <a:pt x="15381" y="16581"/>
                  <a:pt x="15528" y="16532"/>
                  <a:pt x="15701" y="16495"/>
                </a:cubicBezTo>
                <a:cubicBezTo>
                  <a:pt x="15709" y="16495"/>
                  <a:pt x="15718" y="16495"/>
                  <a:pt x="15726" y="16495"/>
                </a:cubicBezTo>
                <a:cubicBezTo>
                  <a:pt x="15726" y="16574"/>
                  <a:pt x="15685" y="16694"/>
                  <a:pt x="15801" y="16694"/>
                </a:cubicBezTo>
                <a:cubicBezTo>
                  <a:pt x="15937" y="16694"/>
                  <a:pt x="15974" y="16636"/>
                  <a:pt x="16049" y="16545"/>
                </a:cubicBezTo>
                <a:cubicBezTo>
                  <a:pt x="15988" y="16475"/>
                  <a:pt x="15948" y="16446"/>
                  <a:pt x="15850" y="16446"/>
                </a:cubicBezTo>
              </a:path>
              <a:path w="1738" h="1390">
                <a:moveTo>
                  <a:pt x="14387" y="17661"/>
                </a:moveTo>
                <a:cubicBezTo>
                  <a:pt x="14360" y="17553"/>
                  <a:pt x="14367" y="17669"/>
                  <a:pt x="14362" y="17711"/>
                </a:cubicBezTo>
                <a:cubicBezTo>
                  <a:pt x="14385" y="17777"/>
                  <a:pt x="14434" y="17683"/>
                  <a:pt x="14387" y="17661"/>
                </a:cubicBezTo>
                <a:cubicBezTo>
                  <a:pt x="14362" y="17653"/>
                  <a:pt x="14337" y="17644"/>
                  <a:pt x="14312" y="17636"/>
                </a:cubicBezTo>
              </a:path>
              <a:path w="1738" h="1390">
                <a:moveTo>
                  <a:pt x="14387" y="17140"/>
                </a:moveTo>
                <a:cubicBezTo>
                  <a:pt x="14387" y="17105"/>
                  <a:pt x="14378" y="17092"/>
                  <a:pt x="14337" y="17090"/>
                </a:cubicBezTo>
                <a:cubicBezTo>
                  <a:pt x="14327" y="17150"/>
                  <a:pt x="14281" y="17205"/>
                  <a:pt x="14362" y="17214"/>
                </a:cubicBezTo>
                <a:cubicBezTo>
                  <a:pt x="14387" y="17214"/>
                  <a:pt x="14395" y="17214"/>
                  <a:pt x="14387" y="171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40360" y="5357880"/>
            <a:ext cx="589320" cy="714240"/>
          </a:xfrm>
          <a:custGeom>
            <a:avLst/>
            <a:gdLst/>
            <a:ahLst/>
            <a:rect l="l" t="t" r="r" b="b"/>
            <a:pathLst>
              <a:path w="1639" h="1985">
                <a:moveTo>
                  <a:pt x="19323" y="15081"/>
                </a:moveTo>
                <a:cubicBezTo>
                  <a:pt x="19352" y="15251"/>
                  <a:pt x="19385" y="15427"/>
                  <a:pt x="19397" y="15602"/>
                </a:cubicBezTo>
                <a:cubicBezTo>
                  <a:pt x="19408" y="15766"/>
                  <a:pt x="19384" y="15828"/>
                  <a:pt x="19472" y="15602"/>
                </a:cubicBezTo>
              </a:path>
              <a:path w="1639" h="1985">
                <a:moveTo>
                  <a:pt x="20117" y="14883"/>
                </a:moveTo>
                <a:cubicBezTo>
                  <a:pt x="20019" y="14936"/>
                  <a:pt x="19905" y="14985"/>
                  <a:pt x="19819" y="15056"/>
                </a:cubicBezTo>
                <a:cubicBezTo>
                  <a:pt x="19768" y="15098"/>
                  <a:pt x="19779" y="15236"/>
                  <a:pt x="19794" y="15280"/>
                </a:cubicBezTo>
                <a:cubicBezTo>
                  <a:pt x="19903" y="15222"/>
                  <a:pt x="20070" y="15022"/>
                  <a:pt x="20216" y="15131"/>
                </a:cubicBezTo>
                <a:cubicBezTo>
                  <a:pt x="20395" y="15264"/>
                  <a:pt x="20282" y="15569"/>
                  <a:pt x="20117" y="15652"/>
                </a:cubicBezTo>
                <a:cubicBezTo>
                  <a:pt x="20018" y="15672"/>
                  <a:pt x="20002" y="15680"/>
                  <a:pt x="19943" y="15677"/>
                </a:cubicBezTo>
              </a:path>
              <a:path w="1639" h="1985">
                <a:moveTo>
                  <a:pt x="19000" y="16098"/>
                </a:moveTo>
                <a:cubicBezTo>
                  <a:pt x="19466" y="16016"/>
                  <a:pt x="19923" y="15887"/>
                  <a:pt x="20389" y="15801"/>
                </a:cubicBezTo>
                <a:cubicBezTo>
                  <a:pt x="20786" y="15727"/>
                  <a:pt x="20495" y="15782"/>
                  <a:pt x="20588" y="15801"/>
                </a:cubicBezTo>
              </a:path>
              <a:path w="1639" h="1985">
                <a:moveTo>
                  <a:pt x="19769" y="16222"/>
                </a:moveTo>
                <a:cubicBezTo>
                  <a:pt x="19900" y="16222"/>
                  <a:pt x="19947" y="16226"/>
                  <a:pt x="20017" y="16297"/>
                </a:cubicBezTo>
                <a:cubicBezTo>
                  <a:pt x="20006" y="16596"/>
                  <a:pt x="19895" y="16777"/>
                  <a:pt x="19571" y="16867"/>
                </a:cubicBezTo>
                <a:cubicBezTo>
                  <a:pt x="19530" y="16867"/>
                  <a:pt x="19488" y="16867"/>
                  <a:pt x="19447" y="16867"/>
                </a:cubicBezTo>
                <a:cubicBezTo>
                  <a:pt x="19528" y="16675"/>
                  <a:pt x="19668" y="16505"/>
                  <a:pt x="19893" y="16669"/>
                </a:cubicBezTo>
                <a:cubicBezTo>
                  <a:pt x="20100" y="16820"/>
                  <a:pt x="19807" y="16887"/>
                  <a:pt x="20092" y="16793"/>
                </a:cubicBezTo>
              </a:path>
              <a:path w="1639" h="1985">
                <a:moveTo>
                  <a:pt x="20340" y="16173"/>
                </a:moveTo>
                <a:cubicBezTo>
                  <a:pt x="20209" y="16416"/>
                  <a:pt x="20147" y="16543"/>
                  <a:pt x="20265" y="16793"/>
                </a:cubicBezTo>
                <a:cubicBezTo>
                  <a:pt x="20492" y="16750"/>
                  <a:pt x="20698" y="16635"/>
                  <a:pt x="20638" y="16346"/>
                </a:cubicBezTo>
                <a:cubicBezTo>
                  <a:pt x="20604" y="16184"/>
                  <a:pt x="20436" y="16147"/>
                  <a:pt x="20315" y="161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16000" y="5956200"/>
            <a:ext cx="3019320" cy="482760"/>
          </a:xfrm>
          <a:custGeom>
            <a:avLst/>
            <a:gdLst/>
            <a:ahLst/>
            <a:rect l="l" t="t" r="r" b="b"/>
            <a:pathLst>
              <a:path w="8385" h="1340">
                <a:moveTo>
                  <a:pt x="3770" y="16545"/>
                </a:moveTo>
                <a:cubicBezTo>
                  <a:pt x="3857" y="16571"/>
                  <a:pt x="3943" y="16560"/>
                  <a:pt x="4043" y="16570"/>
                </a:cubicBezTo>
                <a:cubicBezTo>
                  <a:pt x="4237" y="16589"/>
                  <a:pt x="4442" y="16634"/>
                  <a:pt x="4638" y="16619"/>
                </a:cubicBezTo>
                <a:cubicBezTo>
                  <a:pt x="4785" y="16607"/>
                  <a:pt x="4891" y="16604"/>
                  <a:pt x="5035" y="16619"/>
                </a:cubicBezTo>
                <a:cubicBezTo>
                  <a:pt x="5131" y="16629"/>
                  <a:pt x="5287" y="16609"/>
                  <a:pt x="5383" y="16594"/>
                </a:cubicBezTo>
                <a:cubicBezTo>
                  <a:pt x="5442" y="16585"/>
                  <a:pt x="5523" y="16584"/>
                  <a:pt x="5581" y="16570"/>
                </a:cubicBezTo>
                <a:cubicBezTo>
                  <a:pt x="5624" y="16560"/>
                  <a:pt x="5681" y="16526"/>
                  <a:pt x="5730" y="16545"/>
                </a:cubicBezTo>
                <a:cubicBezTo>
                  <a:pt x="5779" y="16564"/>
                  <a:pt x="5744" y="16545"/>
                  <a:pt x="5755" y="16545"/>
                </a:cubicBezTo>
              </a:path>
              <a:path w="8385" h="1340">
                <a:moveTo>
                  <a:pt x="3746" y="17041"/>
                </a:moveTo>
                <a:cubicBezTo>
                  <a:pt x="3746" y="17006"/>
                  <a:pt x="3766" y="17437"/>
                  <a:pt x="3770" y="17487"/>
                </a:cubicBezTo>
                <a:cubicBezTo>
                  <a:pt x="3779" y="17587"/>
                  <a:pt x="3795" y="17635"/>
                  <a:pt x="3795" y="17735"/>
                </a:cubicBezTo>
              </a:path>
              <a:path w="8385" h="1340">
                <a:moveTo>
                  <a:pt x="3101" y="17140"/>
                </a:moveTo>
                <a:cubicBezTo>
                  <a:pt x="3311" y="17031"/>
                  <a:pt x="3633" y="16855"/>
                  <a:pt x="3870" y="17016"/>
                </a:cubicBezTo>
                <a:cubicBezTo>
                  <a:pt x="4094" y="17168"/>
                  <a:pt x="4015" y="17507"/>
                  <a:pt x="3795" y="17611"/>
                </a:cubicBezTo>
                <a:cubicBezTo>
                  <a:pt x="3762" y="17611"/>
                  <a:pt x="3729" y="17611"/>
                  <a:pt x="3696" y="17611"/>
                </a:cubicBezTo>
                <a:cubicBezTo>
                  <a:pt x="3717" y="17465"/>
                  <a:pt x="3846" y="17516"/>
                  <a:pt x="3944" y="17587"/>
                </a:cubicBezTo>
                <a:cubicBezTo>
                  <a:pt x="4040" y="17656"/>
                  <a:pt x="4077" y="17738"/>
                  <a:pt x="4118" y="17835"/>
                </a:cubicBezTo>
              </a:path>
              <a:path w="8385" h="1340">
                <a:moveTo>
                  <a:pt x="4564" y="17537"/>
                </a:moveTo>
                <a:cubicBezTo>
                  <a:pt x="4534" y="17446"/>
                  <a:pt x="4463" y="17353"/>
                  <a:pt x="4341" y="17388"/>
                </a:cubicBezTo>
                <a:cubicBezTo>
                  <a:pt x="4183" y="17433"/>
                  <a:pt x="4110" y="17717"/>
                  <a:pt x="4316" y="17760"/>
                </a:cubicBezTo>
                <a:cubicBezTo>
                  <a:pt x="4513" y="17801"/>
                  <a:pt x="4571" y="17588"/>
                  <a:pt x="4539" y="17462"/>
                </a:cubicBezTo>
                <a:cubicBezTo>
                  <a:pt x="4558" y="17555"/>
                  <a:pt x="4637" y="17606"/>
                  <a:pt x="4688" y="17686"/>
                </a:cubicBezTo>
                <a:cubicBezTo>
                  <a:pt x="4749" y="17782"/>
                  <a:pt x="4731" y="17731"/>
                  <a:pt x="4787" y="17611"/>
                </a:cubicBezTo>
              </a:path>
              <a:path w="8385" h="1340">
                <a:moveTo>
                  <a:pt x="4787" y="16892"/>
                </a:moveTo>
                <a:cubicBezTo>
                  <a:pt x="4836" y="17150"/>
                  <a:pt x="4888" y="17404"/>
                  <a:pt x="4936" y="17661"/>
                </a:cubicBezTo>
                <a:cubicBezTo>
                  <a:pt x="4936" y="17686"/>
                  <a:pt x="4936" y="17694"/>
                  <a:pt x="4936" y="17661"/>
                </a:cubicBezTo>
              </a:path>
              <a:path w="8385" h="1340">
                <a:moveTo>
                  <a:pt x="4490" y="17314"/>
                </a:moveTo>
                <a:cubicBezTo>
                  <a:pt x="4686" y="17292"/>
                  <a:pt x="4871" y="17280"/>
                  <a:pt x="5060" y="17314"/>
                </a:cubicBezTo>
                <a:cubicBezTo>
                  <a:pt x="5117" y="17324"/>
                  <a:pt x="5101" y="17305"/>
                  <a:pt x="5110" y="17363"/>
                </a:cubicBezTo>
                <a:cubicBezTo>
                  <a:pt x="5131" y="17504"/>
                  <a:pt x="5119" y="17619"/>
                  <a:pt x="5110" y="17760"/>
                </a:cubicBezTo>
              </a:path>
              <a:path w="8385" h="1340">
                <a:moveTo>
                  <a:pt x="5110" y="17115"/>
                </a:moveTo>
                <a:cubicBezTo>
                  <a:pt x="5110" y="17123"/>
                  <a:pt x="5110" y="17132"/>
                  <a:pt x="5110" y="17140"/>
                </a:cubicBezTo>
              </a:path>
              <a:path w="8385" h="1340">
                <a:moveTo>
                  <a:pt x="5531" y="17314"/>
                </a:moveTo>
                <a:cubicBezTo>
                  <a:pt x="5517" y="17269"/>
                  <a:pt x="5459" y="17281"/>
                  <a:pt x="5432" y="17338"/>
                </a:cubicBezTo>
                <a:cubicBezTo>
                  <a:pt x="5367" y="17476"/>
                  <a:pt x="5306" y="17808"/>
                  <a:pt x="5556" y="17760"/>
                </a:cubicBezTo>
                <a:cubicBezTo>
                  <a:pt x="5800" y="17713"/>
                  <a:pt x="5889" y="17480"/>
                  <a:pt x="5680" y="17338"/>
                </a:cubicBezTo>
                <a:cubicBezTo>
                  <a:pt x="5623" y="17319"/>
                  <a:pt x="5616" y="17311"/>
                  <a:pt x="5581" y="17314"/>
                </a:cubicBezTo>
              </a:path>
              <a:path w="8385" h="1340">
                <a:moveTo>
                  <a:pt x="6152" y="16966"/>
                </a:moveTo>
                <a:cubicBezTo>
                  <a:pt x="6152" y="16974"/>
                  <a:pt x="6152" y="16983"/>
                  <a:pt x="6152" y="16991"/>
                </a:cubicBezTo>
              </a:path>
              <a:path w="8385" h="1340">
                <a:moveTo>
                  <a:pt x="6152" y="17388"/>
                </a:moveTo>
                <a:lnTo>
                  <a:pt x="6152" y="17388"/>
                </a:lnTo>
              </a:path>
              <a:path w="8385" h="1340">
                <a:moveTo>
                  <a:pt x="6846" y="17314"/>
                </a:moveTo>
                <a:cubicBezTo>
                  <a:pt x="6854" y="17442"/>
                  <a:pt x="6906" y="17592"/>
                  <a:pt x="6846" y="17711"/>
                </a:cubicBezTo>
                <a:cubicBezTo>
                  <a:pt x="6846" y="17703"/>
                  <a:pt x="6846" y="17694"/>
                  <a:pt x="6846" y="17686"/>
                </a:cubicBezTo>
                <a:cubicBezTo>
                  <a:pt x="6812" y="17551"/>
                  <a:pt x="6713" y="17311"/>
                  <a:pt x="6821" y="17190"/>
                </a:cubicBezTo>
                <a:cubicBezTo>
                  <a:pt x="6914" y="17086"/>
                  <a:pt x="7080" y="17117"/>
                  <a:pt x="7193" y="17140"/>
                </a:cubicBezTo>
              </a:path>
              <a:path w="8385" h="1340">
                <a:moveTo>
                  <a:pt x="7293" y="17314"/>
                </a:moveTo>
                <a:cubicBezTo>
                  <a:pt x="7367" y="17314"/>
                  <a:pt x="7442" y="17314"/>
                  <a:pt x="7516" y="17314"/>
                </a:cubicBezTo>
                <a:cubicBezTo>
                  <a:pt x="7476" y="17247"/>
                  <a:pt x="7359" y="17168"/>
                  <a:pt x="7268" y="17239"/>
                </a:cubicBezTo>
                <a:cubicBezTo>
                  <a:pt x="7150" y="17330"/>
                  <a:pt x="7041" y="17696"/>
                  <a:pt x="7293" y="17711"/>
                </a:cubicBezTo>
                <a:cubicBezTo>
                  <a:pt x="7500" y="17723"/>
                  <a:pt x="7604" y="17567"/>
                  <a:pt x="7714" y="17438"/>
                </a:cubicBezTo>
              </a:path>
              <a:path w="8385" h="1340">
                <a:moveTo>
                  <a:pt x="7665" y="16818"/>
                </a:moveTo>
                <a:cubicBezTo>
                  <a:pt x="7680" y="17059"/>
                  <a:pt x="7709" y="17296"/>
                  <a:pt x="7714" y="17537"/>
                </a:cubicBezTo>
                <a:cubicBezTo>
                  <a:pt x="7714" y="17570"/>
                  <a:pt x="7714" y="17603"/>
                  <a:pt x="7714" y="17636"/>
                </a:cubicBezTo>
              </a:path>
              <a:path w="8385" h="1340">
                <a:moveTo>
                  <a:pt x="8111" y="17388"/>
                </a:moveTo>
                <a:cubicBezTo>
                  <a:pt x="8100" y="17297"/>
                  <a:pt x="8003" y="17172"/>
                  <a:pt x="7888" y="17239"/>
                </a:cubicBezTo>
                <a:cubicBezTo>
                  <a:pt x="7683" y="17357"/>
                  <a:pt x="7784" y="17549"/>
                  <a:pt x="7888" y="17661"/>
                </a:cubicBezTo>
                <a:cubicBezTo>
                  <a:pt x="8056" y="17563"/>
                  <a:pt x="8111" y="17547"/>
                  <a:pt x="8111" y="17338"/>
                </a:cubicBezTo>
                <a:cubicBezTo>
                  <a:pt x="8120" y="17421"/>
                  <a:pt x="8158" y="17596"/>
                  <a:pt x="8235" y="17636"/>
                </a:cubicBezTo>
                <a:cubicBezTo>
                  <a:pt x="8319" y="17636"/>
                  <a:pt x="8346" y="17627"/>
                  <a:pt x="8334" y="17537"/>
                </a:cubicBezTo>
              </a:path>
              <a:path w="8385" h="1340">
                <a:moveTo>
                  <a:pt x="8384" y="16966"/>
                </a:moveTo>
                <a:cubicBezTo>
                  <a:pt x="8389" y="16992"/>
                  <a:pt x="8497" y="17643"/>
                  <a:pt x="8533" y="17636"/>
                </a:cubicBezTo>
                <a:cubicBezTo>
                  <a:pt x="8533" y="17620"/>
                  <a:pt x="8533" y="17603"/>
                  <a:pt x="8533" y="17587"/>
                </a:cubicBezTo>
              </a:path>
              <a:path w="8385" h="1340">
                <a:moveTo>
                  <a:pt x="8111" y="17239"/>
                </a:moveTo>
                <a:cubicBezTo>
                  <a:pt x="8303" y="17230"/>
                  <a:pt x="8609" y="17139"/>
                  <a:pt x="8781" y="17264"/>
                </a:cubicBezTo>
                <a:cubicBezTo>
                  <a:pt x="8860" y="17321"/>
                  <a:pt x="8859" y="17503"/>
                  <a:pt x="8880" y="17587"/>
                </a:cubicBezTo>
                <a:cubicBezTo>
                  <a:pt x="8880" y="17579"/>
                  <a:pt x="8880" y="17570"/>
                  <a:pt x="8880" y="17562"/>
                </a:cubicBezTo>
              </a:path>
              <a:path w="8385" h="1340">
                <a:moveTo>
                  <a:pt x="8756" y="17066"/>
                </a:moveTo>
                <a:lnTo>
                  <a:pt x="8756" y="17066"/>
                </a:lnTo>
                <a:lnTo>
                  <a:pt x="8756" y="17066"/>
                </a:lnTo>
              </a:path>
              <a:path w="8385" h="1340">
                <a:moveTo>
                  <a:pt x="8756" y="17066"/>
                </a:moveTo>
                <a:lnTo>
                  <a:pt x="8756" y="17066"/>
                </a:lnTo>
              </a:path>
              <a:path w="8385" h="1340">
                <a:moveTo>
                  <a:pt x="9153" y="17214"/>
                </a:moveTo>
                <a:cubicBezTo>
                  <a:pt x="8964" y="17319"/>
                  <a:pt x="8950" y="17337"/>
                  <a:pt x="8880" y="17537"/>
                </a:cubicBezTo>
                <a:cubicBezTo>
                  <a:pt x="9022" y="17611"/>
                  <a:pt x="9372" y="17733"/>
                  <a:pt x="9351" y="17413"/>
                </a:cubicBezTo>
                <a:cubicBezTo>
                  <a:pt x="9341" y="17258"/>
                  <a:pt x="9184" y="17269"/>
                  <a:pt x="9079" y="17239"/>
                </a:cubicBezTo>
              </a:path>
              <a:path w="8385" h="1340">
                <a:moveTo>
                  <a:pt x="9475" y="17462"/>
                </a:moveTo>
                <a:cubicBezTo>
                  <a:pt x="9494" y="17537"/>
                  <a:pt x="9502" y="17544"/>
                  <a:pt x="9500" y="17587"/>
                </a:cubicBezTo>
                <a:cubicBezTo>
                  <a:pt x="9500" y="17461"/>
                  <a:pt x="9478" y="17320"/>
                  <a:pt x="9599" y="17239"/>
                </a:cubicBezTo>
                <a:cubicBezTo>
                  <a:pt x="9777" y="17121"/>
                  <a:pt x="9836" y="17427"/>
                  <a:pt x="9823" y="17537"/>
                </a:cubicBezTo>
                <a:cubicBezTo>
                  <a:pt x="9789" y="17571"/>
                  <a:pt x="9780" y="17566"/>
                  <a:pt x="9798" y="17487"/>
                </a:cubicBezTo>
              </a:path>
              <a:path w="8385" h="1340">
                <a:moveTo>
                  <a:pt x="10096" y="17140"/>
                </a:moveTo>
                <a:cubicBezTo>
                  <a:pt x="9985" y="17184"/>
                  <a:pt x="9952" y="17188"/>
                  <a:pt x="9922" y="17264"/>
                </a:cubicBezTo>
                <a:cubicBezTo>
                  <a:pt x="10122" y="17304"/>
                  <a:pt x="10226" y="17354"/>
                  <a:pt x="10368" y="17487"/>
                </a:cubicBezTo>
                <a:cubicBezTo>
                  <a:pt x="10152" y="17633"/>
                  <a:pt x="10066" y="17593"/>
                  <a:pt x="9897" y="17413"/>
                </a:cubicBezTo>
              </a:path>
              <a:path w="8385" h="1340">
                <a:moveTo>
                  <a:pt x="10393" y="16991"/>
                </a:moveTo>
                <a:cubicBezTo>
                  <a:pt x="10404" y="17208"/>
                  <a:pt x="10441" y="17398"/>
                  <a:pt x="10468" y="17611"/>
                </a:cubicBezTo>
                <a:cubicBezTo>
                  <a:pt x="10468" y="17469"/>
                  <a:pt x="10474" y="17371"/>
                  <a:pt x="10517" y="17239"/>
                </a:cubicBezTo>
                <a:cubicBezTo>
                  <a:pt x="10728" y="17225"/>
                  <a:pt x="10762" y="17276"/>
                  <a:pt x="10840" y="17462"/>
                </a:cubicBezTo>
                <a:cubicBezTo>
                  <a:pt x="10863" y="17510"/>
                  <a:pt x="10871" y="17529"/>
                  <a:pt x="10864" y="17462"/>
                </a:cubicBezTo>
              </a:path>
              <a:path w="8385" h="1340">
                <a:moveTo>
                  <a:pt x="10914" y="17264"/>
                </a:moveTo>
                <a:cubicBezTo>
                  <a:pt x="10916" y="17293"/>
                  <a:pt x="11010" y="17586"/>
                  <a:pt x="11038" y="17537"/>
                </a:cubicBezTo>
                <a:cubicBezTo>
                  <a:pt x="11046" y="17496"/>
                  <a:pt x="11055" y="17454"/>
                  <a:pt x="11063" y="17413"/>
                </a:cubicBezTo>
              </a:path>
              <a:path w="8385" h="1340">
                <a:moveTo>
                  <a:pt x="10815" y="16966"/>
                </a:moveTo>
                <a:lnTo>
                  <a:pt x="10815" y="16966"/>
                </a:lnTo>
                <a:lnTo>
                  <a:pt x="10815" y="16966"/>
                </a:lnTo>
              </a:path>
              <a:path w="8385" h="1340">
                <a:moveTo>
                  <a:pt x="10815" y="16966"/>
                </a:moveTo>
                <a:lnTo>
                  <a:pt x="10815" y="16966"/>
                </a:lnTo>
              </a:path>
              <a:path w="8385" h="1340">
                <a:moveTo>
                  <a:pt x="11137" y="17512"/>
                </a:moveTo>
                <a:cubicBezTo>
                  <a:pt x="11150" y="17588"/>
                  <a:pt x="11187" y="17871"/>
                  <a:pt x="11187" y="17859"/>
                </a:cubicBezTo>
                <a:cubicBezTo>
                  <a:pt x="11187" y="17851"/>
                  <a:pt x="11187" y="17843"/>
                  <a:pt x="11187" y="17835"/>
                </a:cubicBezTo>
                <a:cubicBezTo>
                  <a:pt x="11122" y="17560"/>
                  <a:pt x="11085" y="17391"/>
                  <a:pt x="11212" y="17140"/>
                </a:cubicBezTo>
                <a:cubicBezTo>
                  <a:pt x="11349" y="17195"/>
                  <a:pt x="11689" y="17399"/>
                  <a:pt x="11410" y="17587"/>
                </a:cubicBezTo>
                <a:cubicBezTo>
                  <a:pt x="11276" y="17678"/>
                  <a:pt x="11170" y="17562"/>
                  <a:pt x="11088" y="17487"/>
                </a:cubicBezTo>
              </a:path>
              <a:path w="8385" h="1340">
                <a:moveTo>
                  <a:pt x="10964" y="17239"/>
                </a:moveTo>
                <a:cubicBezTo>
                  <a:pt x="10964" y="17280"/>
                  <a:pt x="10964" y="17322"/>
                  <a:pt x="10964" y="173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45000" y="6045120"/>
            <a:ext cx="1295280" cy="357120"/>
          </a:xfrm>
          <a:custGeom>
            <a:avLst/>
            <a:gdLst/>
            <a:ahLst/>
            <a:rect l="l" t="t" r="r" b="b"/>
            <a:pathLst>
              <a:path w="3597" h="993">
                <a:moveTo>
                  <a:pt x="14288" y="17165"/>
                </a:moveTo>
                <a:cubicBezTo>
                  <a:pt x="14288" y="17157"/>
                  <a:pt x="14288" y="17148"/>
                  <a:pt x="14288" y="17140"/>
                </a:cubicBezTo>
                <a:cubicBezTo>
                  <a:pt x="14270" y="17214"/>
                  <a:pt x="14224" y="17206"/>
                  <a:pt x="14337" y="17214"/>
                </a:cubicBezTo>
                <a:cubicBezTo>
                  <a:pt x="14436" y="17221"/>
                  <a:pt x="14287" y="17121"/>
                  <a:pt x="14263" y="17115"/>
                </a:cubicBezTo>
                <a:cubicBezTo>
                  <a:pt x="14221" y="17115"/>
                  <a:pt x="14213" y="17132"/>
                  <a:pt x="14238" y="17190"/>
                </a:cubicBezTo>
              </a:path>
              <a:path w="3597" h="993">
                <a:moveTo>
                  <a:pt x="14436" y="17537"/>
                </a:moveTo>
                <a:cubicBezTo>
                  <a:pt x="14411" y="17555"/>
                  <a:pt x="14296" y="17651"/>
                  <a:pt x="14387" y="17661"/>
                </a:cubicBezTo>
                <a:cubicBezTo>
                  <a:pt x="14453" y="17661"/>
                  <a:pt x="14478" y="17669"/>
                  <a:pt x="14461" y="17611"/>
                </a:cubicBezTo>
                <a:cubicBezTo>
                  <a:pt x="14429" y="17602"/>
                  <a:pt x="14330" y="17608"/>
                  <a:pt x="14387" y="17636"/>
                </a:cubicBezTo>
              </a:path>
              <a:path w="3597" h="993">
                <a:moveTo>
                  <a:pt x="14833" y="17587"/>
                </a:moveTo>
                <a:cubicBezTo>
                  <a:pt x="14763" y="17587"/>
                  <a:pt x="14927" y="17611"/>
                  <a:pt x="14932" y="17611"/>
                </a:cubicBezTo>
                <a:cubicBezTo>
                  <a:pt x="15243" y="17619"/>
                  <a:pt x="15565" y="17588"/>
                  <a:pt x="15875" y="17562"/>
                </a:cubicBezTo>
                <a:cubicBezTo>
                  <a:pt x="16012" y="17551"/>
                  <a:pt x="16115" y="17508"/>
                  <a:pt x="16222" y="17562"/>
                </a:cubicBezTo>
              </a:path>
              <a:path w="3597" h="993">
                <a:moveTo>
                  <a:pt x="12923" y="17735"/>
                </a:moveTo>
                <a:cubicBezTo>
                  <a:pt x="12854" y="17735"/>
                  <a:pt x="13054" y="17735"/>
                  <a:pt x="13072" y="17735"/>
                </a:cubicBezTo>
                <a:cubicBezTo>
                  <a:pt x="13353" y="17735"/>
                  <a:pt x="14147" y="17735"/>
                  <a:pt x="13866" y="17735"/>
                </a:cubicBezTo>
                <a:cubicBezTo>
                  <a:pt x="13849" y="17735"/>
                  <a:pt x="13833" y="17735"/>
                  <a:pt x="13816" y="17735"/>
                </a:cubicBezTo>
                <a:cubicBezTo>
                  <a:pt x="13625" y="17762"/>
                  <a:pt x="13440" y="17760"/>
                  <a:pt x="13246" y="17760"/>
                </a:cubicBezTo>
                <a:cubicBezTo>
                  <a:pt x="13129" y="17760"/>
                  <a:pt x="13031" y="17774"/>
                  <a:pt x="12923" y="17785"/>
                </a:cubicBezTo>
                <a:cubicBezTo>
                  <a:pt x="12891" y="17788"/>
                  <a:pt x="12856" y="17785"/>
                  <a:pt x="12824" y="17785"/>
                </a:cubicBezTo>
                <a:cubicBezTo>
                  <a:pt x="12979" y="17785"/>
                  <a:pt x="13118" y="17729"/>
                  <a:pt x="13271" y="17711"/>
                </a:cubicBezTo>
                <a:cubicBezTo>
                  <a:pt x="13322" y="17705"/>
                  <a:pt x="13389" y="17711"/>
                  <a:pt x="13444" y="17711"/>
                </a:cubicBezTo>
              </a:path>
              <a:path w="3597" h="993">
                <a:moveTo>
                  <a:pt x="14784" y="17735"/>
                </a:moveTo>
                <a:cubicBezTo>
                  <a:pt x="14894" y="17735"/>
                  <a:pt x="14998" y="17717"/>
                  <a:pt x="15106" y="17711"/>
                </a:cubicBezTo>
                <a:cubicBezTo>
                  <a:pt x="15388" y="17696"/>
                  <a:pt x="15669" y="17709"/>
                  <a:pt x="15949" y="17686"/>
                </a:cubicBezTo>
                <a:cubicBezTo>
                  <a:pt x="15961" y="17685"/>
                  <a:pt x="16116" y="17699"/>
                  <a:pt x="16024" y="17711"/>
                </a:cubicBezTo>
                <a:cubicBezTo>
                  <a:pt x="16016" y="17711"/>
                  <a:pt x="16007" y="17711"/>
                  <a:pt x="15999" y="17711"/>
                </a:cubicBezTo>
              </a:path>
              <a:path w="3597" h="993">
                <a:moveTo>
                  <a:pt x="15007" y="16966"/>
                </a:moveTo>
                <a:cubicBezTo>
                  <a:pt x="15007" y="17007"/>
                  <a:pt x="15007" y="17049"/>
                  <a:pt x="15007" y="17090"/>
                </a:cubicBezTo>
                <a:cubicBezTo>
                  <a:pt x="15030" y="16977"/>
                  <a:pt x="15154" y="16915"/>
                  <a:pt x="15255" y="17016"/>
                </a:cubicBezTo>
                <a:cubicBezTo>
                  <a:pt x="15481" y="17243"/>
                  <a:pt x="15233" y="17572"/>
                  <a:pt x="15007" y="17661"/>
                </a:cubicBezTo>
                <a:cubicBezTo>
                  <a:pt x="14865" y="17681"/>
                  <a:pt x="14838" y="17700"/>
                  <a:pt x="14759" y="17661"/>
                </a:cubicBezTo>
                <a:cubicBezTo>
                  <a:pt x="14812" y="17493"/>
                  <a:pt x="14947" y="17374"/>
                  <a:pt x="15156" y="17487"/>
                </a:cubicBezTo>
                <a:cubicBezTo>
                  <a:pt x="15233" y="17528"/>
                  <a:pt x="15272" y="17667"/>
                  <a:pt x="15329" y="17686"/>
                </a:cubicBezTo>
              </a:path>
              <a:path w="3597" h="993">
                <a:moveTo>
                  <a:pt x="15776" y="16942"/>
                </a:moveTo>
                <a:cubicBezTo>
                  <a:pt x="15734" y="16942"/>
                  <a:pt x="15610" y="16926"/>
                  <a:pt x="15577" y="16966"/>
                </a:cubicBezTo>
                <a:cubicBezTo>
                  <a:pt x="15492" y="17069"/>
                  <a:pt x="15474" y="17293"/>
                  <a:pt x="15528" y="17413"/>
                </a:cubicBezTo>
                <a:cubicBezTo>
                  <a:pt x="15553" y="17446"/>
                  <a:pt x="15577" y="17479"/>
                  <a:pt x="15602" y="17512"/>
                </a:cubicBezTo>
                <a:cubicBezTo>
                  <a:pt x="15782" y="17488"/>
                  <a:pt x="16093" y="17433"/>
                  <a:pt x="16049" y="17165"/>
                </a:cubicBezTo>
                <a:cubicBezTo>
                  <a:pt x="16022" y="16999"/>
                  <a:pt x="15801" y="16958"/>
                  <a:pt x="15677" y="16991"/>
                </a:cubicBezTo>
                <a:cubicBezTo>
                  <a:pt x="15660" y="16999"/>
                  <a:pt x="15644" y="17008"/>
                  <a:pt x="15627" y="17016"/>
                </a:cubicBezTo>
              </a:path>
              <a:path w="3597" h="993">
                <a:moveTo>
                  <a:pt x="14982" y="17537"/>
                </a:moveTo>
                <a:cubicBezTo>
                  <a:pt x="15067" y="17509"/>
                  <a:pt x="15215" y="17481"/>
                  <a:pt x="15304" y="17487"/>
                </a:cubicBezTo>
                <a:cubicBezTo>
                  <a:pt x="15390" y="17493"/>
                  <a:pt x="15462" y="17537"/>
                  <a:pt x="15553" y="17537"/>
                </a:cubicBezTo>
              </a:path>
              <a:path w="3597" h="993">
                <a:moveTo>
                  <a:pt x="12626" y="17140"/>
                </a:moveTo>
                <a:cubicBezTo>
                  <a:pt x="12637" y="17104"/>
                  <a:pt x="12654" y="17072"/>
                  <a:pt x="12675" y="17016"/>
                </a:cubicBezTo>
                <a:cubicBezTo>
                  <a:pt x="12707" y="17207"/>
                  <a:pt x="12737" y="17398"/>
                  <a:pt x="12774" y="17587"/>
                </a:cubicBezTo>
                <a:cubicBezTo>
                  <a:pt x="12786" y="17646"/>
                  <a:pt x="12803" y="17592"/>
                  <a:pt x="12824" y="17562"/>
                </a:cubicBezTo>
              </a:path>
              <a:path w="3597" h="993">
                <a:moveTo>
                  <a:pt x="13419" y="16793"/>
                </a:moveTo>
                <a:cubicBezTo>
                  <a:pt x="13354" y="16830"/>
                  <a:pt x="13185" y="16870"/>
                  <a:pt x="13146" y="16917"/>
                </a:cubicBezTo>
                <a:cubicBezTo>
                  <a:pt x="13096" y="16977"/>
                  <a:pt x="13094" y="17107"/>
                  <a:pt x="13072" y="17190"/>
                </a:cubicBezTo>
                <a:cubicBezTo>
                  <a:pt x="13178" y="17190"/>
                  <a:pt x="13189" y="17093"/>
                  <a:pt x="13320" y="17090"/>
                </a:cubicBezTo>
                <a:cubicBezTo>
                  <a:pt x="13499" y="17085"/>
                  <a:pt x="13588" y="17277"/>
                  <a:pt x="13494" y="17413"/>
                </a:cubicBezTo>
                <a:cubicBezTo>
                  <a:pt x="13376" y="17584"/>
                  <a:pt x="13193" y="17533"/>
                  <a:pt x="13097" y="174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identify the probability of an event as a decimal, fraction, percent and ratio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ty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bability of an event is the measure of the likelihood that the event will occu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911840" y="4027320"/>
            <a:ext cx="1357200" cy="490680"/>
          </a:xfrm>
          <a:custGeom>
            <a:avLst/>
            <a:gdLst/>
            <a:ahLst/>
            <a:rect l="l" t="t" r="r" b="b"/>
            <a:pathLst>
              <a:path w="3771" h="1365">
                <a:moveTo>
                  <a:pt x="15726" y="12204"/>
                </a:moveTo>
                <a:cubicBezTo>
                  <a:pt x="15560" y="12307"/>
                  <a:pt x="15513" y="12371"/>
                  <a:pt x="15577" y="12551"/>
                </a:cubicBezTo>
                <a:cubicBezTo>
                  <a:pt x="15826" y="12499"/>
                  <a:pt x="15846" y="12433"/>
                  <a:pt x="15701" y="12229"/>
                </a:cubicBezTo>
              </a:path>
              <a:path w="3771" h="1365">
                <a:moveTo>
                  <a:pt x="16123" y="12328"/>
                </a:moveTo>
                <a:cubicBezTo>
                  <a:pt x="16123" y="12276"/>
                  <a:pt x="16161" y="12133"/>
                  <a:pt x="16297" y="12055"/>
                </a:cubicBezTo>
                <a:cubicBezTo>
                  <a:pt x="16330" y="12047"/>
                  <a:pt x="16363" y="12038"/>
                  <a:pt x="16396" y="12030"/>
                </a:cubicBezTo>
              </a:path>
              <a:path w="3771" h="1365">
                <a:moveTo>
                  <a:pt x="14238" y="11485"/>
                </a:moveTo>
                <a:cubicBezTo>
                  <a:pt x="14120" y="11302"/>
                  <a:pt x="14053" y="11211"/>
                  <a:pt x="13841" y="11212"/>
                </a:cubicBezTo>
                <a:cubicBezTo>
                  <a:pt x="13834" y="11496"/>
                  <a:pt x="14006" y="11969"/>
                  <a:pt x="13915" y="12229"/>
                </a:cubicBezTo>
                <a:cubicBezTo>
                  <a:pt x="13815" y="12263"/>
                  <a:pt x="13774" y="12250"/>
                  <a:pt x="13742" y="12129"/>
                </a:cubicBezTo>
              </a:path>
              <a:path w="3771" h="1365">
                <a:moveTo>
                  <a:pt x="13643" y="11906"/>
                </a:moveTo>
                <a:cubicBezTo>
                  <a:pt x="13833" y="11862"/>
                  <a:pt x="14022" y="11820"/>
                  <a:pt x="14213" y="11782"/>
                </a:cubicBezTo>
                <a:cubicBezTo>
                  <a:pt x="14180" y="11843"/>
                  <a:pt x="13987" y="12143"/>
                  <a:pt x="14114" y="12204"/>
                </a:cubicBezTo>
                <a:cubicBezTo>
                  <a:pt x="14257" y="12272"/>
                  <a:pt x="14327" y="12051"/>
                  <a:pt x="14362" y="11981"/>
                </a:cubicBezTo>
                <a:cubicBezTo>
                  <a:pt x="14354" y="11956"/>
                  <a:pt x="14345" y="11931"/>
                  <a:pt x="14337" y="11906"/>
                </a:cubicBezTo>
                <a:cubicBezTo>
                  <a:pt x="14346" y="11974"/>
                  <a:pt x="14377" y="12218"/>
                  <a:pt x="14511" y="12179"/>
                </a:cubicBezTo>
                <a:cubicBezTo>
                  <a:pt x="14536" y="12154"/>
                  <a:pt x="14560" y="12130"/>
                  <a:pt x="14585" y="12105"/>
                </a:cubicBezTo>
              </a:path>
              <a:path w="3771" h="1365">
                <a:moveTo>
                  <a:pt x="14560" y="11782"/>
                </a:moveTo>
                <a:cubicBezTo>
                  <a:pt x="14592" y="11899"/>
                  <a:pt x="14658" y="12004"/>
                  <a:pt x="14734" y="12105"/>
                </a:cubicBezTo>
                <a:cubicBezTo>
                  <a:pt x="14746" y="12007"/>
                  <a:pt x="14746" y="11788"/>
                  <a:pt x="14808" y="11708"/>
                </a:cubicBezTo>
                <a:cubicBezTo>
                  <a:pt x="14825" y="11708"/>
                  <a:pt x="14841" y="11708"/>
                  <a:pt x="14858" y="11708"/>
                </a:cubicBezTo>
              </a:path>
              <a:path w="3771" h="1365">
                <a:moveTo>
                  <a:pt x="15106" y="11708"/>
                </a:moveTo>
                <a:cubicBezTo>
                  <a:pt x="14982" y="11853"/>
                  <a:pt x="14984" y="11908"/>
                  <a:pt x="15032" y="12080"/>
                </a:cubicBezTo>
                <a:cubicBezTo>
                  <a:pt x="15230" y="12042"/>
                  <a:pt x="15316" y="11931"/>
                  <a:pt x="15230" y="11708"/>
                </a:cubicBezTo>
                <a:cubicBezTo>
                  <a:pt x="15205" y="11675"/>
                  <a:pt x="15181" y="11642"/>
                  <a:pt x="15156" y="11609"/>
                </a:cubicBezTo>
              </a:path>
              <a:path w="3771" h="1365">
                <a:moveTo>
                  <a:pt x="15478" y="11857"/>
                </a:moveTo>
                <a:cubicBezTo>
                  <a:pt x="15478" y="11890"/>
                  <a:pt x="15478" y="11923"/>
                  <a:pt x="15478" y="11956"/>
                </a:cubicBezTo>
                <a:cubicBezTo>
                  <a:pt x="15478" y="11790"/>
                  <a:pt x="15554" y="11723"/>
                  <a:pt x="15627" y="11584"/>
                </a:cubicBezTo>
                <a:cubicBezTo>
                  <a:pt x="15627" y="11576"/>
                  <a:pt x="15627" y="11567"/>
                  <a:pt x="15627" y="11559"/>
                </a:cubicBezTo>
              </a:path>
              <a:path w="3771" h="1365">
                <a:moveTo>
                  <a:pt x="15925" y="11658"/>
                </a:moveTo>
                <a:cubicBezTo>
                  <a:pt x="15949" y="11658"/>
                  <a:pt x="15957" y="11658"/>
                  <a:pt x="15949" y="11633"/>
                </a:cubicBezTo>
                <a:cubicBezTo>
                  <a:pt x="15999" y="11386"/>
                  <a:pt x="15791" y="11706"/>
                  <a:pt x="15776" y="11757"/>
                </a:cubicBezTo>
                <a:cubicBezTo>
                  <a:pt x="15694" y="12049"/>
                  <a:pt x="15928" y="11888"/>
                  <a:pt x="15974" y="11757"/>
                </a:cubicBezTo>
                <a:cubicBezTo>
                  <a:pt x="15974" y="11724"/>
                  <a:pt x="15974" y="11691"/>
                  <a:pt x="15974" y="11658"/>
                </a:cubicBezTo>
                <a:cubicBezTo>
                  <a:pt x="15990" y="11756"/>
                  <a:pt x="16036" y="11908"/>
                  <a:pt x="16173" y="11857"/>
                </a:cubicBezTo>
                <a:cubicBezTo>
                  <a:pt x="16369" y="11784"/>
                  <a:pt x="16292" y="11426"/>
                  <a:pt x="16272" y="11286"/>
                </a:cubicBezTo>
                <a:cubicBezTo>
                  <a:pt x="16272" y="11487"/>
                  <a:pt x="16286" y="11681"/>
                  <a:pt x="16297" y="11881"/>
                </a:cubicBezTo>
                <a:cubicBezTo>
                  <a:pt x="16314" y="11813"/>
                  <a:pt x="16385" y="11336"/>
                  <a:pt x="16545" y="11559"/>
                </a:cubicBezTo>
                <a:cubicBezTo>
                  <a:pt x="16627" y="11673"/>
                  <a:pt x="16542" y="12040"/>
                  <a:pt x="16371" y="11881"/>
                </a:cubicBezTo>
                <a:cubicBezTo>
                  <a:pt x="16346" y="11840"/>
                  <a:pt x="16322" y="11798"/>
                  <a:pt x="16297" y="11757"/>
                </a:cubicBezTo>
              </a:path>
              <a:path w="3771" h="1365">
                <a:moveTo>
                  <a:pt x="16619" y="11212"/>
                </a:moveTo>
                <a:cubicBezTo>
                  <a:pt x="16697" y="11425"/>
                  <a:pt x="16726" y="11652"/>
                  <a:pt x="16818" y="11857"/>
                </a:cubicBezTo>
              </a:path>
              <a:path w="3771" h="1365">
                <a:moveTo>
                  <a:pt x="17041" y="11609"/>
                </a:moveTo>
                <a:cubicBezTo>
                  <a:pt x="17165" y="11576"/>
                  <a:pt x="17213" y="11587"/>
                  <a:pt x="17264" y="11485"/>
                </a:cubicBezTo>
                <a:cubicBezTo>
                  <a:pt x="17082" y="11464"/>
                  <a:pt x="17034" y="11678"/>
                  <a:pt x="17190" y="11807"/>
                </a:cubicBezTo>
                <a:cubicBezTo>
                  <a:pt x="17309" y="11831"/>
                  <a:pt x="17346" y="11842"/>
                  <a:pt x="17413" y="11782"/>
                </a:cubicBezTo>
              </a:path>
              <a:path w="3771" h="1365">
                <a:moveTo>
                  <a:pt x="15503" y="11609"/>
                </a:moveTo>
                <a:cubicBezTo>
                  <a:pt x="15520" y="11667"/>
                  <a:pt x="15541" y="11722"/>
                  <a:pt x="15553" y="1178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27240" y="4616280"/>
            <a:ext cx="1133640" cy="366840"/>
          </a:xfrm>
          <a:custGeom>
            <a:avLst/>
            <a:gdLst/>
            <a:ahLst/>
            <a:rect l="l" t="t" r="r" b="b"/>
            <a:pathLst>
              <a:path w="3151" h="1018">
                <a:moveTo>
                  <a:pt x="8409" y="13295"/>
                </a:moveTo>
                <a:cubicBezTo>
                  <a:pt x="8409" y="13444"/>
                  <a:pt x="8409" y="13593"/>
                  <a:pt x="8409" y="13742"/>
                </a:cubicBezTo>
                <a:cubicBezTo>
                  <a:pt x="8426" y="13525"/>
                  <a:pt x="8452" y="13405"/>
                  <a:pt x="8582" y="13246"/>
                </a:cubicBezTo>
                <a:cubicBezTo>
                  <a:pt x="8758" y="13403"/>
                  <a:pt x="8867" y="13555"/>
                  <a:pt x="8830" y="13816"/>
                </a:cubicBezTo>
                <a:cubicBezTo>
                  <a:pt x="8802" y="13845"/>
                  <a:pt x="8794" y="13848"/>
                  <a:pt x="8806" y="13791"/>
                </a:cubicBezTo>
              </a:path>
              <a:path w="3151" h="1018">
                <a:moveTo>
                  <a:pt x="9029" y="13271"/>
                </a:moveTo>
                <a:cubicBezTo>
                  <a:pt x="9005" y="13494"/>
                  <a:pt x="8948" y="13622"/>
                  <a:pt x="9153" y="13742"/>
                </a:cubicBezTo>
                <a:cubicBezTo>
                  <a:pt x="9239" y="13634"/>
                  <a:pt x="9347" y="13507"/>
                  <a:pt x="9302" y="13395"/>
                </a:cubicBezTo>
                <a:cubicBezTo>
                  <a:pt x="9302" y="13533"/>
                  <a:pt x="9303" y="13620"/>
                  <a:pt x="9351" y="13742"/>
                </a:cubicBezTo>
              </a:path>
              <a:path w="3151" h="1018">
                <a:moveTo>
                  <a:pt x="9575" y="13370"/>
                </a:moveTo>
                <a:cubicBezTo>
                  <a:pt x="9575" y="13510"/>
                  <a:pt x="9575" y="13651"/>
                  <a:pt x="9575" y="13791"/>
                </a:cubicBezTo>
                <a:cubicBezTo>
                  <a:pt x="9575" y="13684"/>
                  <a:pt x="9555" y="13347"/>
                  <a:pt x="9699" y="13320"/>
                </a:cubicBezTo>
                <a:cubicBezTo>
                  <a:pt x="9863" y="13289"/>
                  <a:pt x="9861" y="13653"/>
                  <a:pt x="9872" y="13742"/>
                </a:cubicBezTo>
                <a:cubicBezTo>
                  <a:pt x="9795" y="13665"/>
                  <a:pt x="9910" y="13394"/>
                  <a:pt x="9971" y="13295"/>
                </a:cubicBezTo>
                <a:cubicBezTo>
                  <a:pt x="10070" y="13136"/>
                  <a:pt x="9916" y="13902"/>
                  <a:pt x="10046" y="13767"/>
                </a:cubicBezTo>
                <a:cubicBezTo>
                  <a:pt x="10054" y="13734"/>
                  <a:pt x="10063" y="13700"/>
                  <a:pt x="10071" y="13667"/>
                </a:cubicBezTo>
              </a:path>
              <a:path w="3151" h="1018">
                <a:moveTo>
                  <a:pt x="10220" y="12824"/>
                </a:moveTo>
                <a:cubicBezTo>
                  <a:pt x="10252" y="13088"/>
                  <a:pt x="10292" y="13352"/>
                  <a:pt x="10319" y="13618"/>
                </a:cubicBezTo>
                <a:cubicBezTo>
                  <a:pt x="10319" y="13626"/>
                  <a:pt x="10319" y="13635"/>
                  <a:pt x="10319" y="13643"/>
                </a:cubicBezTo>
                <a:cubicBezTo>
                  <a:pt x="10400" y="13349"/>
                  <a:pt x="10396" y="13240"/>
                  <a:pt x="10666" y="13146"/>
                </a:cubicBezTo>
                <a:cubicBezTo>
                  <a:pt x="10699" y="13295"/>
                  <a:pt x="10758" y="13794"/>
                  <a:pt x="10393" y="13667"/>
                </a:cubicBezTo>
                <a:cubicBezTo>
                  <a:pt x="10275" y="13549"/>
                  <a:pt x="10232" y="13516"/>
                  <a:pt x="10294" y="13395"/>
                </a:cubicBezTo>
              </a:path>
              <a:path w="3151" h="1018">
                <a:moveTo>
                  <a:pt x="10740" y="13370"/>
                </a:moveTo>
                <a:cubicBezTo>
                  <a:pt x="10918" y="13391"/>
                  <a:pt x="10991" y="13379"/>
                  <a:pt x="11112" y="13246"/>
                </a:cubicBezTo>
                <a:cubicBezTo>
                  <a:pt x="10972" y="13174"/>
                  <a:pt x="10740" y="13233"/>
                  <a:pt x="10740" y="13444"/>
                </a:cubicBezTo>
                <a:cubicBezTo>
                  <a:pt x="10740" y="13767"/>
                  <a:pt x="11081" y="13672"/>
                  <a:pt x="11187" y="13494"/>
                </a:cubicBezTo>
                <a:cubicBezTo>
                  <a:pt x="11223" y="13387"/>
                  <a:pt x="11240" y="13381"/>
                  <a:pt x="11237" y="13320"/>
                </a:cubicBezTo>
                <a:cubicBezTo>
                  <a:pt x="11237" y="13436"/>
                  <a:pt x="11237" y="13551"/>
                  <a:pt x="11237" y="13667"/>
                </a:cubicBezTo>
                <a:cubicBezTo>
                  <a:pt x="11279" y="13487"/>
                  <a:pt x="11353" y="13266"/>
                  <a:pt x="11509" y="13146"/>
                </a:cubicBezTo>
                <a:cubicBezTo>
                  <a:pt x="11526" y="13146"/>
                  <a:pt x="11542" y="13146"/>
                  <a:pt x="11559" y="131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10080" y="4599000"/>
            <a:ext cx="347760" cy="285840"/>
          </a:xfrm>
          <a:custGeom>
            <a:avLst/>
            <a:gdLst/>
            <a:ahLst/>
            <a:rect l="l" t="t" r="r" b="b"/>
            <a:pathLst>
              <a:path w="969" h="795">
                <a:moveTo>
                  <a:pt x="12700" y="13047"/>
                </a:moveTo>
                <a:cubicBezTo>
                  <a:pt x="12558" y="13208"/>
                  <a:pt x="12549" y="13277"/>
                  <a:pt x="12526" y="13494"/>
                </a:cubicBezTo>
                <a:cubicBezTo>
                  <a:pt x="12700" y="13494"/>
                  <a:pt x="13036" y="13380"/>
                  <a:pt x="12824" y="13122"/>
                </a:cubicBezTo>
                <a:cubicBezTo>
                  <a:pt x="12775" y="13062"/>
                  <a:pt x="12524" y="12994"/>
                  <a:pt x="12675" y="13122"/>
                </a:cubicBezTo>
              </a:path>
              <a:path w="969" h="795">
                <a:moveTo>
                  <a:pt x="13320" y="12799"/>
                </a:moveTo>
                <a:cubicBezTo>
                  <a:pt x="13077" y="12799"/>
                  <a:pt x="13083" y="12938"/>
                  <a:pt x="13171" y="13171"/>
                </a:cubicBezTo>
                <a:cubicBezTo>
                  <a:pt x="13194" y="13233"/>
                  <a:pt x="13407" y="13572"/>
                  <a:pt x="13246" y="13543"/>
                </a:cubicBezTo>
              </a:path>
              <a:path w="969" h="795">
                <a:moveTo>
                  <a:pt x="13122" y="13122"/>
                </a:moveTo>
                <a:cubicBezTo>
                  <a:pt x="13313" y="13122"/>
                  <a:pt x="13371" y="13123"/>
                  <a:pt x="13494" y="130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97320" y="4545000"/>
            <a:ext cx="1179720" cy="411120"/>
          </a:xfrm>
          <a:custGeom>
            <a:avLst/>
            <a:gdLst/>
            <a:ahLst/>
            <a:rect l="l" t="t" r="r" b="b"/>
            <a:pathLst>
              <a:path w="3276" h="1142">
                <a:moveTo>
                  <a:pt x="14610" y="13122"/>
                </a:moveTo>
                <a:cubicBezTo>
                  <a:pt x="14610" y="13028"/>
                  <a:pt x="14635" y="13611"/>
                  <a:pt x="14635" y="13618"/>
                </a:cubicBezTo>
                <a:cubicBezTo>
                  <a:pt x="14635" y="13729"/>
                  <a:pt x="14662" y="13806"/>
                  <a:pt x="14610" y="13742"/>
                </a:cubicBezTo>
              </a:path>
              <a:path w="3276" h="1142">
                <a:moveTo>
                  <a:pt x="14436" y="13022"/>
                </a:moveTo>
                <a:cubicBezTo>
                  <a:pt x="14643" y="13040"/>
                  <a:pt x="15201" y="13086"/>
                  <a:pt x="14883" y="13419"/>
                </a:cubicBezTo>
                <a:cubicBezTo>
                  <a:pt x="14698" y="13612"/>
                  <a:pt x="14617" y="13532"/>
                  <a:pt x="14536" y="13395"/>
                </a:cubicBezTo>
              </a:path>
              <a:path w="3276" h="1142">
                <a:moveTo>
                  <a:pt x="15230" y="12923"/>
                </a:moveTo>
                <a:cubicBezTo>
                  <a:pt x="15176" y="12950"/>
                  <a:pt x="15016" y="13140"/>
                  <a:pt x="15131" y="13221"/>
                </a:cubicBezTo>
                <a:cubicBezTo>
                  <a:pt x="15214" y="13280"/>
                  <a:pt x="15453" y="13241"/>
                  <a:pt x="15429" y="13097"/>
                </a:cubicBezTo>
                <a:cubicBezTo>
                  <a:pt x="15422" y="13057"/>
                  <a:pt x="15359" y="13045"/>
                  <a:pt x="15354" y="12998"/>
                </a:cubicBezTo>
                <a:cubicBezTo>
                  <a:pt x="15349" y="12956"/>
                  <a:pt x="15341" y="12957"/>
                  <a:pt x="15304" y="12948"/>
                </a:cubicBezTo>
              </a:path>
              <a:path w="3276" h="1142">
                <a:moveTo>
                  <a:pt x="15701" y="12948"/>
                </a:moveTo>
                <a:cubicBezTo>
                  <a:pt x="15624" y="12968"/>
                  <a:pt x="15606" y="12960"/>
                  <a:pt x="15577" y="12998"/>
                </a:cubicBezTo>
                <a:cubicBezTo>
                  <a:pt x="15676" y="13079"/>
                  <a:pt x="15924" y="13179"/>
                  <a:pt x="15825" y="13345"/>
                </a:cubicBezTo>
                <a:cubicBezTo>
                  <a:pt x="15707" y="13543"/>
                  <a:pt x="15624" y="13382"/>
                  <a:pt x="15577" y="13295"/>
                </a:cubicBezTo>
              </a:path>
              <a:path w="3276" h="1142">
                <a:moveTo>
                  <a:pt x="16049" y="13146"/>
                </a:moveTo>
                <a:cubicBezTo>
                  <a:pt x="16069" y="13270"/>
                  <a:pt x="16077" y="13294"/>
                  <a:pt x="16073" y="13370"/>
                </a:cubicBezTo>
              </a:path>
              <a:path w="3276" h="1142">
                <a:moveTo>
                  <a:pt x="16073" y="13370"/>
                </a:moveTo>
                <a:lnTo>
                  <a:pt x="16073" y="13370"/>
                </a:lnTo>
              </a:path>
              <a:path w="3276" h="1142">
                <a:moveTo>
                  <a:pt x="15974" y="12774"/>
                </a:moveTo>
                <a:cubicBezTo>
                  <a:pt x="15966" y="12766"/>
                  <a:pt x="15957" y="12758"/>
                  <a:pt x="15949" y="12750"/>
                </a:cubicBezTo>
              </a:path>
              <a:path w="3276" h="1142">
                <a:moveTo>
                  <a:pt x="16371" y="12626"/>
                </a:moveTo>
                <a:cubicBezTo>
                  <a:pt x="16421" y="12888"/>
                  <a:pt x="16476" y="13142"/>
                  <a:pt x="16545" y="13395"/>
                </a:cubicBezTo>
              </a:path>
              <a:path w="3276" h="1142">
                <a:moveTo>
                  <a:pt x="16222" y="13022"/>
                </a:moveTo>
                <a:cubicBezTo>
                  <a:pt x="16425" y="13004"/>
                  <a:pt x="16724" y="12890"/>
                  <a:pt x="16768" y="13146"/>
                </a:cubicBezTo>
                <a:cubicBezTo>
                  <a:pt x="16785" y="13245"/>
                  <a:pt x="16783" y="13312"/>
                  <a:pt x="16718" y="13295"/>
                </a:cubicBezTo>
              </a:path>
              <a:path w="3276" h="1142">
                <a:moveTo>
                  <a:pt x="16594" y="12774"/>
                </a:moveTo>
                <a:cubicBezTo>
                  <a:pt x="16627" y="12791"/>
                  <a:pt x="16661" y="12807"/>
                  <a:pt x="16694" y="12824"/>
                </a:cubicBezTo>
              </a:path>
              <a:path w="3276" h="1142">
                <a:moveTo>
                  <a:pt x="16694" y="12824"/>
                </a:moveTo>
                <a:lnTo>
                  <a:pt x="16694" y="12824"/>
                </a:lnTo>
              </a:path>
              <a:path w="3276" h="1142">
                <a:moveTo>
                  <a:pt x="16991" y="13097"/>
                </a:moveTo>
                <a:cubicBezTo>
                  <a:pt x="17048" y="13186"/>
                  <a:pt x="17104" y="13285"/>
                  <a:pt x="17165" y="13370"/>
                </a:cubicBezTo>
                <a:cubicBezTo>
                  <a:pt x="17208" y="13205"/>
                  <a:pt x="17239" y="13033"/>
                  <a:pt x="17289" y="12874"/>
                </a:cubicBezTo>
              </a:path>
              <a:path w="3276" h="1142">
                <a:moveTo>
                  <a:pt x="17462" y="12998"/>
                </a:moveTo>
                <a:cubicBezTo>
                  <a:pt x="17540" y="12946"/>
                  <a:pt x="17566" y="12925"/>
                  <a:pt x="17562" y="12849"/>
                </a:cubicBezTo>
                <a:cubicBezTo>
                  <a:pt x="17502" y="12897"/>
                  <a:pt x="17223" y="13290"/>
                  <a:pt x="17512" y="13246"/>
                </a:cubicBezTo>
                <a:cubicBezTo>
                  <a:pt x="17578" y="13213"/>
                  <a:pt x="17645" y="13179"/>
                  <a:pt x="17711" y="131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786720" y="4429080"/>
            <a:ext cx="1420560" cy="295200"/>
          </a:xfrm>
          <a:custGeom>
            <a:avLst/>
            <a:gdLst/>
            <a:ahLst/>
            <a:rect l="l" t="t" r="r" b="b"/>
            <a:pathLst>
              <a:path w="3945" h="820">
                <a:moveTo>
                  <a:pt x="19025" y="12700"/>
                </a:moveTo>
                <a:cubicBezTo>
                  <a:pt x="18906" y="12847"/>
                  <a:pt x="18881" y="12916"/>
                  <a:pt x="18852" y="13097"/>
                </a:cubicBezTo>
                <a:cubicBezTo>
                  <a:pt x="19063" y="13107"/>
                  <a:pt x="19346" y="13070"/>
                  <a:pt x="19199" y="12774"/>
                </a:cubicBezTo>
                <a:cubicBezTo>
                  <a:pt x="19121" y="12696"/>
                  <a:pt x="19118" y="12663"/>
                  <a:pt x="19050" y="12675"/>
                </a:cubicBezTo>
              </a:path>
              <a:path w="3945" h="820">
                <a:moveTo>
                  <a:pt x="19372" y="12799"/>
                </a:moveTo>
                <a:cubicBezTo>
                  <a:pt x="19387" y="12873"/>
                  <a:pt x="19436" y="13259"/>
                  <a:pt x="19596" y="12998"/>
                </a:cubicBezTo>
                <a:cubicBezTo>
                  <a:pt x="19637" y="12874"/>
                  <a:pt x="19645" y="12849"/>
                  <a:pt x="19670" y="12774"/>
                </a:cubicBezTo>
                <a:cubicBezTo>
                  <a:pt x="19713" y="12965"/>
                  <a:pt x="19717" y="12913"/>
                  <a:pt x="19844" y="13047"/>
                </a:cubicBezTo>
                <a:cubicBezTo>
                  <a:pt x="20131" y="12878"/>
                  <a:pt x="20120" y="12717"/>
                  <a:pt x="20067" y="12378"/>
                </a:cubicBezTo>
                <a:cubicBezTo>
                  <a:pt x="20059" y="12353"/>
                  <a:pt x="20050" y="12328"/>
                  <a:pt x="20042" y="12303"/>
                </a:cubicBezTo>
                <a:cubicBezTo>
                  <a:pt x="20042" y="12536"/>
                  <a:pt x="20027" y="12770"/>
                  <a:pt x="20067" y="12998"/>
                </a:cubicBezTo>
                <a:cubicBezTo>
                  <a:pt x="20067" y="12990"/>
                  <a:pt x="20067" y="12981"/>
                  <a:pt x="20067" y="12973"/>
                </a:cubicBezTo>
              </a:path>
              <a:path w="3945" h="820">
                <a:moveTo>
                  <a:pt x="19893" y="12551"/>
                </a:moveTo>
                <a:cubicBezTo>
                  <a:pt x="20119" y="12572"/>
                  <a:pt x="20312" y="12570"/>
                  <a:pt x="20538" y="12551"/>
                </a:cubicBezTo>
              </a:path>
              <a:path w="3945" h="820">
                <a:moveTo>
                  <a:pt x="20662" y="12526"/>
                </a:moveTo>
                <a:cubicBezTo>
                  <a:pt x="20642" y="12575"/>
                  <a:pt x="20638" y="12579"/>
                  <a:pt x="20638" y="12626"/>
                </a:cubicBezTo>
                <a:cubicBezTo>
                  <a:pt x="20627" y="12547"/>
                  <a:pt x="20577" y="12450"/>
                  <a:pt x="20489" y="12601"/>
                </a:cubicBezTo>
                <a:cubicBezTo>
                  <a:pt x="20272" y="12972"/>
                  <a:pt x="20566" y="12952"/>
                  <a:pt x="20811" y="12898"/>
                </a:cubicBezTo>
              </a:path>
              <a:path w="3945" h="820">
                <a:moveTo>
                  <a:pt x="21010" y="12526"/>
                </a:moveTo>
                <a:cubicBezTo>
                  <a:pt x="20838" y="12655"/>
                  <a:pt x="20838" y="12728"/>
                  <a:pt x="20960" y="12898"/>
                </a:cubicBezTo>
                <a:cubicBezTo>
                  <a:pt x="21116" y="12821"/>
                  <a:pt x="21236" y="12628"/>
                  <a:pt x="21034" y="12477"/>
                </a:cubicBezTo>
                <a:cubicBezTo>
                  <a:pt x="20993" y="12469"/>
                  <a:pt x="20951" y="12460"/>
                  <a:pt x="20910" y="12452"/>
                </a:cubicBezTo>
              </a:path>
              <a:path w="3945" h="820">
                <a:moveTo>
                  <a:pt x="21208" y="12502"/>
                </a:moveTo>
                <a:cubicBezTo>
                  <a:pt x="21246" y="12610"/>
                  <a:pt x="21287" y="12715"/>
                  <a:pt x="21307" y="12824"/>
                </a:cubicBezTo>
                <a:cubicBezTo>
                  <a:pt x="21307" y="12703"/>
                  <a:pt x="21343" y="12630"/>
                  <a:pt x="21406" y="12526"/>
                </a:cubicBezTo>
                <a:cubicBezTo>
                  <a:pt x="21468" y="12423"/>
                  <a:pt x="21545" y="12808"/>
                  <a:pt x="21555" y="12849"/>
                </a:cubicBezTo>
                <a:cubicBezTo>
                  <a:pt x="21555" y="12624"/>
                  <a:pt x="21611" y="12546"/>
                  <a:pt x="21754" y="12378"/>
                </a:cubicBezTo>
                <a:cubicBezTo>
                  <a:pt x="21815" y="12521"/>
                  <a:pt x="21797" y="12635"/>
                  <a:pt x="21779" y="12799"/>
                </a:cubicBezTo>
              </a:path>
              <a:path w="3945" h="820">
                <a:moveTo>
                  <a:pt x="21927" y="12477"/>
                </a:moveTo>
                <a:cubicBezTo>
                  <a:pt x="22040" y="12445"/>
                  <a:pt x="22171" y="12446"/>
                  <a:pt x="22225" y="12328"/>
                </a:cubicBezTo>
                <a:cubicBezTo>
                  <a:pt x="22225" y="12320"/>
                  <a:pt x="22225" y="12311"/>
                  <a:pt x="22225" y="12303"/>
                </a:cubicBezTo>
                <a:cubicBezTo>
                  <a:pt x="22157" y="12329"/>
                  <a:pt x="21810" y="12586"/>
                  <a:pt x="22027" y="12700"/>
                </a:cubicBezTo>
                <a:cubicBezTo>
                  <a:pt x="22093" y="12708"/>
                  <a:pt x="22159" y="12717"/>
                  <a:pt x="22225" y="12725"/>
                </a:cubicBezTo>
              </a:path>
              <a:path w="3945" h="820">
                <a:moveTo>
                  <a:pt x="22721" y="12328"/>
                </a:moveTo>
                <a:cubicBezTo>
                  <a:pt x="22626" y="12352"/>
                  <a:pt x="22597" y="12358"/>
                  <a:pt x="22547" y="12402"/>
                </a:cubicBezTo>
                <a:cubicBezTo>
                  <a:pt x="22575" y="12513"/>
                  <a:pt x="22738" y="12472"/>
                  <a:pt x="22796" y="12576"/>
                </a:cubicBezTo>
                <a:cubicBezTo>
                  <a:pt x="22891" y="12748"/>
                  <a:pt x="22536" y="12708"/>
                  <a:pt x="22349" y="126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98880" y="5081760"/>
            <a:ext cx="1160280" cy="312480"/>
          </a:xfrm>
          <a:custGeom>
            <a:avLst/>
            <a:gdLst/>
            <a:ahLst/>
            <a:rect l="l" t="t" r="r" b="b"/>
            <a:pathLst>
              <a:path w="3226" h="869">
                <a:moveTo>
                  <a:pt x="8632" y="14312"/>
                </a:moveTo>
                <a:cubicBezTo>
                  <a:pt x="8632" y="14506"/>
                  <a:pt x="8629" y="14691"/>
                  <a:pt x="8607" y="14883"/>
                </a:cubicBezTo>
                <a:cubicBezTo>
                  <a:pt x="8607" y="14910"/>
                  <a:pt x="8616" y="14513"/>
                  <a:pt x="8632" y="14461"/>
                </a:cubicBezTo>
                <a:cubicBezTo>
                  <a:pt x="8699" y="14348"/>
                  <a:pt x="8715" y="14316"/>
                  <a:pt x="8781" y="14263"/>
                </a:cubicBezTo>
                <a:cubicBezTo>
                  <a:pt x="9041" y="14380"/>
                  <a:pt x="9075" y="14525"/>
                  <a:pt x="9128" y="14808"/>
                </a:cubicBezTo>
                <a:cubicBezTo>
                  <a:pt x="9152" y="14937"/>
                  <a:pt x="9126" y="15019"/>
                  <a:pt x="9178" y="14932"/>
                </a:cubicBezTo>
              </a:path>
              <a:path w="3226" h="869">
                <a:moveTo>
                  <a:pt x="9401" y="14436"/>
                </a:moveTo>
                <a:cubicBezTo>
                  <a:pt x="9393" y="14378"/>
                  <a:pt x="9381" y="14337"/>
                  <a:pt x="9351" y="14288"/>
                </a:cubicBezTo>
                <a:cubicBezTo>
                  <a:pt x="9370" y="14287"/>
                  <a:pt x="9434" y="14690"/>
                  <a:pt x="9451" y="14784"/>
                </a:cubicBezTo>
                <a:cubicBezTo>
                  <a:pt x="9469" y="14894"/>
                  <a:pt x="9450" y="14917"/>
                  <a:pt x="9500" y="14957"/>
                </a:cubicBezTo>
                <a:cubicBezTo>
                  <a:pt x="9614" y="14802"/>
                  <a:pt x="9642" y="14655"/>
                  <a:pt x="9674" y="14461"/>
                </a:cubicBezTo>
                <a:cubicBezTo>
                  <a:pt x="9681" y="14419"/>
                  <a:pt x="9661" y="14495"/>
                  <a:pt x="9649" y="14536"/>
                </a:cubicBezTo>
                <a:cubicBezTo>
                  <a:pt x="9675" y="14687"/>
                  <a:pt x="9753" y="15019"/>
                  <a:pt x="9823" y="14883"/>
                </a:cubicBezTo>
                <a:cubicBezTo>
                  <a:pt x="9839" y="14833"/>
                  <a:pt x="9856" y="14784"/>
                  <a:pt x="9872" y="14734"/>
                </a:cubicBezTo>
              </a:path>
              <a:path w="3226" h="869">
                <a:moveTo>
                  <a:pt x="9897" y="14362"/>
                </a:moveTo>
                <a:cubicBezTo>
                  <a:pt x="9923" y="14533"/>
                  <a:pt x="9931" y="14716"/>
                  <a:pt x="9971" y="14883"/>
                </a:cubicBezTo>
                <a:cubicBezTo>
                  <a:pt x="10011" y="15048"/>
                  <a:pt x="9868" y="14461"/>
                  <a:pt x="10021" y="14387"/>
                </a:cubicBezTo>
                <a:cubicBezTo>
                  <a:pt x="10143" y="14328"/>
                  <a:pt x="10228" y="14694"/>
                  <a:pt x="10244" y="14759"/>
                </a:cubicBezTo>
                <a:cubicBezTo>
                  <a:pt x="10220" y="14563"/>
                  <a:pt x="10254" y="14459"/>
                  <a:pt x="10344" y="14288"/>
                </a:cubicBezTo>
                <a:cubicBezTo>
                  <a:pt x="10478" y="14480"/>
                  <a:pt x="10258" y="14932"/>
                  <a:pt x="10492" y="14932"/>
                </a:cubicBezTo>
                <a:cubicBezTo>
                  <a:pt x="10500" y="14899"/>
                  <a:pt x="10509" y="14866"/>
                  <a:pt x="10517" y="14833"/>
                </a:cubicBezTo>
              </a:path>
              <a:path w="3226" h="869">
                <a:moveTo>
                  <a:pt x="10641" y="14114"/>
                </a:moveTo>
                <a:cubicBezTo>
                  <a:pt x="10671" y="14338"/>
                  <a:pt x="10706" y="14560"/>
                  <a:pt x="10740" y="14784"/>
                </a:cubicBezTo>
                <a:cubicBezTo>
                  <a:pt x="10811" y="14900"/>
                  <a:pt x="10743" y="14481"/>
                  <a:pt x="10765" y="14412"/>
                </a:cubicBezTo>
                <a:cubicBezTo>
                  <a:pt x="10847" y="14153"/>
                  <a:pt x="11058" y="14618"/>
                  <a:pt x="10964" y="14784"/>
                </a:cubicBezTo>
                <a:cubicBezTo>
                  <a:pt x="10852" y="14983"/>
                  <a:pt x="10732" y="14784"/>
                  <a:pt x="10666" y="14709"/>
                </a:cubicBezTo>
              </a:path>
              <a:path w="3226" h="869">
                <a:moveTo>
                  <a:pt x="11112" y="14461"/>
                </a:moveTo>
                <a:cubicBezTo>
                  <a:pt x="11252" y="14453"/>
                  <a:pt x="11368" y="14494"/>
                  <a:pt x="11336" y="14337"/>
                </a:cubicBezTo>
                <a:cubicBezTo>
                  <a:pt x="11114" y="14305"/>
                  <a:pt x="10942" y="14471"/>
                  <a:pt x="11088" y="14709"/>
                </a:cubicBezTo>
                <a:cubicBezTo>
                  <a:pt x="11260" y="14989"/>
                  <a:pt x="11505" y="14624"/>
                  <a:pt x="11559" y="14486"/>
                </a:cubicBezTo>
                <a:cubicBezTo>
                  <a:pt x="11568" y="14462"/>
                  <a:pt x="11559" y="14668"/>
                  <a:pt x="11559" y="14734"/>
                </a:cubicBezTo>
                <a:cubicBezTo>
                  <a:pt x="11537" y="14557"/>
                  <a:pt x="11552" y="14388"/>
                  <a:pt x="11708" y="14263"/>
                </a:cubicBezTo>
                <a:cubicBezTo>
                  <a:pt x="11782" y="14244"/>
                  <a:pt x="11789" y="14236"/>
                  <a:pt x="11832" y="142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0" y="4983120"/>
            <a:ext cx="428760" cy="339840"/>
          </a:xfrm>
          <a:custGeom>
            <a:avLst/>
            <a:gdLst/>
            <a:ahLst/>
            <a:rect l="l" t="t" r="r" b="b"/>
            <a:pathLst>
              <a:path w="1192" h="944">
                <a:moveTo>
                  <a:pt x="12849" y="14188"/>
                </a:moveTo>
                <a:cubicBezTo>
                  <a:pt x="12745" y="14240"/>
                  <a:pt x="12682" y="14540"/>
                  <a:pt x="12700" y="14660"/>
                </a:cubicBezTo>
                <a:cubicBezTo>
                  <a:pt x="12725" y="14701"/>
                  <a:pt x="12749" y="14743"/>
                  <a:pt x="12774" y="14784"/>
                </a:cubicBezTo>
                <a:cubicBezTo>
                  <a:pt x="13017" y="14706"/>
                  <a:pt x="13189" y="14544"/>
                  <a:pt x="12973" y="14263"/>
                </a:cubicBezTo>
                <a:cubicBezTo>
                  <a:pt x="12932" y="14238"/>
                  <a:pt x="12890" y="14213"/>
                  <a:pt x="12849" y="14188"/>
                </a:cubicBezTo>
              </a:path>
              <a:path w="1192" h="944">
                <a:moveTo>
                  <a:pt x="13568" y="13841"/>
                </a:moveTo>
                <a:cubicBezTo>
                  <a:pt x="13245" y="13973"/>
                  <a:pt x="13281" y="14159"/>
                  <a:pt x="13469" y="14461"/>
                </a:cubicBezTo>
                <a:cubicBezTo>
                  <a:pt x="13554" y="14597"/>
                  <a:pt x="13703" y="14665"/>
                  <a:pt x="13543" y="14684"/>
                </a:cubicBezTo>
              </a:path>
              <a:path w="1192" h="944">
                <a:moveTo>
                  <a:pt x="13345" y="14337"/>
                </a:moveTo>
                <a:cubicBezTo>
                  <a:pt x="13462" y="14313"/>
                  <a:pt x="13908" y="14196"/>
                  <a:pt x="13841" y="142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49880" y="4956120"/>
            <a:ext cx="1322280" cy="455760"/>
          </a:xfrm>
          <a:custGeom>
            <a:avLst/>
            <a:gdLst/>
            <a:ahLst/>
            <a:rect l="l" t="t" r="r" b="b"/>
            <a:pathLst>
              <a:path w="3672" h="1266">
                <a:moveTo>
                  <a:pt x="14585" y="14312"/>
                </a:moveTo>
                <a:cubicBezTo>
                  <a:pt x="14686" y="14556"/>
                  <a:pt x="14819" y="14771"/>
                  <a:pt x="14858" y="15032"/>
                </a:cubicBezTo>
                <a:cubicBezTo>
                  <a:pt x="14676" y="14910"/>
                  <a:pt x="14690" y="14589"/>
                  <a:pt x="14709" y="14387"/>
                </a:cubicBezTo>
                <a:cubicBezTo>
                  <a:pt x="14726" y="14321"/>
                  <a:pt x="14742" y="14254"/>
                  <a:pt x="14759" y="14188"/>
                </a:cubicBezTo>
                <a:cubicBezTo>
                  <a:pt x="14946" y="14204"/>
                  <a:pt x="15268" y="14324"/>
                  <a:pt x="15007" y="14560"/>
                </a:cubicBezTo>
                <a:cubicBezTo>
                  <a:pt x="14845" y="14706"/>
                  <a:pt x="14767" y="14651"/>
                  <a:pt x="14709" y="14536"/>
                </a:cubicBezTo>
              </a:path>
              <a:path w="3672" h="1266">
                <a:moveTo>
                  <a:pt x="15354" y="14039"/>
                </a:moveTo>
                <a:cubicBezTo>
                  <a:pt x="15292" y="14137"/>
                  <a:pt x="15049" y="14518"/>
                  <a:pt x="15354" y="14511"/>
                </a:cubicBezTo>
                <a:cubicBezTo>
                  <a:pt x="15574" y="14506"/>
                  <a:pt x="15653" y="14109"/>
                  <a:pt x="15429" y="14114"/>
                </a:cubicBezTo>
                <a:cubicBezTo>
                  <a:pt x="15338" y="14150"/>
                  <a:pt x="15260" y="14166"/>
                  <a:pt x="15329" y="14163"/>
                </a:cubicBezTo>
              </a:path>
              <a:path w="3672" h="1266">
                <a:moveTo>
                  <a:pt x="15801" y="14089"/>
                </a:moveTo>
                <a:cubicBezTo>
                  <a:pt x="15736" y="14133"/>
                  <a:pt x="15716" y="14139"/>
                  <a:pt x="15701" y="14188"/>
                </a:cubicBezTo>
                <a:cubicBezTo>
                  <a:pt x="15841" y="14220"/>
                  <a:pt x="15966" y="14257"/>
                  <a:pt x="16098" y="14312"/>
                </a:cubicBezTo>
                <a:cubicBezTo>
                  <a:pt x="15952" y="14458"/>
                  <a:pt x="15855" y="14435"/>
                  <a:pt x="15776" y="14288"/>
                </a:cubicBezTo>
              </a:path>
              <a:path w="3672" h="1266">
                <a:moveTo>
                  <a:pt x="16396" y="13990"/>
                </a:moveTo>
                <a:cubicBezTo>
                  <a:pt x="16309" y="14042"/>
                  <a:pt x="16267" y="14050"/>
                  <a:pt x="16222" y="14139"/>
                </a:cubicBezTo>
                <a:cubicBezTo>
                  <a:pt x="16380" y="14212"/>
                  <a:pt x="16496" y="14183"/>
                  <a:pt x="16495" y="14362"/>
                </a:cubicBezTo>
                <a:cubicBezTo>
                  <a:pt x="16342" y="14424"/>
                  <a:pt x="16333" y="14419"/>
                  <a:pt x="16197" y="14337"/>
                </a:cubicBezTo>
              </a:path>
              <a:path w="3672" h="1266">
                <a:moveTo>
                  <a:pt x="16694" y="14263"/>
                </a:moveTo>
                <a:cubicBezTo>
                  <a:pt x="16694" y="14357"/>
                  <a:pt x="16673" y="14377"/>
                  <a:pt x="16718" y="14412"/>
                </a:cubicBezTo>
              </a:path>
              <a:path w="3672" h="1266">
                <a:moveTo>
                  <a:pt x="16545" y="13841"/>
                </a:moveTo>
                <a:lnTo>
                  <a:pt x="16545" y="13841"/>
                </a:lnTo>
                <a:lnTo>
                  <a:pt x="16545" y="13841"/>
                </a:lnTo>
              </a:path>
              <a:path w="3672" h="1266">
                <a:moveTo>
                  <a:pt x="16545" y="13841"/>
                </a:moveTo>
                <a:lnTo>
                  <a:pt x="16545" y="13841"/>
                </a:lnTo>
              </a:path>
              <a:path w="3672" h="1266">
                <a:moveTo>
                  <a:pt x="16942" y="13816"/>
                </a:moveTo>
                <a:cubicBezTo>
                  <a:pt x="16998" y="13986"/>
                  <a:pt x="17069" y="14159"/>
                  <a:pt x="17115" y="14337"/>
                </a:cubicBezTo>
                <a:cubicBezTo>
                  <a:pt x="17115" y="14345"/>
                  <a:pt x="17115" y="14354"/>
                  <a:pt x="17115" y="14362"/>
                </a:cubicBezTo>
                <a:cubicBezTo>
                  <a:pt x="17115" y="14256"/>
                  <a:pt x="17096" y="14022"/>
                  <a:pt x="17214" y="13965"/>
                </a:cubicBezTo>
                <a:cubicBezTo>
                  <a:pt x="17391" y="13879"/>
                  <a:pt x="17566" y="14297"/>
                  <a:pt x="17338" y="14362"/>
                </a:cubicBezTo>
                <a:cubicBezTo>
                  <a:pt x="17192" y="14337"/>
                  <a:pt x="17143" y="14330"/>
                  <a:pt x="17115" y="14213"/>
                </a:cubicBezTo>
              </a:path>
              <a:path w="3672" h="1266">
                <a:moveTo>
                  <a:pt x="17487" y="13767"/>
                </a:moveTo>
                <a:cubicBezTo>
                  <a:pt x="17499" y="13930"/>
                  <a:pt x="17484" y="14258"/>
                  <a:pt x="17611" y="14387"/>
                </a:cubicBezTo>
                <a:cubicBezTo>
                  <a:pt x="17611" y="14370"/>
                  <a:pt x="17611" y="14354"/>
                  <a:pt x="17611" y="14337"/>
                </a:cubicBezTo>
              </a:path>
              <a:path w="3672" h="1266">
                <a:moveTo>
                  <a:pt x="17760" y="14089"/>
                </a:moveTo>
                <a:cubicBezTo>
                  <a:pt x="17870" y="14081"/>
                  <a:pt x="17974" y="14061"/>
                  <a:pt x="18083" y="14039"/>
                </a:cubicBezTo>
                <a:cubicBezTo>
                  <a:pt x="18017" y="13954"/>
                  <a:pt x="17846" y="13981"/>
                  <a:pt x="17810" y="14114"/>
                </a:cubicBezTo>
                <a:cubicBezTo>
                  <a:pt x="17736" y="14388"/>
                  <a:pt x="18200" y="14184"/>
                  <a:pt x="18256" y="141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67360" y="4687920"/>
            <a:ext cx="1357560" cy="438120"/>
          </a:xfrm>
          <a:custGeom>
            <a:avLst/>
            <a:gdLst/>
            <a:ahLst/>
            <a:rect l="l" t="t" r="r" b="b"/>
            <a:pathLst>
              <a:path w="3771" h="1217">
                <a:moveTo>
                  <a:pt x="19273" y="13791"/>
                </a:moveTo>
                <a:cubicBezTo>
                  <a:pt x="19097" y="13938"/>
                  <a:pt x="19100" y="13935"/>
                  <a:pt x="19100" y="14163"/>
                </a:cubicBezTo>
                <a:cubicBezTo>
                  <a:pt x="19287" y="14223"/>
                  <a:pt x="19629" y="14197"/>
                  <a:pt x="19397" y="13891"/>
                </a:cubicBezTo>
                <a:cubicBezTo>
                  <a:pt x="19304" y="13835"/>
                  <a:pt x="19289" y="13836"/>
                  <a:pt x="19248" y="13791"/>
                </a:cubicBezTo>
              </a:path>
              <a:path w="3771" h="1217">
                <a:moveTo>
                  <a:pt x="19596" y="13791"/>
                </a:moveTo>
                <a:cubicBezTo>
                  <a:pt x="19604" y="13834"/>
                  <a:pt x="19664" y="14362"/>
                  <a:pt x="19819" y="14188"/>
                </a:cubicBezTo>
                <a:cubicBezTo>
                  <a:pt x="19916" y="14079"/>
                  <a:pt x="19926" y="13941"/>
                  <a:pt x="19918" y="13816"/>
                </a:cubicBezTo>
                <a:cubicBezTo>
                  <a:pt x="19930" y="13917"/>
                  <a:pt x="19991" y="14248"/>
                  <a:pt x="20166" y="14064"/>
                </a:cubicBezTo>
                <a:cubicBezTo>
                  <a:pt x="20327" y="13894"/>
                  <a:pt x="20315" y="13699"/>
                  <a:pt x="20315" y="13494"/>
                </a:cubicBezTo>
                <a:cubicBezTo>
                  <a:pt x="20250" y="13515"/>
                  <a:pt x="20297" y="13892"/>
                  <a:pt x="20315" y="14015"/>
                </a:cubicBezTo>
                <a:cubicBezTo>
                  <a:pt x="20323" y="14048"/>
                  <a:pt x="20332" y="14081"/>
                  <a:pt x="20340" y="14114"/>
                </a:cubicBezTo>
              </a:path>
              <a:path w="3771" h="1217">
                <a:moveTo>
                  <a:pt x="20117" y="13767"/>
                </a:moveTo>
                <a:cubicBezTo>
                  <a:pt x="20251" y="13746"/>
                  <a:pt x="20516" y="13754"/>
                  <a:pt x="20613" y="13717"/>
                </a:cubicBezTo>
                <a:cubicBezTo>
                  <a:pt x="20627" y="13712"/>
                  <a:pt x="20656" y="13672"/>
                  <a:pt x="20687" y="13742"/>
                </a:cubicBezTo>
                <a:cubicBezTo>
                  <a:pt x="20687" y="13767"/>
                  <a:pt x="20687" y="13775"/>
                  <a:pt x="20687" y="13742"/>
                </a:cubicBezTo>
                <a:cubicBezTo>
                  <a:pt x="20616" y="13563"/>
                  <a:pt x="20510" y="13730"/>
                  <a:pt x="20513" y="13866"/>
                </a:cubicBezTo>
                <a:cubicBezTo>
                  <a:pt x="20519" y="14156"/>
                  <a:pt x="20758" y="14025"/>
                  <a:pt x="20910" y="13990"/>
                </a:cubicBezTo>
              </a:path>
              <a:path w="3771" h="1217">
                <a:moveTo>
                  <a:pt x="21034" y="13692"/>
                </a:moveTo>
                <a:cubicBezTo>
                  <a:pt x="20905" y="13860"/>
                  <a:pt x="20898" y="13830"/>
                  <a:pt x="20985" y="14015"/>
                </a:cubicBezTo>
                <a:cubicBezTo>
                  <a:pt x="21161" y="13987"/>
                  <a:pt x="21346" y="13897"/>
                  <a:pt x="21158" y="13692"/>
                </a:cubicBezTo>
                <a:cubicBezTo>
                  <a:pt x="21135" y="13667"/>
                  <a:pt x="20959" y="13673"/>
                  <a:pt x="21183" y="13692"/>
                </a:cubicBezTo>
              </a:path>
              <a:path w="3771" h="1217">
                <a:moveTo>
                  <a:pt x="21382" y="13990"/>
                </a:moveTo>
                <a:cubicBezTo>
                  <a:pt x="21374" y="14015"/>
                  <a:pt x="21365" y="14039"/>
                  <a:pt x="21357" y="14064"/>
                </a:cubicBezTo>
                <a:cubicBezTo>
                  <a:pt x="21357" y="13920"/>
                  <a:pt x="21411" y="13802"/>
                  <a:pt x="21506" y="13692"/>
                </a:cubicBezTo>
                <a:cubicBezTo>
                  <a:pt x="21557" y="13633"/>
                  <a:pt x="21544" y="13838"/>
                  <a:pt x="21555" y="13915"/>
                </a:cubicBezTo>
                <a:cubicBezTo>
                  <a:pt x="21555" y="13742"/>
                  <a:pt x="21561" y="13780"/>
                  <a:pt x="21630" y="13643"/>
                </a:cubicBezTo>
                <a:cubicBezTo>
                  <a:pt x="21747" y="13720"/>
                  <a:pt x="21761" y="13798"/>
                  <a:pt x="21828" y="13915"/>
                </a:cubicBezTo>
              </a:path>
              <a:path w="3771" h="1217">
                <a:moveTo>
                  <a:pt x="21903" y="13717"/>
                </a:moveTo>
                <a:cubicBezTo>
                  <a:pt x="22002" y="13664"/>
                  <a:pt x="22098" y="13612"/>
                  <a:pt x="22200" y="13568"/>
                </a:cubicBezTo>
                <a:cubicBezTo>
                  <a:pt x="22068" y="13459"/>
                  <a:pt x="22003" y="13647"/>
                  <a:pt x="21952" y="13767"/>
                </a:cubicBezTo>
                <a:cubicBezTo>
                  <a:pt x="22170" y="13906"/>
                  <a:pt x="22221" y="13811"/>
                  <a:pt x="22498" y="13717"/>
                </a:cubicBezTo>
              </a:path>
              <a:path w="3771" h="1217">
                <a:moveTo>
                  <a:pt x="22671" y="13519"/>
                </a:moveTo>
                <a:cubicBezTo>
                  <a:pt x="22613" y="13519"/>
                  <a:pt x="22605" y="13519"/>
                  <a:pt x="22572" y="13519"/>
                </a:cubicBezTo>
                <a:cubicBezTo>
                  <a:pt x="22599" y="13623"/>
                  <a:pt x="22754" y="13600"/>
                  <a:pt x="22820" y="13692"/>
                </a:cubicBezTo>
                <a:cubicBezTo>
                  <a:pt x="22999" y="13944"/>
                  <a:pt x="22526" y="13877"/>
                  <a:pt x="22448" y="13866"/>
                </a:cubicBezTo>
              </a:path>
              <a:path w="3771" h="1217">
                <a:moveTo>
                  <a:pt x="19745" y="13271"/>
                </a:moveTo>
                <a:cubicBezTo>
                  <a:pt x="19745" y="13281"/>
                  <a:pt x="19692" y="13305"/>
                  <a:pt x="19794" y="13320"/>
                </a:cubicBezTo>
                <a:cubicBezTo>
                  <a:pt x="19992" y="13349"/>
                  <a:pt x="20218" y="13313"/>
                  <a:pt x="20414" y="13295"/>
                </a:cubicBezTo>
                <a:cubicBezTo>
                  <a:pt x="20798" y="13259"/>
                  <a:pt x="21173" y="13172"/>
                  <a:pt x="21555" y="13122"/>
                </a:cubicBezTo>
                <a:cubicBezTo>
                  <a:pt x="21829" y="13086"/>
                  <a:pt x="22098" y="13034"/>
                  <a:pt x="22374" y="130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52360" y="5180040"/>
            <a:ext cx="1800" cy="7920"/>
          </a:xfrm>
          <a:custGeom>
            <a:avLst/>
            <a:gdLst/>
            <a:ahLst/>
            <a:rect l="l" t="t" r="r" b="b"/>
            <a:pathLst>
              <a:path w="1" h="26">
                <a:moveTo>
                  <a:pt x="3200" y="14412"/>
                </a:moveTo>
                <a:cubicBezTo>
                  <a:pt x="3200" y="14404"/>
                  <a:pt x="3200" y="14395"/>
                  <a:pt x="3200" y="143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901880" y="3463920"/>
            <a:ext cx="1546200" cy="144360"/>
          </a:xfrm>
          <a:custGeom>
            <a:avLst/>
            <a:gdLst/>
            <a:ahLst/>
            <a:rect l="l" t="t" r="r" b="b"/>
            <a:pathLst>
              <a:path w="4293" h="398">
                <a:moveTo>
                  <a:pt x="5283" y="10021"/>
                </a:moveTo>
                <a:cubicBezTo>
                  <a:pt x="5669" y="10021"/>
                  <a:pt x="6070" y="10055"/>
                  <a:pt x="6449" y="9971"/>
                </a:cubicBezTo>
                <a:cubicBezTo>
                  <a:pt x="6650" y="9927"/>
                  <a:pt x="6845" y="9866"/>
                  <a:pt x="7045" y="9823"/>
                </a:cubicBezTo>
                <a:cubicBezTo>
                  <a:pt x="7380" y="9750"/>
                  <a:pt x="7723" y="9718"/>
                  <a:pt x="8062" y="9674"/>
                </a:cubicBezTo>
                <a:cubicBezTo>
                  <a:pt x="8215" y="9654"/>
                  <a:pt x="8355" y="9628"/>
                  <a:pt x="8508" y="9624"/>
                </a:cubicBezTo>
                <a:cubicBezTo>
                  <a:pt x="8625" y="9621"/>
                  <a:pt x="8737" y="9665"/>
                  <a:pt x="8855" y="9674"/>
                </a:cubicBezTo>
                <a:cubicBezTo>
                  <a:pt x="9084" y="9692"/>
                  <a:pt x="9362" y="9685"/>
                  <a:pt x="9575" y="96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751120" y="4795920"/>
            <a:ext cx="4384800" cy="241200"/>
          </a:xfrm>
          <a:custGeom>
            <a:avLst/>
            <a:gdLst/>
            <a:ahLst/>
            <a:rect l="l" t="t" r="r" b="b"/>
            <a:pathLst>
              <a:path w="12180" h="671">
                <a:moveTo>
                  <a:pt x="7640" y="13990"/>
                </a:moveTo>
                <a:cubicBezTo>
                  <a:pt x="7725" y="13972"/>
                  <a:pt x="7816" y="13926"/>
                  <a:pt x="7913" y="13915"/>
                </a:cubicBezTo>
                <a:cubicBezTo>
                  <a:pt x="8182" y="13884"/>
                  <a:pt x="8460" y="13891"/>
                  <a:pt x="8731" y="13891"/>
                </a:cubicBezTo>
                <a:cubicBezTo>
                  <a:pt x="8994" y="13891"/>
                  <a:pt x="9262" y="13881"/>
                  <a:pt x="9525" y="13866"/>
                </a:cubicBezTo>
                <a:cubicBezTo>
                  <a:pt x="9757" y="13853"/>
                  <a:pt x="9986" y="13843"/>
                  <a:pt x="10220" y="13841"/>
                </a:cubicBezTo>
                <a:cubicBezTo>
                  <a:pt x="10608" y="13838"/>
                  <a:pt x="10998" y="13841"/>
                  <a:pt x="11385" y="13816"/>
                </a:cubicBezTo>
                <a:cubicBezTo>
                  <a:pt x="11651" y="13799"/>
                  <a:pt x="11913" y="13753"/>
                  <a:pt x="12179" y="13742"/>
                </a:cubicBezTo>
                <a:cubicBezTo>
                  <a:pt x="12435" y="13732"/>
                  <a:pt x="12693" y="13700"/>
                  <a:pt x="12948" y="13692"/>
                </a:cubicBezTo>
                <a:cubicBezTo>
                  <a:pt x="13181" y="13684"/>
                  <a:pt x="13411" y="13673"/>
                  <a:pt x="13643" y="13667"/>
                </a:cubicBezTo>
                <a:cubicBezTo>
                  <a:pt x="14413" y="13649"/>
                  <a:pt x="15181" y="13642"/>
                  <a:pt x="15949" y="13618"/>
                </a:cubicBezTo>
                <a:cubicBezTo>
                  <a:pt x="16511" y="13600"/>
                  <a:pt x="17076" y="13545"/>
                  <a:pt x="17636" y="13494"/>
                </a:cubicBezTo>
                <a:cubicBezTo>
                  <a:pt x="18182" y="13445"/>
                  <a:pt x="18727" y="13407"/>
                  <a:pt x="19273" y="13370"/>
                </a:cubicBezTo>
                <a:cubicBezTo>
                  <a:pt x="19455" y="13358"/>
                  <a:pt x="19638" y="13336"/>
                  <a:pt x="19819" y="133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10480" cy="63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identify the probability of an event as a decimal, fraction, percent and ratio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Finding a probabi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randomly choose a day of the week for sending an e-mail to your cousin. Find the probability that you choose Tuesda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one favorable outcome which is Tues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7 possible outcomes are “Sunday,” “Monday,” “Tuesday,” “Wednesday,” “Thursday,” “Friday,” and “Saturday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of choosing Tuesda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873080" y="5410080"/>
          <a:ext cx="5473800" cy="8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3080" y="5410080"/>
                    <a:ext cx="547380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7456320" y="4902120"/>
            <a:ext cx="446400" cy="804960"/>
          </a:xfrm>
          <a:custGeom>
            <a:avLst/>
            <a:gdLst/>
            <a:ahLst/>
            <a:rect l="l" t="t" r="r" b="b"/>
            <a:pathLst>
              <a:path w="1241" h="2233">
                <a:moveTo>
                  <a:pt x="20985" y="13643"/>
                </a:moveTo>
                <a:cubicBezTo>
                  <a:pt x="20985" y="13471"/>
                  <a:pt x="21074" y="13921"/>
                  <a:pt x="21109" y="14089"/>
                </a:cubicBezTo>
                <a:cubicBezTo>
                  <a:pt x="21144" y="14257"/>
                  <a:pt x="21172" y="14402"/>
                  <a:pt x="21233" y="14560"/>
                </a:cubicBezTo>
              </a:path>
              <a:path w="1241" h="2233">
                <a:moveTo>
                  <a:pt x="20786" y="14734"/>
                </a:moveTo>
                <a:cubicBezTo>
                  <a:pt x="20861" y="14711"/>
                  <a:pt x="21826" y="14448"/>
                  <a:pt x="21828" y="14486"/>
                </a:cubicBezTo>
                <a:cubicBezTo>
                  <a:pt x="21787" y="14527"/>
                  <a:pt x="21745" y="14569"/>
                  <a:pt x="21704" y="14610"/>
                </a:cubicBezTo>
              </a:path>
              <a:path w="1241" h="2233">
                <a:moveTo>
                  <a:pt x="21034" y="14982"/>
                </a:moveTo>
                <a:cubicBezTo>
                  <a:pt x="21233" y="14927"/>
                  <a:pt x="21423" y="14870"/>
                  <a:pt x="21630" y="14858"/>
                </a:cubicBezTo>
                <a:cubicBezTo>
                  <a:pt x="21638" y="14858"/>
                  <a:pt x="21646" y="14858"/>
                  <a:pt x="21654" y="14858"/>
                </a:cubicBezTo>
                <a:cubicBezTo>
                  <a:pt x="21628" y="15127"/>
                  <a:pt x="21538" y="15383"/>
                  <a:pt x="21506" y="15652"/>
                </a:cubicBezTo>
                <a:cubicBezTo>
                  <a:pt x="21492" y="15772"/>
                  <a:pt x="21518" y="15802"/>
                  <a:pt x="21530" y="15850"/>
                </a:cubicBezTo>
              </a:path>
              <a:path w="1241" h="2233">
                <a:moveTo>
                  <a:pt x="20960" y="14784"/>
                </a:moveTo>
                <a:cubicBezTo>
                  <a:pt x="20899" y="14784"/>
                  <a:pt x="20867" y="14811"/>
                  <a:pt x="20811" y="14833"/>
                </a:cubicBezTo>
                <a:cubicBezTo>
                  <a:pt x="20786" y="14841"/>
                  <a:pt x="20762" y="14850"/>
                  <a:pt x="20737" y="14858"/>
                </a:cubicBezTo>
                <a:cubicBezTo>
                  <a:pt x="20624" y="14858"/>
                  <a:pt x="20906" y="14805"/>
                  <a:pt x="21010" y="14759"/>
                </a:cubicBezTo>
                <a:cubicBezTo>
                  <a:pt x="21146" y="14698"/>
                  <a:pt x="21285" y="14614"/>
                  <a:pt x="21431" y="14585"/>
                </a:cubicBezTo>
              </a:path>
              <a:path w="1241" h="2233">
                <a:moveTo>
                  <a:pt x="21183" y="14660"/>
                </a:moveTo>
                <a:cubicBezTo>
                  <a:pt x="21405" y="14569"/>
                  <a:pt x="21623" y="14504"/>
                  <a:pt x="21853" y="14436"/>
                </a:cubicBezTo>
                <a:cubicBezTo>
                  <a:pt x="21910" y="14417"/>
                  <a:pt x="21917" y="14409"/>
                  <a:pt x="21952" y="144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1920" y="158400"/>
            <a:ext cx="8991720" cy="125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 Students will identify the probability of an event as a decimal, fraction, percent and rat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You roll a number cube. Find and describe the probability of the even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) you roll an even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) you roll a number less than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) you roll a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) you roll a number greater than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82800" y="2340000"/>
            <a:ext cx="1125360" cy="214200"/>
          </a:xfrm>
          <a:custGeom>
            <a:avLst/>
            <a:gdLst/>
            <a:ahLst/>
            <a:rect l="l" t="t" r="r" b="b"/>
            <a:pathLst>
              <a:path w="3126" h="596">
                <a:moveTo>
                  <a:pt x="3150" y="6821"/>
                </a:moveTo>
                <a:cubicBezTo>
                  <a:pt x="3150" y="6741"/>
                  <a:pt x="3169" y="6734"/>
                  <a:pt x="3175" y="6672"/>
                </a:cubicBezTo>
                <a:cubicBezTo>
                  <a:pt x="3179" y="6628"/>
                  <a:pt x="3109" y="6549"/>
                  <a:pt x="3076" y="6524"/>
                </a:cubicBezTo>
                <a:cubicBezTo>
                  <a:pt x="2973" y="6446"/>
                  <a:pt x="2923" y="6531"/>
                  <a:pt x="2902" y="6623"/>
                </a:cubicBezTo>
                <a:cubicBezTo>
                  <a:pt x="2861" y="6800"/>
                  <a:pt x="2940" y="6902"/>
                  <a:pt x="2977" y="7069"/>
                </a:cubicBezTo>
                <a:cubicBezTo>
                  <a:pt x="2977" y="7077"/>
                  <a:pt x="2977" y="7086"/>
                  <a:pt x="2977" y="7094"/>
                </a:cubicBezTo>
              </a:path>
              <a:path w="3126" h="596">
                <a:moveTo>
                  <a:pt x="2729" y="6995"/>
                </a:moveTo>
                <a:cubicBezTo>
                  <a:pt x="2874" y="6953"/>
                  <a:pt x="2999" y="6945"/>
                  <a:pt x="3150" y="6945"/>
                </a:cubicBezTo>
                <a:cubicBezTo>
                  <a:pt x="3207" y="6945"/>
                  <a:pt x="3235" y="7021"/>
                  <a:pt x="3274" y="7045"/>
                </a:cubicBezTo>
                <a:cubicBezTo>
                  <a:pt x="3296" y="6910"/>
                  <a:pt x="3362" y="6887"/>
                  <a:pt x="3473" y="6821"/>
                </a:cubicBezTo>
              </a:path>
              <a:path w="3126" h="596">
                <a:moveTo>
                  <a:pt x="3845" y="6871"/>
                </a:moveTo>
                <a:cubicBezTo>
                  <a:pt x="3799" y="6882"/>
                  <a:pt x="3602" y="6942"/>
                  <a:pt x="3671" y="7045"/>
                </a:cubicBezTo>
                <a:cubicBezTo>
                  <a:pt x="3679" y="7045"/>
                  <a:pt x="3688" y="7045"/>
                  <a:pt x="3696" y="7045"/>
                </a:cubicBezTo>
                <a:cubicBezTo>
                  <a:pt x="3840" y="6936"/>
                  <a:pt x="3740" y="6969"/>
                  <a:pt x="3870" y="7045"/>
                </a:cubicBezTo>
                <a:cubicBezTo>
                  <a:pt x="3959" y="7074"/>
                  <a:pt x="3995" y="7073"/>
                  <a:pt x="4043" y="6995"/>
                </a:cubicBezTo>
              </a:path>
              <a:path w="3126" h="596">
                <a:moveTo>
                  <a:pt x="4192" y="6896"/>
                </a:moveTo>
                <a:cubicBezTo>
                  <a:pt x="4131" y="6884"/>
                  <a:pt x="4031" y="6820"/>
                  <a:pt x="4018" y="6945"/>
                </a:cubicBezTo>
                <a:cubicBezTo>
                  <a:pt x="3991" y="7201"/>
                  <a:pt x="4350" y="7076"/>
                  <a:pt x="4440" y="6995"/>
                </a:cubicBezTo>
                <a:cubicBezTo>
                  <a:pt x="4473" y="6945"/>
                  <a:pt x="4506" y="6896"/>
                  <a:pt x="4539" y="6846"/>
                </a:cubicBezTo>
              </a:path>
              <a:path w="3126" h="596">
                <a:moveTo>
                  <a:pt x="4514" y="6648"/>
                </a:moveTo>
                <a:cubicBezTo>
                  <a:pt x="4530" y="6786"/>
                  <a:pt x="4559" y="6940"/>
                  <a:pt x="4614" y="7069"/>
                </a:cubicBezTo>
                <a:cubicBezTo>
                  <a:pt x="4622" y="7077"/>
                  <a:pt x="4630" y="7086"/>
                  <a:pt x="4638" y="7094"/>
                </a:cubicBezTo>
              </a:path>
              <a:path w="3126" h="596">
                <a:moveTo>
                  <a:pt x="4266" y="6896"/>
                </a:moveTo>
                <a:cubicBezTo>
                  <a:pt x="4407" y="6881"/>
                  <a:pt x="4729" y="6799"/>
                  <a:pt x="4837" y="6945"/>
                </a:cubicBezTo>
                <a:cubicBezTo>
                  <a:pt x="4856" y="7023"/>
                  <a:pt x="4848" y="7040"/>
                  <a:pt x="4887" y="7069"/>
                </a:cubicBezTo>
              </a:path>
              <a:path w="3126" h="596">
                <a:moveTo>
                  <a:pt x="4887" y="6722"/>
                </a:moveTo>
                <a:lnTo>
                  <a:pt x="4887" y="6722"/>
                </a:lnTo>
                <a:lnTo>
                  <a:pt x="4887" y="6722"/>
                </a:lnTo>
              </a:path>
              <a:path w="3126" h="596">
                <a:moveTo>
                  <a:pt x="4887" y="6722"/>
                </a:moveTo>
                <a:lnTo>
                  <a:pt x="4887" y="6722"/>
                </a:lnTo>
              </a:path>
              <a:path w="3126" h="596">
                <a:moveTo>
                  <a:pt x="5159" y="6821"/>
                </a:moveTo>
                <a:cubicBezTo>
                  <a:pt x="5105" y="6914"/>
                  <a:pt x="5024" y="7112"/>
                  <a:pt x="5234" y="7094"/>
                </a:cubicBezTo>
                <a:cubicBezTo>
                  <a:pt x="5435" y="7077"/>
                  <a:pt x="5366" y="6861"/>
                  <a:pt x="5234" y="6821"/>
                </a:cubicBezTo>
                <a:cubicBezTo>
                  <a:pt x="5184" y="6821"/>
                  <a:pt x="5167" y="6821"/>
                  <a:pt x="5234" y="6821"/>
                </a:cubicBezTo>
              </a:path>
              <a:path w="3126" h="596">
                <a:moveTo>
                  <a:pt x="5556" y="6945"/>
                </a:moveTo>
                <a:cubicBezTo>
                  <a:pt x="5541" y="6812"/>
                  <a:pt x="5649" y="6746"/>
                  <a:pt x="5779" y="6846"/>
                </a:cubicBezTo>
                <a:cubicBezTo>
                  <a:pt x="5832" y="6887"/>
                  <a:pt x="5846" y="6940"/>
                  <a:pt x="5854" y="69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90880" y="2367000"/>
            <a:ext cx="1125360" cy="196920"/>
          </a:xfrm>
          <a:custGeom>
            <a:avLst/>
            <a:gdLst/>
            <a:ahLst/>
            <a:rect l="l" t="t" r="r" b="b"/>
            <a:pathLst>
              <a:path w="3126" h="547">
                <a:moveTo>
                  <a:pt x="8657" y="6896"/>
                </a:moveTo>
                <a:cubicBezTo>
                  <a:pt x="8454" y="6814"/>
                  <a:pt x="8420" y="6864"/>
                  <a:pt x="8310" y="7045"/>
                </a:cubicBezTo>
                <a:cubicBezTo>
                  <a:pt x="8486" y="7139"/>
                  <a:pt x="8477" y="7106"/>
                  <a:pt x="8657" y="6995"/>
                </a:cubicBezTo>
              </a:path>
              <a:path w="3126" h="547">
                <a:moveTo>
                  <a:pt x="8533" y="6598"/>
                </a:moveTo>
                <a:cubicBezTo>
                  <a:pt x="8606" y="6751"/>
                  <a:pt x="8710" y="6917"/>
                  <a:pt x="8756" y="7069"/>
                </a:cubicBezTo>
              </a:path>
              <a:path w="3126" h="547">
                <a:moveTo>
                  <a:pt x="8979" y="6871"/>
                </a:moveTo>
                <a:cubicBezTo>
                  <a:pt x="9020" y="6851"/>
                  <a:pt x="9026" y="6842"/>
                  <a:pt x="9054" y="6846"/>
                </a:cubicBezTo>
                <a:cubicBezTo>
                  <a:pt x="9004" y="6777"/>
                  <a:pt x="8895" y="6707"/>
                  <a:pt x="8830" y="6821"/>
                </a:cubicBezTo>
                <a:cubicBezTo>
                  <a:pt x="8692" y="7063"/>
                  <a:pt x="9020" y="7022"/>
                  <a:pt x="9128" y="6995"/>
                </a:cubicBezTo>
              </a:path>
              <a:path w="3126" h="547">
                <a:moveTo>
                  <a:pt x="9376" y="6796"/>
                </a:moveTo>
                <a:cubicBezTo>
                  <a:pt x="9396" y="6837"/>
                  <a:pt x="9405" y="6864"/>
                  <a:pt x="9401" y="6821"/>
                </a:cubicBezTo>
                <a:cubicBezTo>
                  <a:pt x="9381" y="6743"/>
                  <a:pt x="9337" y="6763"/>
                  <a:pt x="9302" y="6846"/>
                </a:cubicBezTo>
                <a:cubicBezTo>
                  <a:pt x="9195" y="7105"/>
                  <a:pt x="9454" y="7051"/>
                  <a:pt x="9599" y="7020"/>
                </a:cubicBezTo>
              </a:path>
              <a:path w="3126" h="547">
                <a:moveTo>
                  <a:pt x="9773" y="6846"/>
                </a:moveTo>
                <a:cubicBezTo>
                  <a:pt x="9777" y="6900"/>
                  <a:pt x="9744" y="7079"/>
                  <a:pt x="9798" y="6970"/>
                </a:cubicBezTo>
              </a:path>
              <a:path w="3126" h="547">
                <a:moveTo>
                  <a:pt x="9748" y="6672"/>
                </a:moveTo>
                <a:lnTo>
                  <a:pt x="9748" y="6672"/>
                </a:lnTo>
                <a:lnTo>
                  <a:pt x="9748" y="6672"/>
                </a:lnTo>
                <a:lnTo>
                  <a:pt x="9748" y="6672"/>
                </a:lnTo>
              </a:path>
              <a:path w="3126" h="547">
                <a:moveTo>
                  <a:pt x="9748" y="6672"/>
                </a:moveTo>
                <a:lnTo>
                  <a:pt x="9748" y="6672"/>
                </a:lnTo>
              </a:path>
              <a:path w="3126" h="547">
                <a:moveTo>
                  <a:pt x="10071" y="6846"/>
                </a:moveTo>
                <a:cubicBezTo>
                  <a:pt x="10071" y="6904"/>
                  <a:pt x="10071" y="6912"/>
                  <a:pt x="10071" y="6945"/>
                </a:cubicBezTo>
                <a:cubicBezTo>
                  <a:pt x="10071" y="6848"/>
                  <a:pt x="10055" y="6770"/>
                  <a:pt x="10170" y="6747"/>
                </a:cubicBezTo>
                <a:cubicBezTo>
                  <a:pt x="10336" y="6714"/>
                  <a:pt x="10405" y="6876"/>
                  <a:pt x="10393" y="6995"/>
                </a:cubicBezTo>
                <a:cubicBezTo>
                  <a:pt x="10393" y="6875"/>
                  <a:pt x="10415" y="6832"/>
                  <a:pt x="10492" y="6747"/>
                </a:cubicBezTo>
                <a:cubicBezTo>
                  <a:pt x="10589" y="6814"/>
                  <a:pt x="10602" y="6867"/>
                  <a:pt x="10616" y="6995"/>
                </a:cubicBezTo>
              </a:path>
              <a:path w="3126" h="547">
                <a:moveTo>
                  <a:pt x="11038" y="6796"/>
                </a:moveTo>
                <a:cubicBezTo>
                  <a:pt x="10971" y="6803"/>
                  <a:pt x="10649" y="6838"/>
                  <a:pt x="10815" y="6970"/>
                </a:cubicBezTo>
                <a:cubicBezTo>
                  <a:pt x="10956" y="7081"/>
                  <a:pt x="10968" y="6975"/>
                  <a:pt x="11013" y="6871"/>
                </a:cubicBezTo>
                <a:cubicBezTo>
                  <a:pt x="11013" y="6977"/>
                  <a:pt x="11074" y="7102"/>
                  <a:pt x="11212" y="7069"/>
                </a:cubicBezTo>
                <a:cubicBezTo>
                  <a:pt x="11237" y="7044"/>
                  <a:pt x="11261" y="7020"/>
                  <a:pt x="11286" y="6995"/>
                </a:cubicBezTo>
              </a:path>
              <a:path w="3126" h="547">
                <a:moveTo>
                  <a:pt x="11237" y="6573"/>
                </a:moveTo>
                <a:cubicBezTo>
                  <a:pt x="11259" y="6719"/>
                  <a:pt x="11281" y="6978"/>
                  <a:pt x="11385" y="7094"/>
                </a:cubicBezTo>
                <a:cubicBezTo>
                  <a:pt x="11402" y="7094"/>
                  <a:pt x="11418" y="7094"/>
                  <a:pt x="11435" y="709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65160" y="2581200"/>
            <a:ext cx="1320840" cy="500040"/>
          </a:xfrm>
          <a:custGeom>
            <a:avLst/>
            <a:gdLst/>
            <a:ahLst/>
            <a:rect l="l" t="t" r="r" b="b"/>
            <a:pathLst>
              <a:path w="3672" h="1390">
                <a:moveTo>
                  <a:pt x="2679" y="7417"/>
                </a:moveTo>
                <a:cubicBezTo>
                  <a:pt x="2722" y="7404"/>
                  <a:pt x="2711" y="7405"/>
                  <a:pt x="2778" y="7392"/>
                </a:cubicBezTo>
                <a:cubicBezTo>
                  <a:pt x="2850" y="7377"/>
                  <a:pt x="2930" y="7351"/>
                  <a:pt x="3001" y="7342"/>
                </a:cubicBezTo>
                <a:cubicBezTo>
                  <a:pt x="3082" y="7332"/>
                  <a:pt x="3169" y="7333"/>
                  <a:pt x="3249" y="7317"/>
                </a:cubicBezTo>
                <a:cubicBezTo>
                  <a:pt x="3341" y="7299"/>
                  <a:pt x="3431" y="7309"/>
                  <a:pt x="3522" y="7293"/>
                </a:cubicBezTo>
                <a:cubicBezTo>
                  <a:pt x="3640" y="7273"/>
                  <a:pt x="3747" y="7268"/>
                  <a:pt x="3870" y="7268"/>
                </a:cubicBezTo>
                <a:cubicBezTo>
                  <a:pt x="3978" y="7268"/>
                  <a:pt x="4065" y="7246"/>
                  <a:pt x="4167" y="7243"/>
                </a:cubicBezTo>
                <a:cubicBezTo>
                  <a:pt x="4319" y="7239"/>
                  <a:pt x="4465" y="7231"/>
                  <a:pt x="4614" y="7218"/>
                </a:cubicBezTo>
                <a:cubicBezTo>
                  <a:pt x="4753" y="7206"/>
                  <a:pt x="4896" y="7197"/>
                  <a:pt x="5035" y="7193"/>
                </a:cubicBezTo>
                <a:cubicBezTo>
                  <a:pt x="5228" y="7188"/>
                  <a:pt x="5420" y="7191"/>
                  <a:pt x="5606" y="7169"/>
                </a:cubicBezTo>
                <a:cubicBezTo>
                  <a:pt x="5670" y="7161"/>
                  <a:pt x="5739" y="7169"/>
                  <a:pt x="5804" y="7169"/>
                </a:cubicBezTo>
              </a:path>
              <a:path w="3672" h="1390">
                <a:moveTo>
                  <a:pt x="5035" y="7863"/>
                </a:moveTo>
                <a:cubicBezTo>
                  <a:pt x="4943" y="7863"/>
                  <a:pt x="4877" y="7894"/>
                  <a:pt x="4837" y="7987"/>
                </a:cubicBezTo>
                <a:cubicBezTo>
                  <a:pt x="4837" y="8004"/>
                  <a:pt x="4837" y="8020"/>
                  <a:pt x="4837" y="8037"/>
                </a:cubicBezTo>
                <a:cubicBezTo>
                  <a:pt x="4849" y="8039"/>
                  <a:pt x="5143" y="8029"/>
                  <a:pt x="5035" y="7938"/>
                </a:cubicBezTo>
                <a:cubicBezTo>
                  <a:pt x="4961" y="7913"/>
                  <a:pt x="4936" y="7905"/>
                  <a:pt x="4887" y="7888"/>
                </a:cubicBezTo>
              </a:path>
              <a:path w="3672" h="1390">
                <a:moveTo>
                  <a:pt x="5159" y="7863"/>
                </a:moveTo>
                <a:cubicBezTo>
                  <a:pt x="5195" y="7912"/>
                  <a:pt x="5226" y="8032"/>
                  <a:pt x="5234" y="7987"/>
                </a:cubicBezTo>
                <a:cubicBezTo>
                  <a:pt x="5248" y="7914"/>
                  <a:pt x="5270" y="7856"/>
                  <a:pt x="5283" y="7789"/>
                </a:cubicBezTo>
              </a:path>
              <a:path w="3672" h="1390">
                <a:moveTo>
                  <a:pt x="5978" y="7417"/>
                </a:moveTo>
                <a:cubicBezTo>
                  <a:pt x="6006" y="7556"/>
                  <a:pt x="6077" y="7716"/>
                  <a:pt x="6052" y="7863"/>
                </a:cubicBezTo>
                <a:cubicBezTo>
                  <a:pt x="6044" y="7871"/>
                  <a:pt x="6036" y="7880"/>
                  <a:pt x="6028" y="7888"/>
                </a:cubicBezTo>
              </a:path>
              <a:path w="3672" h="1390">
                <a:moveTo>
                  <a:pt x="5904" y="7962"/>
                </a:moveTo>
                <a:cubicBezTo>
                  <a:pt x="6055" y="7925"/>
                  <a:pt x="6205" y="7890"/>
                  <a:pt x="6350" y="7838"/>
                </a:cubicBezTo>
              </a:path>
              <a:path w="3672" h="1390">
                <a:moveTo>
                  <a:pt x="5953" y="8186"/>
                </a:moveTo>
                <a:cubicBezTo>
                  <a:pt x="6027" y="8158"/>
                  <a:pt x="6138" y="8149"/>
                  <a:pt x="6226" y="8136"/>
                </a:cubicBezTo>
                <a:cubicBezTo>
                  <a:pt x="6177" y="8308"/>
                  <a:pt x="6044" y="8413"/>
                  <a:pt x="5928" y="8558"/>
                </a:cubicBezTo>
                <a:cubicBezTo>
                  <a:pt x="6075" y="8558"/>
                  <a:pt x="6162" y="8479"/>
                  <a:pt x="6300" y="8458"/>
                </a:cubicBezTo>
                <a:cubicBezTo>
                  <a:pt x="6300" y="8466"/>
                  <a:pt x="6300" y="8475"/>
                  <a:pt x="6300" y="848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00240" y="2581200"/>
            <a:ext cx="1090800" cy="320760"/>
          </a:xfrm>
          <a:custGeom>
            <a:avLst/>
            <a:gdLst/>
            <a:ahLst/>
            <a:rect l="l" t="t" r="r" b="b"/>
            <a:pathLst>
              <a:path w="3028" h="894">
                <a:moveTo>
                  <a:pt x="8334" y="7268"/>
                </a:moveTo>
                <a:cubicBezTo>
                  <a:pt x="8453" y="7262"/>
                  <a:pt x="8563" y="7245"/>
                  <a:pt x="8682" y="7243"/>
                </a:cubicBezTo>
                <a:cubicBezTo>
                  <a:pt x="8973" y="7237"/>
                  <a:pt x="9261" y="7232"/>
                  <a:pt x="9550" y="7218"/>
                </a:cubicBezTo>
                <a:cubicBezTo>
                  <a:pt x="9733" y="7209"/>
                  <a:pt x="9915" y="7217"/>
                  <a:pt x="10096" y="7193"/>
                </a:cubicBezTo>
                <a:cubicBezTo>
                  <a:pt x="10279" y="7169"/>
                  <a:pt x="10456" y="7169"/>
                  <a:pt x="10641" y="7169"/>
                </a:cubicBezTo>
                <a:cubicBezTo>
                  <a:pt x="10778" y="7169"/>
                  <a:pt x="10915" y="7178"/>
                  <a:pt x="11038" y="7193"/>
                </a:cubicBezTo>
                <a:cubicBezTo>
                  <a:pt x="11142" y="7206"/>
                  <a:pt x="11255" y="7193"/>
                  <a:pt x="11361" y="7193"/>
                </a:cubicBezTo>
              </a:path>
              <a:path w="3028" h="894">
                <a:moveTo>
                  <a:pt x="9376" y="7938"/>
                </a:moveTo>
                <a:cubicBezTo>
                  <a:pt x="9391" y="7938"/>
                  <a:pt x="9336" y="7969"/>
                  <a:pt x="9302" y="8037"/>
                </a:cubicBezTo>
                <a:cubicBezTo>
                  <a:pt x="9389" y="8081"/>
                  <a:pt x="9408" y="8056"/>
                  <a:pt x="9475" y="7987"/>
                </a:cubicBezTo>
                <a:cubicBezTo>
                  <a:pt x="9426" y="7973"/>
                  <a:pt x="9325" y="7962"/>
                  <a:pt x="9376" y="7962"/>
                </a:cubicBezTo>
              </a:path>
              <a:path w="3028" h="894">
                <a:moveTo>
                  <a:pt x="9996" y="7417"/>
                </a:moveTo>
                <a:cubicBezTo>
                  <a:pt x="9903" y="7417"/>
                  <a:pt x="9827" y="7405"/>
                  <a:pt x="9773" y="7466"/>
                </a:cubicBezTo>
                <a:cubicBezTo>
                  <a:pt x="9713" y="7534"/>
                  <a:pt x="9723" y="7628"/>
                  <a:pt x="9723" y="7714"/>
                </a:cubicBezTo>
                <a:cubicBezTo>
                  <a:pt x="9818" y="7690"/>
                  <a:pt x="9903" y="7602"/>
                  <a:pt x="10021" y="7640"/>
                </a:cubicBezTo>
                <a:cubicBezTo>
                  <a:pt x="10269" y="7720"/>
                  <a:pt x="10062" y="7918"/>
                  <a:pt x="9922" y="7938"/>
                </a:cubicBezTo>
                <a:cubicBezTo>
                  <a:pt x="9804" y="7938"/>
                  <a:pt x="9768" y="7966"/>
                  <a:pt x="9748" y="7888"/>
                </a:cubicBezTo>
              </a:path>
              <a:path w="3028" h="894">
                <a:moveTo>
                  <a:pt x="10418" y="7491"/>
                </a:moveTo>
                <a:cubicBezTo>
                  <a:pt x="10309" y="7513"/>
                  <a:pt x="10269" y="7631"/>
                  <a:pt x="10269" y="7739"/>
                </a:cubicBezTo>
                <a:cubicBezTo>
                  <a:pt x="10269" y="7908"/>
                  <a:pt x="10417" y="8093"/>
                  <a:pt x="10592" y="7962"/>
                </a:cubicBezTo>
                <a:cubicBezTo>
                  <a:pt x="10796" y="7810"/>
                  <a:pt x="10718" y="7553"/>
                  <a:pt x="10492" y="7516"/>
                </a:cubicBezTo>
                <a:cubicBezTo>
                  <a:pt x="10451" y="7516"/>
                  <a:pt x="10409" y="7516"/>
                  <a:pt x="10368" y="75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009800" y="2678040"/>
            <a:ext cx="312480" cy="430200"/>
          </a:xfrm>
          <a:custGeom>
            <a:avLst/>
            <a:gdLst/>
            <a:ahLst/>
            <a:rect l="l" t="t" r="r" b="b"/>
            <a:pathLst>
              <a:path w="869" h="1192">
                <a:moveTo>
                  <a:pt x="3101" y="7565"/>
                </a:moveTo>
                <a:cubicBezTo>
                  <a:pt x="3205" y="7479"/>
                  <a:pt x="3290" y="7451"/>
                  <a:pt x="3423" y="7441"/>
                </a:cubicBezTo>
                <a:cubicBezTo>
                  <a:pt x="3591" y="7428"/>
                  <a:pt x="3438" y="7583"/>
                  <a:pt x="3398" y="7615"/>
                </a:cubicBezTo>
                <a:cubicBezTo>
                  <a:pt x="3429" y="7631"/>
                  <a:pt x="3588" y="7645"/>
                  <a:pt x="3547" y="7739"/>
                </a:cubicBezTo>
                <a:cubicBezTo>
                  <a:pt x="3519" y="7802"/>
                  <a:pt x="3185" y="7905"/>
                  <a:pt x="3175" y="7863"/>
                </a:cubicBezTo>
                <a:cubicBezTo>
                  <a:pt x="3192" y="7855"/>
                  <a:pt x="3208" y="7846"/>
                  <a:pt x="3225" y="7838"/>
                </a:cubicBezTo>
              </a:path>
              <a:path w="869" h="1192">
                <a:moveTo>
                  <a:pt x="2803" y="8062"/>
                </a:moveTo>
                <a:cubicBezTo>
                  <a:pt x="3077" y="8029"/>
                  <a:pt x="3347" y="8024"/>
                  <a:pt x="3621" y="8037"/>
                </a:cubicBezTo>
                <a:cubicBezTo>
                  <a:pt x="3638" y="8037"/>
                  <a:pt x="3654" y="8037"/>
                  <a:pt x="3671" y="8037"/>
                </a:cubicBezTo>
              </a:path>
              <a:path w="869" h="1192">
                <a:moveTo>
                  <a:pt x="3101" y="8210"/>
                </a:moveTo>
                <a:cubicBezTo>
                  <a:pt x="3054" y="8320"/>
                  <a:pt x="3001" y="8405"/>
                  <a:pt x="2977" y="8533"/>
                </a:cubicBezTo>
                <a:cubicBezTo>
                  <a:pt x="2957" y="8641"/>
                  <a:pt x="3194" y="8636"/>
                  <a:pt x="3249" y="8632"/>
                </a:cubicBezTo>
                <a:cubicBezTo>
                  <a:pt x="3351" y="8624"/>
                  <a:pt x="3467" y="8574"/>
                  <a:pt x="3522" y="8483"/>
                </a:cubicBezTo>
                <a:cubicBezTo>
                  <a:pt x="3522" y="8475"/>
                  <a:pt x="3522" y="8466"/>
                  <a:pt x="3522" y="8458"/>
                </a:cubicBezTo>
                <a:cubicBezTo>
                  <a:pt x="3462" y="8389"/>
                  <a:pt x="3388" y="8349"/>
                  <a:pt x="3324" y="8458"/>
                </a:cubicBezTo>
                <a:cubicBezTo>
                  <a:pt x="3294" y="8509"/>
                  <a:pt x="3240" y="8638"/>
                  <a:pt x="3299" y="8632"/>
                </a:cubicBezTo>
                <a:cubicBezTo>
                  <a:pt x="3316" y="8624"/>
                  <a:pt x="3332" y="8615"/>
                  <a:pt x="3349" y="86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71720" y="3463920"/>
            <a:ext cx="285480" cy="519120"/>
          </a:xfrm>
          <a:custGeom>
            <a:avLst/>
            <a:gdLst/>
            <a:ahLst/>
            <a:rect l="l" t="t" r="r" b="b"/>
            <a:pathLst>
              <a:path w="794" h="1440">
                <a:moveTo>
                  <a:pt x="3101" y="9723"/>
                </a:moveTo>
                <a:cubicBezTo>
                  <a:pt x="3213" y="9674"/>
                  <a:pt x="3284" y="9640"/>
                  <a:pt x="3398" y="9649"/>
                </a:cubicBezTo>
                <a:cubicBezTo>
                  <a:pt x="3391" y="9765"/>
                  <a:pt x="3388" y="9804"/>
                  <a:pt x="3324" y="9897"/>
                </a:cubicBezTo>
                <a:cubicBezTo>
                  <a:pt x="3390" y="9886"/>
                  <a:pt x="3551" y="9866"/>
                  <a:pt x="3547" y="9996"/>
                </a:cubicBezTo>
                <a:cubicBezTo>
                  <a:pt x="3543" y="10102"/>
                  <a:pt x="3274" y="10246"/>
                  <a:pt x="3200" y="10170"/>
                </a:cubicBezTo>
                <a:cubicBezTo>
                  <a:pt x="3208" y="10162"/>
                  <a:pt x="3217" y="10153"/>
                  <a:pt x="3225" y="10145"/>
                </a:cubicBezTo>
              </a:path>
              <a:path w="794" h="1440">
                <a:moveTo>
                  <a:pt x="2977" y="10344"/>
                </a:moveTo>
                <a:cubicBezTo>
                  <a:pt x="3153" y="10311"/>
                  <a:pt x="3576" y="10169"/>
                  <a:pt x="3746" y="10269"/>
                </a:cubicBezTo>
                <a:cubicBezTo>
                  <a:pt x="3746" y="10286"/>
                  <a:pt x="3746" y="10302"/>
                  <a:pt x="3746" y="10319"/>
                </a:cubicBezTo>
              </a:path>
              <a:path w="794" h="1440">
                <a:moveTo>
                  <a:pt x="3349" y="10443"/>
                </a:moveTo>
                <a:cubicBezTo>
                  <a:pt x="3326" y="10556"/>
                  <a:pt x="3284" y="10670"/>
                  <a:pt x="3274" y="10790"/>
                </a:cubicBezTo>
                <a:cubicBezTo>
                  <a:pt x="3261" y="10944"/>
                  <a:pt x="3331" y="11115"/>
                  <a:pt x="3522" y="11063"/>
                </a:cubicBezTo>
                <a:cubicBezTo>
                  <a:pt x="3661" y="11025"/>
                  <a:pt x="3768" y="10939"/>
                  <a:pt x="3746" y="10815"/>
                </a:cubicBezTo>
                <a:cubicBezTo>
                  <a:pt x="3746" y="10807"/>
                  <a:pt x="3746" y="10798"/>
                  <a:pt x="3746" y="10790"/>
                </a:cubicBezTo>
                <a:cubicBezTo>
                  <a:pt x="3607" y="10765"/>
                  <a:pt x="3558" y="10816"/>
                  <a:pt x="3522" y="10964"/>
                </a:cubicBezTo>
                <a:cubicBezTo>
                  <a:pt x="3522" y="11008"/>
                  <a:pt x="3519" y="11022"/>
                  <a:pt x="3547" y="110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116000" y="4537080"/>
            <a:ext cx="250920" cy="561960"/>
          </a:xfrm>
          <a:custGeom>
            <a:avLst/>
            <a:gdLst/>
            <a:ahLst/>
            <a:rect l="l" t="t" r="r" b="b"/>
            <a:pathLst>
              <a:path w="695" h="1563">
                <a:moveTo>
                  <a:pt x="3423" y="12601"/>
                </a:moveTo>
                <a:cubicBezTo>
                  <a:pt x="3447" y="12722"/>
                  <a:pt x="3448" y="12844"/>
                  <a:pt x="3448" y="12973"/>
                </a:cubicBezTo>
                <a:cubicBezTo>
                  <a:pt x="3448" y="13031"/>
                  <a:pt x="3448" y="13039"/>
                  <a:pt x="3448" y="13072"/>
                </a:cubicBezTo>
              </a:path>
              <a:path w="695" h="1563">
                <a:moveTo>
                  <a:pt x="3101" y="13246"/>
                </a:moveTo>
                <a:cubicBezTo>
                  <a:pt x="3327" y="13217"/>
                  <a:pt x="3542" y="13196"/>
                  <a:pt x="3770" y="13196"/>
                </a:cubicBezTo>
                <a:cubicBezTo>
                  <a:pt x="3795" y="13196"/>
                  <a:pt x="3803" y="13196"/>
                  <a:pt x="3795" y="13221"/>
                </a:cubicBezTo>
              </a:path>
              <a:path w="695" h="1563">
                <a:moveTo>
                  <a:pt x="3398" y="13494"/>
                </a:moveTo>
                <a:cubicBezTo>
                  <a:pt x="3398" y="13624"/>
                  <a:pt x="3360" y="13738"/>
                  <a:pt x="3349" y="13866"/>
                </a:cubicBezTo>
                <a:cubicBezTo>
                  <a:pt x="3342" y="13949"/>
                  <a:pt x="3335" y="14138"/>
                  <a:pt x="3448" y="14163"/>
                </a:cubicBezTo>
                <a:cubicBezTo>
                  <a:pt x="3572" y="14191"/>
                  <a:pt x="3674" y="14116"/>
                  <a:pt x="3746" y="14039"/>
                </a:cubicBezTo>
                <a:cubicBezTo>
                  <a:pt x="3800" y="13982"/>
                  <a:pt x="3795" y="13986"/>
                  <a:pt x="3795" y="13915"/>
                </a:cubicBezTo>
                <a:cubicBezTo>
                  <a:pt x="3725" y="13881"/>
                  <a:pt x="3671" y="13838"/>
                  <a:pt x="3597" y="13891"/>
                </a:cubicBezTo>
                <a:cubicBezTo>
                  <a:pt x="3510" y="13954"/>
                  <a:pt x="3522" y="14045"/>
                  <a:pt x="3522" y="14139"/>
                </a:cubicBezTo>
                <a:cubicBezTo>
                  <a:pt x="3522" y="14147"/>
                  <a:pt x="3522" y="14155"/>
                  <a:pt x="3522" y="141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59240" y="2276640"/>
            <a:ext cx="714600" cy="634680"/>
          </a:xfrm>
          <a:custGeom>
            <a:avLst/>
            <a:gdLst/>
            <a:ahLst/>
            <a:rect l="l" t="t" r="r" b="b"/>
            <a:pathLst>
              <a:path w="1985" h="1762">
                <a:moveTo>
                  <a:pt x="15156" y="6375"/>
                </a:moveTo>
                <a:cubicBezTo>
                  <a:pt x="15044" y="6454"/>
                  <a:pt x="14978" y="6491"/>
                  <a:pt x="15007" y="6623"/>
                </a:cubicBezTo>
                <a:cubicBezTo>
                  <a:pt x="15122" y="6549"/>
                  <a:pt x="15159" y="6490"/>
                  <a:pt x="15131" y="6350"/>
                </a:cubicBezTo>
                <a:cubicBezTo>
                  <a:pt x="15298" y="6320"/>
                  <a:pt x="15517" y="6313"/>
                  <a:pt x="15478" y="6573"/>
                </a:cubicBezTo>
                <a:cubicBezTo>
                  <a:pt x="15455" y="6721"/>
                  <a:pt x="15223" y="6893"/>
                  <a:pt x="15205" y="6945"/>
                </a:cubicBezTo>
              </a:path>
              <a:path w="1985" h="1762">
                <a:moveTo>
                  <a:pt x="15577" y="6846"/>
                </a:moveTo>
                <a:cubicBezTo>
                  <a:pt x="15597" y="6945"/>
                  <a:pt x="15575" y="6933"/>
                  <a:pt x="15677" y="6945"/>
                </a:cubicBezTo>
                <a:cubicBezTo>
                  <a:pt x="15662" y="6840"/>
                  <a:pt x="15676" y="6821"/>
                  <a:pt x="15577" y="6821"/>
                </a:cubicBezTo>
              </a:path>
              <a:path w="1985" h="1762">
                <a:moveTo>
                  <a:pt x="14982" y="7119"/>
                </a:moveTo>
                <a:cubicBezTo>
                  <a:pt x="15222" y="7090"/>
                  <a:pt x="15458" y="7094"/>
                  <a:pt x="15701" y="7094"/>
                </a:cubicBezTo>
                <a:cubicBezTo>
                  <a:pt x="15726" y="7094"/>
                  <a:pt x="15751" y="7094"/>
                  <a:pt x="15776" y="7094"/>
                </a:cubicBezTo>
              </a:path>
              <a:path w="1985" h="1762">
                <a:moveTo>
                  <a:pt x="15106" y="7466"/>
                </a:moveTo>
                <a:cubicBezTo>
                  <a:pt x="14992" y="7476"/>
                  <a:pt x="14806" y="7486"/>
                  <a:pt x="14709" y="7541"/>
                </a:cubicBezTo>
                <a:cubicBezTo>
                  <a:pt x="14698" y="7547"/>
                  <a:pt x="14668" y="7766"/>
                  <a:pt x="14660" y="7813"/>
                </a:cubicBezTo>
                <a:cubicBezTo>
                  <a:pt x="14785" y="7793"/>
                  <a:pt x="14939" y="7748"/>
                  <a:pt x="15056" y="7838"/>
                </a:cubicBezTo>
                <a:cubicBezTo>
                  <a:pt x="15073" y="7871"/>
                  <a:pt x="15089" y="7905"/>
                  <a:pt x="15106" y="7938"/>
                </a:cubicBezTo>
                <a:cubicBezTo>
                  <a:pt x="15001" y="8043"/>
                  <a:pt x="14769" y="8200"/>
                  <a:pt x="14610" y="8062"/>
                </a:cubicBezTo>
                <a:cubicBezTo>
                  <a:pt x="14618" y="8045"/>
                  <a:pt x="14627" y="8029"/>
                  <a:pt x="14635" y="8012"/>
                </a:cubicBezTo>
              </a:path>
              <a:path w="1985" h="1762">
                <a:moveTo>
                  <a:pt x="15429" y="7541"/>
                </a:moveTo>
                <a:cubicBezTo>
                  <a:pt x="15321" y="7600"/>
                  <a:pt x="15189" y="7781"/>
                  <a:pt x="15230" y="7938"/>
                </a:cubicBezTo>
                <a:cubicBezTo>
                  <a:pt x="15289" y="8165"/>
                  <a:pt x="15609" y="8115"/>
                  <a:pt x="15627" y="7888"/>
                </a:cubicBezTo>
                <a:cubicBezTo>
                  <a:pt x="15647" y="7637"/>
                  <a:pt x="15496" y="7621"/>
                  <a:pt x="15329" y="7565"/>
                </a:cubicBezTo>
                <a:cubicBezTo>
                  <a:pt x="15337" y="7565"/>
                  <a:pt x="15346" y="7565"/>
                  <a:pt x="15354" y="7565"/>
                </a:cubicBezTo>
              </a:path>
              <a:path w="1985" h="1762">
                <a:moveTo>
                  <a:pt x="15900" y="7417"/>
                </a:moveTo>
                <a:cubicBezTo>
                  <a:pt x="15744" y="7494"/>
                  <a:pt x="15712" y="7540"/>
                  <a:pt x="15850" y="7665"/>
                </a:cubicBezTo>
                <a:cubicBezTo>
                  <a:pt x="15969" y="7546"/>
                  <a:pt x="15951" y="7520"/>
                  <a:pt x="15875" y="7367"/>
                </a:cubicBezTo>
                <a:cubicBezTo>
                  <a:pt x="15978" y="7298"/>
                  <a:pt x="16181" y="7270"/>
                  <a:pt x="16272" y="7392"/>
                </a:cubicBezTo>
                <a:cubicBezTo>
                  <a:pt x="16412" y="7580"/>
                  <a:pt x="16151" y="7843"/>
                  <a:pt x="16073" y="7987"/>
                </a:cubicBezTo>
                <a:cubicBezTo>
                  <a:pt x="16073" y="7995"/>
                  <a:pt x="16073" y="8004"/>
                  <a:pt x="16073" y="8012"/>
                </a:cubicBezTo>
              </a:path>
              <a:path w="1985" h="1762">
                <a:moveTo>
                  <a:pt x="16520" y="7739"/>
                </a:moveTo>
                <a:cubicBezTo>
                  <a:pt x="16510" y="7757"/>
                  <a:pt x="16372" y="8007"/>
                  <a:pt x="16545" y="7938"/>
                </a:cubicBezTo>
                <a:cubicBezTo>
                  <a:pt x="16676" y="7885"/>
                  <a:pt x="16517" y="7823"/>
                  <a:pt x="16495" y="78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983280" y="2251080"/>
            <a:ext cx="803520" cy="249120"/>
          </a:xfrm>
          <a:custGeom>
            <a:avLst/>
            <a:gdLst/>
            <a:ahLst/>
            <a:rect l="l" t="t" r="r" b="b"/>
            <a:pathLst>
              <a:path w="2234" h="695">
                <a:moveTo>
                  <a:pt x="19472" y="6573"/>
                </a:moveTo>
                <a:cubicBezTo>
                  <a:pt x="19479" y="6677"/>
                  <a:pt x="19494" y="6770"/>
                  <a:pt x="19521" y="6871"/>
                </a:cubicBezTo>
                <a:cubicBezTo>
                  <a:pt x="19451" y="6748"/>
                  <a:pt x="19468" y="6613"/>
                  <a:pt x="19596" y="6524"/>
                </a:cubicBezTo>
                <a:cubicBezTo>
                  <a:pt x="19727" y="6471"/>
                  <a:pt x="19776" y="6457"/>
                  <a:pt x="19869" y="6524"/>
                </a:cubicBezTo>
              </a:path>
              <a:path w="2234" h="695">
                <a:moveTo>
                  <a:pt x="20265" y="6598"/>
                </a:moveTo>
                <a:cubicBezTo>
                  <a:pt x="20105" y="6598"/>
                  <a:pt x="20071" y="6643"/>
                  <a:pt x="19993" y="6772"/>
                </a:cubicBezTo>
                <a:cubicBezTo>
                  <a:pt x="20108" y="6797"/>
                  <a:pt x="20130" y="6759"/>
                  <a:pt x="20216" y="6672"/>
                </a:cubicBezTo>
                <a:cubicBezTo>
                  <a:pt x="20289" y="6843"/>
                  <a:pt x="20338" y="6818"/>
                  <a:pt x="20489" y="6772"/>
                </a:cubicBezTo>
              </a:path>
              <a:path w="2234" h="695">
                <a:moveTo>
                  <a:pt x="20662" y="6251"/>
                </a:moveTo>
                <a:cubicBezTo>
                  <a:pt x="20698" y="6432"/>
                  <a:pt x="20725" y="6612"/>
                  <a:pt x="20737" y="6796"/>
                </a:cubicBezTo>
              </a:path>
              <a:path w="2234" h="695">
                <a:moveTo>
                  <a:pt x="20464" y="6524"/>
                </a:moveTo>
                <a:cubicBezTo>
                  <a:pt x="20621" y="6524"/>
                  <a:pt x="20778" y="6524"/>
                  <a:pt x="20935" y="6524"/>
                </a:cubicBezTo>
                <a:cubicBezTo>
                  <a:pt x="20954" y="6608"/>
                  <a:pt x="20976" y="6688"/>
                  <a:pt x="20985" y="6772"/>
                </a:cubicBezTo>
              </a:path>
              <a:path w="2234" h="695">
                <a:moveTo>
                  <a:pt x="21059" y="6325"/>
                </a:moveTo>
                <a:lnTo>
                  <a:pt x="21059" y="6325"/>
                </a:lnTo>
                <a:lnTo>
                  <a:pt x="21059" y="6325"/>
                </a:lnTo>
              </a:path>
              <a:path w="2234" h="695">
                <a:moveTo>
                  <a:pt x="21059" y="6325"/>
                </a:moveTo>
                <a:lnTo>
                  <a:pt x="21059" y="6325"/>
                </a:lnTo>
              </a:path>
              <a:path w="2234" h="695">
                <a:moveTo>
                  <a:pt x="21431" y="6499"/>
                </a:moveTo>
                <a:cubicBezTo>
                  <a:pt x="21330" y="6610"/>
                  <a:pt x="21331" y="6606"/>
                  <a:pt x="21382" y="6747"/>
                </a:cubicBezTo>
                <a:cubicBezTo>
                  <a:pt x="21508" y="6763"/>
                  <a:pt x="21755" y="6706"/>
                  <a:pt x="21630" y="6499"/>
                </a:cubicBezTo>
                <a:cubicBezTo>
                  <a:pt x="21534" y="6451"/>
                  <a:pt x="21505" y="6434"/>
                  <a:pt x="21431" y="6449"/>
                </a:cubicBezTo>
              </a:path>
              <a:path w="2234" h="695">
                <a:moveTo>
                  <a:pt x="19397" y="6896"/>
                </a:moveTo>
                <a:cubicBezTo>
                  <a:pt x="19944" y="6896"/>
                  <a:pt x="20488" y="6905"/>
                  <a:pt x="21034" y="6921"/>
                </a:cubicBezTo>
                <a:cubicBezTo>
                  <a:pt x="21151" y="6924"/>
                  <a:pt x="21217" y="6926"/>
                  <a:pt x="21332" y="69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500960" y="4411800"/>
            <a:ext cx="27000" cy="231480"/>
          </a:xfrm>
          <a:custGeom>
            <a:avLst/>
            <a:gdLst/>
            <a:ahLst/>
            <a:rect l="l" t="t" r="r" b="b"/>
            <a:pathLst>
              <a:path w="75" h="645">
                <a:moveTo>
                  <a:pt x="20910" y="12328"/>
                </a:moveTo>
                <a:cubicBezTo>
                  <a:pt x="20910" y="12300"/>
                  <a:pt x="20908" y="12289"/>
                  <a:pt x="20886" y="12278"/>
                </a:cubicBezTo>
                <a:cubicBezTo>
                  <a:pt x="20886" y="12153"/>
                  <a:pt x="20844" y="12476"/>
                  <a:pt x="20836" y="12601"/>
                </a:cubicBezTo>
                <a:cubicBezTo>
                  <a:pt x="20830" y="12697"/>
                  <a:pt x="20836" y="12801"/>
                  <a:pt x="20836" y="128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653240" y="4419720"/>
            <a:ext cx="347760" cy="268200"/>
          </a:xfrm>
          <a:custGeom>
            <a:avLst/>
            <a:gdLst/>
            <a:ahLst/>
            <a:rect l="l" t="t" r="r" b="b"/>
            <a:pathLst>
              <a:path w="968" h="745">
                <a:moveTo>
                  <a:pt x="21332" y="12402"/>
                </a:moveTo>
                <a:cubicBezTo>
                  <a:pt x="21298" y="12459"/>
                  <a:pt x="21314" y="12516"/>
                  <a:pt x="21357" y="12452"/>
                </a:cubicBezTo>
                <a:cubicBezTo>
                  <a:pt x="21314" y="12452"/>
                  <a:pt x="21289" y="12446"/>
                  <a:pt x="21258" y="12427"/>
                </a:cubicBezTo>
              </a:path>
              <a:path w="968" h="745">
                <a:moveTo>
                  <a:pt x="21332" y="12700"/>
                </a:moveTo>
                <a:cubicBezTo>
                  <a:pt x="21332" y="12763"/>
                  <a:pt x="21313" y="12768"/>
                  <a:pt x="21382" y="12774"/>
                </a:cubicBezTo>
                <a:cubicBezTo>
                  <a:pt x="21449" y="12780"/>
                  <a:pt x="21371" y="12735"/>
                  <a:pt x="21357" y="12725"/>
                </a:cubicBezTo>
              </a:path>
              <a:path w="968" h="745">
                <a:moveTo>
                  <a:pt x="21704" y="12278"/>
                </a:moveTo>
                <a:cubicBezTo>
                  <a:pt x="21704" y="12375"/>
                  <a:pt x="21674" y="12484"/>
                  <a:pt x="21679" y="12576"/>
                </a:cubicBezTo>
                <a:cubicBezTo>
                  <a:pt x="21685" y="12700"/>
                  <a:pt x="21708" y="12857"/>
                  <a:pt x="21853" y="12898"/>
                </a:cubicBezTo>
                <a:cubicBezTo>
                  <a:pt x="21924" y="12918"/>
                  <a:pt x="22094" y="12907"/>
                  <a:pt x="22151" y="12849"/>
                </a:cubicBezTo>
                <a:cubicBezTo>
                  <a:pt x="22182" y="12818"/>
                  <a:pt x="22205" y="12740"/>
                  <a:pt x="22225" y="12700"/>
                </a:cubicBezTo>
                <a:cubicBezTo>
                  <a:pt x="22121" y="12700"/>
                  <a:pt x="21976" y="12699"/>
                  <a:pt x="21927" y="12824"/>
                </a:cubicBezTo>
                <a:cubicBezTo>
                  <a:pt x="21903" y="12887"/>
                  <a:pt x="21931" y="12966"/>
                  <a:pt x="21952" y="130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919840" y="5249880"/>
            <a:ext cx="162000" cy="295200"/>
          </a:xfrm>
          <a:custGeom>
            <a:avLst/>
            <a:gdLst/>
            <a:ahLst/>
            <a:rect l="l" t="t" r="r" b="b"/>
            <a:pathLst>
              <a:path w="447" h="820">
                <a:moveTo>
                  <a:pt x="16892" y="14610"/>
                </a:moveTo>
                <a:cubicBezTo>
                  <a:pt x="16761" y="14610"/>
                  <a:pt x="16666" y="14648"/>
                  <a:pt x="16545" y="14684"/>
                </a:cubicBezTo>
                <a:cubicBezTo>
                  <a:pt x="16537" y="14684"/>
                  <a:pt x="16528" y="14684"/>
                  <a:pt x="16520" y="14684"/>
                </a:cubicBezTo>
                <a:cubicBezTo>
                  <a:pt x="16596" y="14665"/>
                  <a:pt x="16988" y="14479"/>
                  <a:pt x="16694" y="14635"/>
                </a:cubicBezTo>
                <a:cubicBezTo>
                  <a:pt x="16575" y="14698"/>
                  <a:pt x="16500" y="14725"/>
                  <a:pt x="16446" y="14833"/>
                </a:cubicBezTo>
                <a:cubicBezTo>
                  <a:pt x="16510" y="14810"/>
                  <a:pt x="16969" y="14653"/>
                  <a:pt x="16768" y="14784"/>
                </a:cubicBezTo>
                <a:cubicBezTo>
                  <a:pt x="16616" y="14870"/>
                  <a:pt x="16579" y="14888"/>
                  <a:pt x="16495" y="14957"/>
                </a:cubicBezTo>
                <a:cubicBezTo>
                  <a:pt x="16568" y="14947"/>
                  <a:pt x="16900" y="14859"/>
                  <a:pt x="16867" y="14883"/>
                </a:cubicBezTo>
                <a:cubicBezTo>
                  <a:pt x="16815" y="14921"/>
                  <a:pt x="16456" y="15185"/>
                  <a:pt x="16570" y="15156"/>
                </a:cubicBezTo>
                <a:cubicBezTo>
                  <a:pt x="16751" y="15095"/>
                  <a:pt x="16782" y="15081"/>
                  <a:pt x="16892" y="15056"/>
                </a:cubicBezTo>
                <a:cubicBezTo>
                  <a:pt x="16778" y="15113"/>
                  <a:pt x="16688" y="15211"/>
                  <a:pt x="16594" y="15304"/>
                </a:cubicBezTo>
                <a:cubicBezTo>
                  <a:pt x="16693" y="15297"/>
                  <a:pt x="16960" y="15203"/>
                  <a:pt x="16793" y="15354"/>
                </a:cubicBezTo>
                <a:cubicBezTo>
                  <a:pt x="16689" y="15447"/>
                  <a:pt x="16727" y="15407"/>
                  <a:pt x="16842" y="153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249960" y="5330880"/>
            <a:ext cx="250920" cy="169920"/>
          </a:xfrm>
          <a:custGeom>
            <a:avLst/>
            <a:gdLst/>
            <a:ahLst/>
            <a:rect l="l" t="t" r="r" b="b"/>
            <a:pathLst>
              <a:path w="696" h="473">
                <a:moveTo>
                  <a:pt x="17438" y="14982"/>
                </a:moveTo>
                <a:cubicBezTo>
                  <a:pt x="17357" y="15110"/>
                  <a:pt x="17341" y="15161"/>
                  <a:pt x="17413" y="15280"/>
                </a:cubicBezTo>
                <a:cubicBezTo>
                  <a:pt x="17557" y="15174"/>
                  <a:pt x="17686" y="15082"/>
                  <a:pt x="17512" y="14982"/>
                </a:cubicBezTo>
                <a:cubicBezTo>
                  <a:pt x="17495" y="14974"/>
                  <a:pt x="17479" y="14965"/>
                  <a:pt x="17462" y="14957"/>
                </a:cubicBezTo>
              </a:path>
              <a:path w="696" h="473">
                <a:moveTo>
                  <a:pt x="17785" y="15081"/>
                </a:moveTo>
                <a:cubicBezTo>
                  <a:pt x="17793" y="15106"/>
                  <a:pt x="17802" y="15131"/>
                  <a:pt x="17810" y="15156"/>
                </a:cubicBezTo>
                <a:cubicBezTo>
                  <a:pt x="17810" y="15000"/>
                  <a:pt x="17833" y="14892"/>
                  <a:pt x="17983" y="14808"/>
                </a:cubicBezTo>
                <a:cubicBezTo>
                  <a:pt x="18025" y="14808"/>
                  <a:pt x="18033" y="14808"/>
                  <a:pt x="18058" y="148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670800" y="5241960"/>
            <a:ext cx="625320" cy="428760"/>
          </a:xfrm>
          <a:custGeom>
            <a:avLst/>
            <a:gdLst/>
            <a:ahLst/>
            <a:rect l="l" t="t" r="r" b="b"/>
            <a:pathLst>
              <a:path w="1737" h="1192">
                <a:moveTo>
                  <a:pt x="18579" y="14982"/>
                </a:moveTo>
                <a:cubicBezTo>
                  <a:pt x="18645" y="14982"/>
                  <a:pt x="18711" y="14982"/>
                  <a:pt x="18777" y="14982"/>
                </a:cubicBezTo>
                <a:cubicBezTo>
                  <a:pt x="18766" y="14928"/>
                  <a:pt x="18679" y="14799"/>
                  <a:pt x="18604" y="14833"/>
                </a:cubicBezTo>
                <a:cubicBezTo>
                  <a:pt x="18476" y="14891"/>
                  <a:pt x="18515" y="15179"/>
                  <a:pt x="18653" y="15205"/>
                </a:cubicBezTo>
                <a:cubicBezTo>
                  <a:pt x="18686" y="15197"/>
                  <a:pt x="18719" y="15188"/>
                  <a:pt x="18752" y="15180"/>
                </a:cubicBezTo>
              </a:path>
              <a:path w="1737" h="1192">
                <a:moveTo>
                  <a:pt x="19124" y="14883"/>
                </a:moveTo>
                <a:cubicBezTo>
                  <a:pt x="19000" y="14897"/>
                  <a:pt x="18898" y="14985"/>
                  <a:pt x="18951" y="15131"/>
                </a:cubicBezTo>
                <a:cubicBezTo>
                  <a:pt x="18999" y="15264"/>
                  <a:pt x="19120" y="14995"/>
                  <a:pt x="19124" y="14982"/>
                </a:cubicBezTo>
                <a:cubicBezTo>
                  <a:pt x="19124" y="15106"/>
                  <a:pt x="19043" y="15687"/>
                  <a:pt x="19149" y="15751"/>
                </a:cubicBezTo>
                <a:cubicBezTo>
                  <a:pt x="19166" y="15743"/>
                  <a:pt x="19182" y="15734"/>
                  <a:pt x="19199" y="15726"/>
                </a:cubicBezTo>
                <a:cubicBezTo>
                  <a:pt x="19263" y="15520"/>
                  <a:pt x="19275" y="15461"/>
                  <a:pt x="19100" y="15329"/>
                </a:cubicBezTo>
              </a:path>
              <a:path w="1737" h="1192">
                <a:moveTo>
                  <a:pt x="19372" y="15007"/>
                </a:moveTo>
                <a:cubicBezTo>
                  <a:pt x="19372" y="14924"/>
                  <a:pt x="19357" y="15124"/>
                  <a:pt x="19372" y="15205"/>
                </a:cubicBezTo>
                <a:cubicBezTo>
                  <a:pt x="19395" y="15335"/>
                  <a:pt x="19517" y="15111"/>
                  <a:pt x="19546" y="14982"/>
                </a:cubicBezTo>
                <a:cubicBezTo>
                  <a:pt x="19546" y="14965"/>
                  <a:pt x="19546" y="14949"/>
                  <a:pt x="19546" y="14932"/>
                </a:cubicBezTo>
                <a:cubicBezTo>
                  <a:pt x="19546" y="15063"/>
                  <a:pt x="19570" y="15126"/>
                  <a:pt x="19645" y="15230"/>
                </a:cubicBezTo>
              </a:path>
              <a:path w="1737" h="1192">
                <a:moveTo>
                  <a:pt x="19869" y="14858"/>
                </a:moveTo>
                <a:cubicBezTo>
                  <a:pt x="19749" y="14947"/>
                  <a:pt x="19753" y="15033"/>
                  <a:pt x="19745" y="15180"/>
                </a:cubicBezTo>
                <a:cubicBezTo>
                  <a:pt x="19931" y="15165"/>
                  <a:pt x="19924" y="15110"/>
                  <a:pt x="19943" y="14932"/>
                </a:cubicBezTo>
                <a:cubicBezTo>
                  <a:pt x="19943" y="15032"/>
                  <a:pt x="19965" y="15140"/>
                  <a:pt x="20092" y="15131"/>
                </a:cubicBezTo>
                <a:cubicBezTo>
                  <a:pt x="20117" y="15114"/>
                  <a:pt x="20141" y="15098"/>
                  <a:pt x="20166" y="15081"/>
                </a:cubicBezTo>
              </a:path>
              <a:path w="1737" h="1192">
                <a:moveTo>
                  <a:pt x="20191" y="14560"/>
                </a:moveTo>
                <a:cubicBezTo>
                  <a:pt x="20197" y="14609"/>
                  <a:pt x="20214" y="15089"/>
                  <a:pt x="20241" y="15106"/>
                </a:cubicBezTo>
                <a:cubicBezTo>
                  <a:pt x="20249" y="15098"/>
                  <a:pt x="20257" y="15089"/>
                  <a:pt x="20265" y="150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572240" y="5249880"/>
            <a:ext cx="231840" cy="189000"/>
          </a:xfrm>
          <a:custGeom>
            <a:avLst/>
            <a:gdLst/>
            <a:ahLst/>
            <a:rect l="l" t="t" r="r" b="b"/>
            <a:pathLst>
              <a:path w="646" h="522">
                <a:moveTo>
                  <a:pt x="21109" y="14585"/>
                </a:moveTo>
                <a:cubicBezTo>
                  <a:pt x="21209" y="14768"/>
                  <a:pt x="21233" y="14893"/>
                  <a:pt x="21233" y="15106"/>
                </a:cubicBezTo>
                <a:cubicBezTo>
                  <a:pt x="21233" y="15089"/>
                  <a:pt x="21233" y="15073"/>
                  <a:pt x="21233" y="15056"/>
                </a:cubicBezTo>
              </a:path>
              <a:path w="646" h="522">
                <a:moveTo>
                  <a:pt x="21034" y="14858"/>
                </a:moveTo>
                <a:cubicBezTo>
                  <a:pt x="21184" y="14834"/>
                  <a:pt x="21315" y="14810"/>
                  <a:pt x="21456" y="14759"/>
                </a:cubicBezTo>
                <a:cubicBezTo>
                  <a:pt x="21441" y="14851"/>
                  <a:pt x="21347" y="15007"/>
                  <a:pt x="21456" y="15081"/>
                </a:cubicBezTo>
                <a:cubicBezTo>
                  <a:pt x="21570" y="15081"/>
                  <a:pt x="21616" y="15073"/>
                  <a:pt x="21679" y="15007"/>
                </a:cubicBezTo>
                <a:cubicBezTo>
                  <a:pt x="21651" y="14865"/>
                  <a:pt x="21636" y="14825"/>
                  <a:pt x="21481" y="148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062920" y="5180040"/>
            <a:ext cx="135000" cy="241200"/>
          </a:xfrm>
          <a:custGeom>
            <a:avLst/>
            <a:gdLst/>
            <a:ahLst/>
            <a:rect l="l" t="t" r="r" b="b"/>
            <a:pathLst>
              <a:path w="373" h="670">
                <a:moveTo>
                  <a:pt x="22423" y="14486"/>
                </a:moveTo>
                <a:cubicBezTo>
                  <a:pt x="22398" y="14473"/>
                  <a:pt x="22549" y="14401"/>
                  <a:pt x="22597" y="14387"/>
                </a:cubicBezTo>
                <a:cubicBezTo>
                  <a:pt x="22622" y="14387"/>
                  <a:pt x="22646" y="14387"/>
                  <a:pt x="22671" y="14387"/>
                </a:cubicBezTo>
                <a:cubicBezTo>
                  <a:pt x="22690" y="14549"/>
                  <a:pt x="22683" y="14688"/>
                  <a:pt x="22498" y="14759"/>
                </a:cubicBezTo>
                <a:cubicBezTo>
                  <a:pt x="22498" y="14751"/>
                  <a:pt x="22498" y="14742"/>
                  <a:pt x="22498" y="14734"/>
                </a:cubicBezTo>
                <a:cubicBezTo>
                  <a:pt x="22660" y="14714"/>
                  <a:pt x="22838" y="14747"/>
                  <a:pt x="22721" y="14957"/>
                </a:cubicBezTo>
                <a:cubicBezTo>
                  <a:pt x="22674" y="15041"/>
                  <a:pt x="22476" y="15111"/>
                  <a:pt x="22423" y="15007"/>
                </a:cubicBezTo>
                <a:cubicBezTo>
                  <a:pt x="22407" y="14976"/>
                  <a:pt x="22467" y="15041"/>
                  <a:pt x="22498" y="150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59240" y="5749920"/>
            <a:ext cx="465120" cy="295200"/>
          </a:xfrm>
          <a:custGeom>
            <a:avLst/>
            <a:gdLst/>
            <a:ahLst/>
            <a:rect l="l" t="t" r="r" b="b"/>
            <a:pathLst>
              <a:path w="1291" h="820">
                <a:moveTo>
                  <a:pt x="14709" y="15974"/>
                </a:moveTo>
                <a:cubicBezTo>
                  <a:pt x="14709" y="16140"/>
                  <a:pt x="14664" y="16284"/>
                  <a:pt x="14635" y="16446"/>
                </a:cubicBezTo>
                <a:cubicBezTo>
                  <a:pt x="14612" y="16602"/>
                  <a:pt x="14604" y="16643"/>
                  <a:pt x="14610" y="16743"/>
                </a:cubicBezTo>
                <a:cubicBezTo>
                  <a:pt x="14759" y="16793"/>
                  <a:pt x="14908" y="16759"/>
                  <a:pt x="15032" y="16644"/>
                </a:cubicBezTo>
                <a:cubicBezTo>
                  <a:pt x="15114" y="16568"/>
                  <a:pt x="15095" y="16542"/>
                  <a:pt x="15032" y="16520"/>
                </a:cubicBezTo>
                <a:cubicBezTo>
                  <a:pt x="15011" y="16534"/>
                  <a:pt x="14782" y="16782"/>
                  <a:pt x="14858" y="16793"/>
                </a:cubicBezTo>
                <a:cubicBezTo>
                  <a:pt x="14964" y="16757"/>
                  <a:pt x="15007" y="16721"/>
                  <a:pt x="15032" y="16619"/>
                </a:cubicBezTo>
              </a:path>
              <a:path w="1291" h="820">
                <a:moveTo>
                  <a:pt x="15304" y="15974"/>
                </a:moveTo>
                <a:cubicBezTo>
                  <a:pt x="15304" y="16191"/>
                  <a:pt x="15297" y="16408"/>
                  <a:pt x="15329" y="16619"/>
                </a:cubicBezTo>
                <a:cubicBezTo>
                  <a:pt x="15329" y="16627"/>
                  <a:pt x="15329" y="16636"/>
                  <a:pt x="15329" y="16644"/>
                </a:cubicBezTo>
                <a:cubicBezTo>
                  <a:pt x="15463" y="16609"/>
                  <a:pt x="15642" y="16577"/>
                  <a:pt x="15652" y="16396"/>
                </a:cubicBezTo>
                <a:cubicBezTo>
                  <a:pt x="15644" y="16388"/>
                  <a:pt x="15635" y="16379"/>
                  <a:pt x="15627" y="16371"/>
                </a:cubicBezTo>
                <a:cubicBezTo>
                  <a:pt x="15455" y="16400"/>
                  <a:pt x="15435" y="16496"/>
                  <a:pt x="15404" y="16669"/>
                </a:cubicBezTo>
                <a:cubicBezTo>
                  <a:pt x="15404" y="16738"/>
                  <a:pt x="15422" y="16746"/>
                  <a:pt x="15503" y="16669"/>
                </a:cubicBezTo>
              </a:path>
              <a:path w="1291" h="820">
                <a:moveTo>
                  <a:pt x="15900" y="16570"/>
                </a:moveTo>
                <a:cubicBezTo>
                  <a:pt x="15900" y="16635"/>
                  <a:pt x="15900" y="16552"/>
                  <a:pt x="15900" y="165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48200" y="5796000"/>
            <a:ext cx="117720" cy="222120"/>
          </a:xfrm>
          <a:custGeom>
            <a:avLst/>
            <a:gdLst/>
            <a:ahLst/>
            <a:rect l="l" t="t" r="r" b="b"/>
            <a:pathLst>
              <a:path w="324" h="621">
                <a:moveTo>
                  <a:pt x="16272" y="16098"/>
                </a:moveTo>
                <a:cubicBezTo>
                  <a:pt x="16293" y="16245"/>
                  <a:pt x="16290" y="16395"/>
                  <a:pt x="16272" y="16545"/>
                </a:cubicBezTo>
                <a:cubicBezTo>
                  <a:pt x="16253" y="16639"/>
                  <a:pt x="16223" y="16659"/>
                  <a:pt x="16272" y="16694"/>
                </a:cubicBezTo>
                <a:cubicBezTo>
                  <a:pt x="16433" y="16706"/>
                  <a:pt x="16514" y="16656"/>
                  <a:pt x="16570" y="16495"/>
                </a:cubicBezTo>
                <a:cubicBezTo>
                  <a:pt x="16570" y="16487"/>
                  <a:pt x="16570" y="16478"/>
                  <a:pt x="16570" y="16470"/>
                </a:cubicBezTo>
                <a:cubicBezTo>
                  <a:pt x="16437" y="16492"/>
                  <a:pt x="16355" y="16556"/>
                  <a:pt x="16396" y="16718"/>
                </a:cubicBezTo>
                <a:cubicBezTo>
                  <a:pt x="16431" y="16718"/>
                  <a:pt x="16448" y="16714"/>
                  <a:pt x="16470" y="1669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81840" y="5749920"/>
            <a:ext cx="249120" cy="295200"/>
          </a:xfrm>
          <a:custGeom>
            <a:avLst/>
            <a:gdLst/>
            <a:ahLst/>
            <a:rect l="l" t="t" r="r" b="b"/>
            <a:pathLst>
              <a:path w="696" h="820">
                <a:moveTo>
                  <a:pt x="16966" y="15974"/>
                </a:moveTo>
                <a:cubicBezTo>
                  <a:pt x="16933" y="16041"/>
                  <a:pt x="16818" y="16247"/>
                  <a:pt x="16991" y="16247"/>
                </a:cubicBezTo>
                <a:cubicBezTo>
                  <a:pt x="17016" y="16239"/>
                  <a:pt x="17041" y="16230"/>
                  <a:pt x="17066" y="16222"/>
                </a:cubicBezTo>
                <a:cubicBezTo>
                  <a:pt x="17086" y="16067"/>
                  <a:pt x="17081" y="16052"/>
                  <a:pt x="16942" y="15974"/>
                </a:cubicBezTo>
                <a:cubicBezTo>
                  <a:pt x="17042" y="16025"/>
                  <a:pt x="17147" y="15962"/>
                  <a:pt x="17264" y="15974"/>
                </a:cubicBezTo>
                <a:cubicBezTo>
                  <a:pt x="17297" y="15982"/>
                  <a:pt x="17330" y="15991"/>
                  <a:pt x="17363" y="15999"/>
                </a:cubicBezTo>
                <a:cubicBezTo>
                  <a:pt x="17349" y="16211"/>
                  <a:pt x="17292" y="16395"/>
                  <a:pt x="17214" y="16594"/>
                </a:cubicBezTo>
                <a:cubicBezTo>
                  <a:pt x="17213" y="16597"/>
                  <a:pt x="17072" y="16836"/>
                  <a:pt x="17140" y="16768"/>
                </a:cubicBezTo>
              </a:path>
              <a:path w="696" h="820">
                <a:moveTo>
                  <a:pt x="17413" y="16570"/>
                </a:moveTo>
                <a:cubicBezTo>
                  <a:pt x="17393" y="16647"/>
                  <a:pt x="17369" y="16665"/>
                  <a:pt x="17413" y="16694"/>
                </a:cubicBezTo>
                <a:cubicBezTo>
                  <a:pt x="17496" y="16680"/>
                  <a:pt x="17519" y="16676"/>
                  <a:pt x="17587" y="16619"/>
                </a:cubicBezTo>
                <a:cubicBezTo>
                  <a:pt x="17506" y="16592"/>
                  <a:pt x="17474" y="16584"/>
                  <a:pt x="17413" y="1659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562880" y="5634000"/>
            <a:ext cx="501480" cy="501840"/>
          </a:xfrm>
          <a:custGeom>
            <a:avLst/>
            <a:gdLst/>
            <a:ahLst/>
            <a:rect l="l" t="t" r="r" b="b"/>
            <a:pathLst>
              <a:path w="1390" h="1390">
                <a:moveTo>
                  <a:pt x="21134" y="15850"/>
                </a:moveTo>
                <a:cubicBezTo>
                  <a:pt x="21109" y="15937"/>
                  <a:pt x="21063" y="16022"/>
                  <a:pt x="21010" y="16098"/>
                </a:cubicBezTo>
                <a:cubicBezTo>
                  <a:pt x="21112" y="16080"/>
                  <a:pt x="21207" y="16059"/>
                  <a:pt x="21258" y="15974"/>
                </a:cubicBezTo>
              </a:path>
              <a:path w="1390" h="1390">
                <a:moveTo>
                  <a:pt x="21258" y="15801"/>
                </a:moveTo>
                <a:cubicBezTo>
                  <a:pt x="21223" y="15973"/>
                  <a:pt x="21073" y="16458"/>
                  <a:pt x="21183" y="16321"/>
                </a:cubicBezTo>
                <a:cubicBezTo>
                  <a:pt x="21191" y="16288"/>
                  <a:pt x="21200" y="16255"/>
                  <a:pt x="21208" y="16222"/>
                </a:cubicBezTo>
              </a:path>
              <a:path w="1390" h="1390">
                <a:moveTo>
                  <a:pt x="21580" y="15925"/>
                </a:moveTo>
                <a:cubicBezTo>
                  <a:pt x="21580" y="15933"/>
                  <a:pt x="21580" y="15941"/>
                  <a:pt x="21580" y="15949"/>
                </a:cubicBezTo>
              </a:path>
              <a:path w="1390" h="1390">
                <a:moveTo>
                  <a:pt x="21506" y="16123"/>
                </a:moveTo>
                <a:cubicBezTo>
                  <a:pt x="21539" y="16106"/>
                  <a:pt x="21572" y="16090"/>
                  <a:pt x="21605" y="16073"/>
                </a:cubicBezTo>
              </a:path>
              <a:path w="1390" h="1390">
                <a:moveTo>
                  <a:pt x="21605" y="16073"/>
                </a:moveTo>
                <a:lnTo>
                  <a:pt x="21605" y="16073"/>
                </a:lnTo>
              </a:path>
              <a:path w="1390" h="1390">
                <a:moveTo>
                  <a:pt x="22002" y="15652"/>
                </a:moveTo>
                <a:cubicBezTo>
                  <a:pt x="22025" y="15810"/>
                  <a:pt x="21973" y="15942"/>
                  <a:pt x="21977" y="16098"/>
                </a:cubicBezTo>
                <a:cubicBezTo>
                  <a:pt x="21983" y="16340"/>
                  <a:pt x="22280" y="16151"/>
                  <a:pt x="22349" y="16073"/>
                </a:cubicBezTo>
                <a:cubicBezTo>
                  <a:pt x="22390" y="15992"/>
                  <a:pt x="22427" y="15959"/>
                  <a:pt x="22349" y="15974"/>
                </a:cubicBezTo>
                <a:cubicBezTo>
                  <a:pt x="22264" y="16068"/>
                  <a:pt x="22277" y="16144"/>
                  <a:pt x="22225" y="16247"/>
                </a:cubicBezTo>
              </a:path>
              <a:path w="1390" h="1390">
                <a:moveTo>
                  <a:pt x="21208" y="16644"/>
                </a:moveTo>
                <a:cubicBezTo>
                  <a:pt x="21265" y="16587"/>
                  <a:pt x="21292" y="16568"/>
                  <a:pt x="21357" y="16570"/>
                </a:cubicBezTo>
                <a:cubicBezTo>
                  <a:pt x="21446" y="16750"/>
                  <a:pt x="21387" y="16875"/>
                  <a:pt x="21233" y="17016"/>
                </a:cubicBezTo>
                <a:cubicBezTo>
                  <a:pt x="21216" y="17024"/>
                  <a:pt x="21200" y="17033"/>
                  <a:pt x="21183" y="17041"/>
                </a:cubicBezTo>
                <a:cubicBezTo>
                  <a:pt x="21150" y="16892"/>
                  <a:pt x="21185" y="16881"/>
                  <a:pt x="21332" y="16942"/>
                </a:cubicBezTo>
                <a:cubicBezTo>
                  <a:pt x="21406" y="16973"/>
                  <a:pt x="21439" y="17024"/>
                  <a:pt x="21456" y="16991"/>
                </a:cubicBezTo>
              </a:path>
              <a:path w="1390" h="1390">
                <a:moveTo>
                  <a:pt x="21704" y="16619"/>
                </a:moveTo>
                <a:cubicBezTo>
                  <a:pt x="21704" y="16627"/>
                  <a:pt x="21704" y="16636"/>
                  <a:pt x="21704" y="16644"/>
                </a:cubicBezTo>
              </a:path>
              <a:path w="1390" h="1390">
                <a:moveTo>
                  <a:pt x="21754" y="16818"/>
                </a:moveTo>
                <a:cubicBezTo>
                  <a:pt x="21746" y="16818"/>
                  <a:pt x="21737" y="16818"/>
                  <a:pt x="21729" y="16818"/>
                </a:cubicBezTo>
              </a:path>
              <a:path w="1390" h="1390">
                <a:moveTo>
                  <a:pt x="21729" y="16818"/>
                </a:moveTo>
                <a:lnTo>
                  <a:pt x="21729" y="16818"/>
                </a:lnTo>
              </a:path>
              <a:path w="1390" h="1390">
                <a:moveTo>
                  <a:pt x="21952" y="16619"/>
                </a:moveTo>
                <a:cubicBezTo>
                  <a:pt x="21972" y="16542"/>
                  <a:pt x="22097" y="16495"/>
                  <a:pt x="22175" y="16495"/>
                </a:cubicBezTo>
                <a:cubicBezTo>
                  <a:pt x="22175" y="16503"/>
                  <a:pt x="22175" y="16512"/>
                  <a:pt x="22175" y="16520"/>
                </a:cubicBezTo>
                <a:cubicBezTo>
                  <a:pt x="22157" y="16609"/>
                  <a:pt x="22108" y="16656"/>
                  <a:pt x="22076" y="16718"/>
                </a:cubicBezTo>
                <a:cubicBezTo>
                  <a:pt x="22116" y="16692"/>
                  <a:pt x="22327" y="16626"/>
                  <a:pt x="22275" y="16768"/>
                </a:cubicBezTo>
                <a:cubicBezTo>
                  <a:pt x="22241" y="16862"/>
                  <a:pt x="22096" y="16915"/>
                  <a:pt x="22027" y="168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884320" y="4143240"/>
            <a:ext cx="1108080" cy="393840"/>
          </a:xfrm>
          <a:custGeom>
            <a:avLst/>
            <a:gdLst/>
            <a:ahLst/>
            <a:rect l="l" t="t" r="r" b="b"/>
            <a:pathLst>
              <a:path w="3077" h="1093">
                <a:moveTo>
                  <a:pt x="8334" y="11807"/>
                </a:moveTo>
                <a:cubicBezTo>
                  <a:pt x="8334" y="11949"/>
                  <a:pt x="8355" y="12087"/>
                  <a:pt x="8359" y="12229"/>
                </a:cubicBezTo>
                <a:cubicBezTo>
                  <a:pt x="8359" y="12270"/>
                  <a:pt x="8351" y="12286"/>
                  <a:pt x="8384" y="12278"/>
                </a:cubicBezTo>
              </a:path>
              <a:path w="3077" h="1093">
                <a:moveTo>
                  <a:pt x="8682" y="11733"/>
                </a:moveTo>
                <a:cubicBezTo>
                  <a:pt x="8682" y="11863"/>
                  <a:pt x="8639" y="12070"/>
                  <a:pt x="8731" y="12179"/>
                </a:cubicBezTo>
                <a:cubicBezTo>
                  <a:pt x="8814" y="12278"/>
                  <a:pt x="9035" y="12167"/>
                  <a:pt x="9079" y="12080"/>
                </a:cubicBezTo>
                <a:cubicBezTo>
                  <a:pt x="9079" y="12055"/>
                  <a:pt x="9079" y="12030"/>
                  <a:pt x="9079" y="12005"/>
                </a:cubicBezTo>
                <a:cubicBezTo>
                  <a:pt x="8958" y="11955"/>
                  <a:pt x="8842" y="12001"/>
                  <a:pt x="8830" y="12154"/>
                </a:cubicBezTo>
                <a:cubicBezTo>
                  <a:pt x="8854" y="12202"/>
                  <a:pt x="8860" y="12219"/>
                  <a:pt x="8905" y="12204"/>
                </a:cubicBezTo>
              </a:path>
              <a:path w="3077" h="1093">
                <a:moveTo>
                  <a:pt x="9252" y="11658"/>
                </a:moveTo>
                <a:cubicBezTo>
                  <a:pt x="9252" y="11775"/>
                  <a:pt x="9236" y="11976"/>
                  <a:pt x="9302" y="12080"/>
                </a:cubicBezTo>
                <a:cubicBezTo>
                  <a:pt x="9420" y="12266"/>
                  <a:pt x="9611" y="12029"/>
                  <a:pt x="9674" y="11956"/>
                </a:cubicBezTo>
                <a:cubicBezTo>
                  <a:pt x="9699" y="11931"/>
                  <a:pt x="9707" y="11923"/>
                  <a:pt x="9674" y="11906"/>
                </a:cubicBezTo>
                <a:cubicBezTo>
                  <a:pt x="9654" y="11919"/>
                  <a:pt x="9428" y="12179"/>
                  <a:pt x="9550" y="12179"/>
                </a:cubicBezTo>
                <a:cubicBezTo>
                  <a:pt x="9575" y="12162"/>
                  <a:pt x="9599" y="12146"/>
                  <a:pt x="9624" y="12129"/>
                </a:cubicBezTo>
              </a:path>
              <a:path w="3077" h="1093">
                <a:moveTo>
                  <a:pt x="8012" y="12353"/>
                </a:moveTo>
                <a:cubicBezTo>
                  <a:pt x="8012" y="12394"/>
                  <a:pt x="8012" y="12402"/>
                  <a:pt x="8012" y="12427"/>
                </a:cubicBezTo>
                <a:cubicBezTo>
                  <a:pt x="8055" y="12427"/>
                  <a:pt x="8027" y="12402"/>
                  <a:pt x="8062" y="12378"/>
                </a:cubicBezTo>
                <a:cubicBezTo>
                  <a:pt x="8070" y="12378"/>
                  <a:pt x="8078" y="12378"/>
                  <a:pt x="8086" y="12378"/>
                </a:cubicBezTo>
              </a:path>
              <a:path w="3077" h="1093">
                <a:moveTo>
                  <a:pt x="9897" y="11658"/>
                </a:moveTo>
                <a:cubicBezTo>
                  <a:pt x="9923" y="11762"/>
                  <a:pt x="9933" y="11866"/>
                  <a:pt x="9947" y="11981"/>
                </a:cubicBezTo>
                <a:cubicBezTo>
                  <a:pt x="9968" y="12152"/>
                  <a:pt x="10112" y="12243"/>
                  <a:pt x="10269" y="12105"/>
                </a:cubicBezTo>
                <a:cubicBezTo>
                  <a:pt x="10360" y="12025"/>
                  <a:pt x="10359" y="11962"/>
                  <a:pt x="10319" y="11881"/>
                </a:cubicBezTo>
                <a:cubicBezTo>
                  <a:pt x="10221" y="11940"/>
                  <a:pt x="10169" y="12013"/>
                  <a:pt x="10269" y="12080"/>
                </a:cubicBezTo>
              </a:path>
              <a:path w="3077" h="1093">
                <a:moveTo>
                  <a:pt x="10691" y="11509"/>
                </a:moveTo>
                <a:cubicBezTo>
                  <a:pt x="10691" y="11618"/>
                  <a:pt x="10629" y="11949"/>
                  <a:pt x="10790" y="11981"/>
                </a:cubicBezTo>
                <a:cubicBezTo>
                  <a:pt x="10919" y="12007"/>
                  <a:pt x="11019" y="11856"/>
                  <a:pt x="11088" y="11782"/>
                </a:cubicBezTo>
                <a:cubicBezTo>
                  <a:pt x="11088" y="11766"/>
                  <a:pt x="11088" y="11749"/>
                  <a:pt x="11088" y="11733"/>
                </a:cubicBezTo>
                <a:cubicBezTo>
                  <a:pt x="10941" y="11801"/>
                  <a:pt x="10842" y="11866"/>
                  <a:pt x="10988" y="11981"/>
                </a:cubicBezTo>
              </a:path>
              <a:path w="3077" h="1093">
                <a:moveTo>
                  <a:pt x="8062" y="12452"/>
                </a:moveTo>
                <a:cubicBezTo>
                  <a:pt x="8069" y="12473"/>
                  <a:pt x="8102" y="12533"/>
                  <a:pt x="8136" y="12551"/>
                </a:cubicBezTo>
                <a:cubicBezTo>
                  <a:pt x="8222" y="12597"/>
                  <a:pt x="8337" y="12622"/>
                  <a:pt x="8434" y="12601"/>
                </a:cubicBezTo>
                <a:cubicBezTo>
                  <a:pt x="8473" y="12592"/>
                  <a:pt x="8561" y="12563"/>
                  <a:pt x="8582" y="12526"/>
                </a:cubicBezTo>
                <a:cubicBezTo>
                  <a:pt x="8601" y="12492"/>
                  <a:pt x="8577" y="12484"/>
                  <a:pt x="8558" y="12477"/>
                </a:cubicBezTo>
                <a:cubicBezTo>
                  <a:pt x="8618" y="12477"/>
                  <a:pt x="8650" y="12517"/>
                  <a:pt x="8706" y="12526"/>
                </a:cubicBezTo>
                <a:cubicBezTo>
                  <a:pt x="8791" y="12540"/>
                  <a:pt x="8877" y="12530"/>
                  <a:pt x="8954" y="12502"/>
                </a:cubicBezTo>
                <a:cubicBezTo>
                  <a:pt x="9058" y="12464"/>
                  <a:pt x="9024" y="12490"/>
                  <a:pt x="9079" y="12427"/>
                </a:cubicBezTo>
                <a:cubicBezTo>
                  <a:pt x="9104" y="12398"/>
                  <a:pt x="9125" y="12380"/>
                  <a:pt x="9128" y="12353"/>
                </a:cubicBezTo>
                <a:cubicBezTo>
                  <a:pt x="9133" y="12312"/>
                  <a:pt x="9153" y="12334"/>
                  <a:pt x="9153" y="12278"/>
                </a:cubicBezTo>
                <a:cubicBezTo>
                  <a:pt x="9145" y="12311"/>
                  <a:pt x="9113" y="12390"/>
                  <a:pt x="9203" y="12353"/>
                </a:cubicBezTo>
                <a:cubicBezTo>
                  <a:pt x="9266" y="12311"/>
                  <a:pt x="9291" y="12307"/>
                  <a:pt x="9277" y="12254"/>
                </a:cubicBezTo>
                <a:cubicBezTo>
                  <a:pt x="9216" y="12217"/>
                  <a:pt x="9167" y="12202"/>
                  <a:pt x="9153" y="12278"/>
                </a:cubicBezTo>
                <a:cubicBezTo>
                  <a:pt x="9138" y="12359"/>
                  <a:pt x="9217" y="12315"/>
                  <a:pt x="9227" y="12254"/>
                </a:cubicBezTo>
                <a:cubicBezTo>
                  <a:pt x="9227" y="12246"/>
                  <a:pt x="9227" y="12237"/>
                  <a:pt x="9227" y="12229"/>
                </a:cubicBezTo>
                <a:cubicBezTo>
                  <a:pt x="9165" y="12229"/>
                  <a:pt x="9141" y="12240"/>
                  <a:pt x="9128" y="12303"/>
                </a:cubicBezTo>
                <a:cubicBezTo>
                  <a:pt x="9199" y="12289"/>
                  <a:pt x="9185" y="12291"/>
                  <a:pt x="9203" y="12229"/>
                </a:cubicBezTo>
                <a:cubicBezTo>
                  <a:pt x="9124" y="12260"/>
                  <a:pt x="9146" y="12334"/>
                  <a:pt x="9178" y="12303"/>
                </a:cubicBezTo>
                <a:cubicBezTo>
                  <a:pt x="9186" y="12287"/>
                  <a:pt x="9195" y="12270"/>
                  <a:pt x="9203" y="122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4960" y="4589640"/>
            <a:ext cx="536400" cy="312480"/>
          </a:xfrm>
          <a:custGeom>
            <a:avLst/>
            <a:gdLst/>
            <a:ahLst/>
            <a:rect l="l" t="t" r="r" b="b"/>
            <a:pathLst>
              <a:path w="1489" h="869">
                <a:moveTo>
                  <a:pt x="8012" y="13494"/>
                </a:moveTo>
                <a:cubicBezTo>
                  <a:pt x="8012" y="13545"/>
                  <a:pt x="8011" y="13564"/>
                  <a:pt x="7987" y="13593"/>
                </a:cubicBezTo>
                <a:cubicBezTo>
                  <a:pt x="8037" y="13604"/>
                  <a:pt x="8161" y="13585"/>
                  <a:pt x="8136" y="13543"/>
                </a:cubicBezTo>
                <a:cubicBezTo>
                  <a:pt x="8119" y="13527"/>
                  <a:pt x="8103" y="13510"/>
                  <a:pt x="8086" y="13494"/>
                </a:cubicBezTo>
              </a:path>
              <a:path w="1489" h="869">
                <a:moveTo>
                  <a:pt x="8582" y="13047"/>
                </a:moveTo>
                <a:cubicBezTo>
                  <a:pt x="8582" y="13239"/>
                  <a:pt x="8570" y="13427"/>
                  <a:pt x="8558" y="13618"/>
                </a:cubicBezTo>
                <a:cubicBezTo>
                  <a:pt x="8558" y="13610"/>
                  <a:pt x="8558" y="13601"/>
                  <a:pt x="8558" y="13593"/>
                </a:cubicBezTo>
              </a:path>
              <a:path w="1489" h="869">
                <a:moveTo>
                  <a:pt x="8880" y="13022"/>
                </a:moveTo>
                <a:cubicBezTo>
                  <a:pt x="8907" y="13129"/>
                  <a:pt x="8889" y="13195"/>
                  <a:pt x="8880" y="13320"/>
                </a:cubicBezTo>
                <a:cubicBezTo>
                  <a:pt x="8869" y="13476"/>
                  <a:pt x="8952" y="13584"/>
                  <a:pt x="9128" y="13568"/>
                </a:cubicBezTo>
                <a:cubicBezTo>
                  <a:pt x="9233" y="13558"/>
                  <a:pt x="9498" y="13502"/>
                  <a:pt x="9475" y="13345"/>
                </a:cubicBezTo>
                <a:cubicBezTo>
                  <a:pt x="9453" y="13195"/>
                  <a:pt x="9303" y="13315"/>
                  <a:pt x="9252" y="13370"/>
                </a:cubicBezTo>
                <a:cubicBezTo>
                  <a:pt x="9178" y="13450"/>
                  <a:pt x="9208" y="13468"/>
                  <a:pt x="9227" y="13543"/>
                </a:cubicBezTo>
              </a:path>
              <a:path w="1489" h="869">
                <a:moveTo>
                  <a:pt x="8806" y="12799"/>
                </a:moveTo>
                <a:cubicBezTo>
                  <a:pt x="8908" y="12829"/>
                  <a:pt x="9058" y="12784"/>
                  <a:pt x="9178" y="12774"/>
                </a:cubicBezTo>
                <a:cubicBezTo>
                  <a:pt x="9324" y="12761"/>
                  <a:pt x="9267" y="12774"/>
                  <a:pt x="9128" y="12774"/>
                </a:cubicBezTo>
                <a:cubicBezTo>
                  <a:pt x="9012" y="12774"/>
                  <a:pt x="8979" y="12774"/>
                  <a:pt x="8905" y="12774"/>
                </a:cubicBezTo>
                <a:cubicBezTo>
                  <a:pt x="8828" y="12774"/>
                  <a:pt x="8875" y="12774"/>
                  <a:pt x="8930" y="12774"/>
                </a:cubicBezTo>
                <a:cubicBezTo>
                  <a:pt x="8959" y="12774"/>
                  <a:pt x="9466" y="12718"/>
                  <a:pt x="9178" y="12774"/>
                </a:cubicBezTo>
                <a:cubicBezTo>
                  <a:pt x="9054" y="12795"/>
                  <a:pt x="9030" y="12803"/>
                  <a:pt x="8954" y="12799"/>
                </a:cubicBezTo>
                <a:cubicBezTo>
                  <a:pt x="9081" y="12799"/>
                  <a:pt x="9201" y="12782"/>
                  <a:pt x="9327" y="127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160960" y="4545000"/>
            <a:ext cx="420840" cy="233280"/>
          </a:xfrm>
          <a:custGeom>
            <a:avLst/>
            <a:gdLst/>
            <a:ahLst/>
            <a:rect l="l" t="t" r="r" b="b"/>
            <a:pathLst>
              <a:path w="1167" h="646">
                <a:moveTo>
                  <a:pt x="14387" y="12626"/>
                </a:moveTo>
                <a:lnTo>
                  <a:pt x="14387" y="12626"/>
                </a:lnTo>
                <a:lnTo>
                  <a:pt x="14387" y="12849"/>
                </a:lnTo>
                <a:lnTo>
                  <a:pt x="14362" y="13047"/>
                </a:lnTo>
                <a:lnTo>
                  <a:pt x="14337" y="13196"/>
                </a:lnTo>
                <a:lnTo>
                  <a:pt x="14337" y="13271"/>
                </a:lnTo>
                <a:lnTo>
                  <a:pt x="14337" y="13246"/>
                </a:lnTo>
              </a:path>
              <a:path w="1167" h="646">
                <a:moveTo>
                  <a:pt x="14610" y="12650"/>
                </a:moveTo>
                <a:cubicBezTo>
                  <a:pt x="14651" y="12651"/>
                  <a:pt x="14647" y="12809"/>
                  <a:pt x="14635" y="12898"/>
                </a:cubicBezTo>
                <a:cubicBezTo>
                  <a:pt x="14629" y="12941"/>
                  <a:pt x="14570" y="13125"/>
                  <a:pt x="14610" y="13171"/>
                </a:cubicBezTo>
                <a:cubicBezTo>
                  <a:pt x="14688" y="13260"/>
                  <a:pt x="14892" y="13226"/>
                  <a:pt x="14982" y="13171"/>
                </a:cubicBezTo>
                <a:cubicBezTo>
                  <a:pt x="15053" y="13127"/>
                  <a:pt x="15134" y="13063"/>
                  <a:pt x="15106" y="12973"/>
                </a:cubicBezTo>
                <a:cubicBezTo>
                  <a:pt x="15074" y="12871"/>
                  <a:pt x="14918" y="12873"/>
                  <a:pt x="14858" y="12948"/>
                </a:cubicBezTo>
                <a:cubicBezTo>
                  <a:pt x="14778" y="13046"/>
                  <a:pt x="14810" y="13121"/>
                  <a:pt x="14833" y="13221"/>
                </a:cubicBezTo>
                <a:cubicBezTo>
                  <a:pt x="14833" y="13229"/>
                  <a:pt x="14833" y="13238"/>
                  <a:pt x="14833" y="13246"/>
                </a:cubicBezTo>
              </a:path>
              <a:path w="1167" h="646">
                <a:moveTo>
                  <a:pt x="15478" y="13196"/>
                </a:moveTo>
                <a:cubicBezTo>
                  <a:pt x="15434" y="13152"/>
                  <a:pt x="15442" y="13284"/>
                  <a:pt x="15478" y="13271"/>
                </a:cubicBezTo>
                <a:cubicBezTo>
                  <a:pt x="15513" y="13258"/>
                  <a:pt x="15503" y="13224"/>
                  <a:pt x="15503" y="13196"/>
                </a:cubicBezTo>
                <a:cubicBezTo>
                  <a:pt x="15460" y="13228"/>
                  <a:pt x="15427" y="13237"/>
                  <a:pt x="15478" y="132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715000" y="4429080"/>
            <a:ext cx="473040" cy="303120"/>
          </a:xfrm>
          <a:custGeom>
            <a:avLst/>
            <a:gdLst/>
            <a:ahLst/>
            <a:rect l="l" t="t" r="r" b="b"/>
            <a:pathLst>
              <a:path w="1316" h="844">
                <a:moveTo>
                  <a:pt x="15925" y="12576"/>
                </a:moveTo>
                <a:cubicBezTo>
                  <a:pt x="15925" y="12645"/>
                  <a:pt x="15913" y="12733"/>
                  <a:pt x="15900" y="12799"/>
                </a:cubicBezTo>
                <a:cubicBezTo>
                  <a:pt x="15887" y="12864"/>
                  <a:pt x="15852" y="12953"/>
                  <a:pt x="15875" y="13022"/>
                </a:cubicBezTo>
                <a:cubicBezTo>
                  <a:pt x="15897" y="13086"/>
                  <a:pt x="15923" y="13133"/>
                  <a:pt x="15999" y="13146"/>
                </a:cubicBezTo>
                <a:cubicBezTo>
                  <a:pt x="16067" y="13158"/>
                  <a:pt x="16143" y="13150"/>
                  <a:pt x="16197" y="13122"/>
                </a:cubicBezTo>
                <a:cubicBezTo>
                  <a:pt x="16262" y="13088"/>
                  <a:pt x="16302" y="13084"/>
                  <a:pt x="16321" y="12998"/>
                </a:cubicBezTo>
                <a:cubicBezTo>
                  <a:pt x="16334" y="12938"/>
                  <a:pt x="16297" y="12890"/>
                  <a:pt x="16247" y="12874"/>
                </a:cubicBezTo>
                <a:cubicBezTo>
                  <a:pt x="16193" y="12857"/>
                  <a:pt x="16163" y="12885"/>
                  <a:pt x="16123" y="12898"/>
                </a:cubicBezTo>
                <a:cubicBezTo>
                  <a:pt x="16078" y="12912"/>
                  <a:pt x="16052" y="12969"/>
                  <a:pt x="16049" y="13022"/>
                </a:cubicBezTo>
                <a:cubicBezTo>
                  <a:pt x="16045" y="13077"/>
                  <a:pt x="16073" y="13092"/>
                  <a:pt x="16073" y="13146"/>
                </a:cubicBezTo>
              </a:path>
              <a:path w="1316" h="844">
                <a:moveTo>
                  <a:pt x="16470" y="12452"/>
                </a:moveTo>
                <a:cubicBezTo>
                  <a:pt x="16541" y="12428"/>
                  <a:pt x="16462" y="12434"/>
                  <a:pt x="16470" y="12502"/>
                </a:cubicBezTo>
                <a:cubicBezTo>
                  <a:pt x="16485" y="12624"/>
                  <a:pt x="16677" y="12630"/>
                  <a:pt x="16694" y="12502"/>
                </a:cubicBezTo>
                <a:cubicBezTo>
                  <a:pt x="16710" y="12384"/>
                  <a:pt x="16624" y="12382"/>
                  <a:pt x="16545" y="12353"/>
                </a:cubicBezTo>
                <a:cubicBezTo>
                  <a:pt x="16537" y="12353"/>
                  <a:pt x="16528" y="12353"/>
                  <a:pt x="16520" y="12353"/>
                </a:cubicBezTo>
                <a:cubicBezTo>
                  <a:pt x="16656" y="12458"/>
                  <a:pt x="16726" y="12424"/>
                  <a:pt x="16867" y="12328"/>
                </a:cubicBezTo>
                <a:cubicBezTo>
                  <a:pt x="16951" y="12271"/>
                  <a:pt x="16989" y="12290"/>
                  <a:pt x="17016" y="12378"/>
                </a:cubicBezTo>
                <a:cubicBezTo>
                  <a:pt x="17078" y="12577"/>
                  <a:pt x="16881" y="12822"/>
                  <a:pt x="16793" y="12998"/>
                </a:cubicBezTo>
                <a:cubicBezTo>
                  <a:pt x="16756" y="13072"/>
                  <a:pt x="16710" y="13103"/>
                  <a:pt x="16768" y="13122"/>
                </a:cubicBezTo>
              </a:path>
              <a:path w="1316" h="844">
                <a:moveTo>
                  <a:pt x="17090" y="12898"/>
                </a:moveTo>
                <a:cubicBezTo>
                  <a:pt x="17078" y="12961"/>
                  <a:pt x="17026" y="13019"/>
                  <a:pt x="17115" y="13047"/>
                </a:cubicBezTo>
                <a:cubicBezTo>
                  <a:pt x="17232" y="13084"/>
                  <a:pt x="17183" y="12953"/>
                  <a:pt x="17115" y="129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983280" y="2589120"/>
            <a:ext cx="125640" cy="125640"/>
          </a:xfrm>
          <a:custGeom>
            <a:avLst/>
            <a:gdLst/>
            <a:ahLst/>
            <a:rect l="l" t="t" r="r" b="b"/>
            <a:pathLst>
              <a:path w="349" h="349">
                <a:moveTo>
                  <a:pt x="19397" y="7243"/>
                </a:moveTo>
                <a:cubicBezTo>
                  <a:pt x="19429" y="7230"/>
                  <a:pt x="19714" y="7123"/>
                  <a:pt x="19621" y="7268"/>
                </a:cubicBezTo>
                <a:cubicBezTo>
                  <a:pt x="19555" y="7311"/>
                  <a:pt x="19540" y="7322"/>
                  <a:pt x="19496" y="7342"/>
                </a:cubicBezTo>
                <a:cubicBezTo>
                  <a:pt x="19567" y="7342"/>
                  <a:pt x="19730" y="7340"/>
                  <a:pt x="19745" y="7441"/>
                </a:cubicBezTo>
                <a:cubicBezTo>
                  <a:pt x="19760" y="7542"/>
                  <a:pt x="19488" y="7537"/>
                  <a:pt x="19447" y="7541"/>
                </a:cubicBezTo>
                <a:cubicBezTo>
                  <a:pt x="19414" y="7508"/>
                  <a:pt x="19414" y="7491"/>
                  <a:pt x="19472" y="74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180200" y="260820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9943" y="7243"/>
                </a:moveTo>
                <a:lnTo>
                  <a:pt x="19943" y="7243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170840" y="267012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9918" y="7417"/>
                </a:moveTo>
                <a:lnTo>
                  <a:pt x="19918" y="7417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269120" y="2581200"/>
            <a:ext cx="115920" cy="115920"/>
          </a:xfrm>
          <a:custGeom>
            <a:avLst/>
            <a:gdLst/>
            <a:ahLst/>
            <a:rect l="l" t="t" r="r" b="b"/>
            <a:pathLst>
              <a:path w="323" h="323">
                <a:moveTo>
                  <a:pt x="20191" y="7169"/>
                </a:moveTo>
                <a:cubicBezTo>
                  <a:pt x="20191" y="7243"/>
                  <a:pt x="20166" y="7375"/>
                  <a:pt x="20216" y="7441"/>
                </a:cubicBezTo>
                <a:cubicBezTo>
                  <a:pt x="20268" y="7510"/>
                  <a:pt x="20513" y="7455"/>
                  <a:pt x="20513" y="7367"/>
                </a:cubicBezTo>
                <a:cubicBezTo>
                  <a:pt x="20513" y="7256"/>
                  <a:pt x="20345" y="7481"/>
                  <a:pt x="20340" y="74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062840" y="2795760"/>
            <a:ext cx="19080" cy="106200"/>
          </a:xfrm>
          <a:custGeom>
            <a:avLst/>
            <a:gdLst/>
            <a:ahLst/>
            <a:rect l="l" t="t" r="r" b="b"/>
            <a:pathLst>
              <a:path w="50" h="299">
                <a:moveTo>
                  <a:pt x="19645" y="7764"/>
                </a:moveTo>
                <a:cubicBezTo>
                  <a:pt x="19645" y="7857"/>
                  <a:pt x="19626" y="7945"/>
                  <a:pt x="19621" y="8037"/>
                </a:cubicBezTo>
                <a:cubicBezTo>
                  <a:pt x="19621" y="8077"/>
                  <a:pt x="19632" y="8075"/>
                  <a:pt x="19670" y="80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180200" y="27957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9943" y="7764"/>
                </a:moveTo>
                <a:lnTo>
                  <a:pt x="19943" y="7764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205760" y="2867040"/>
            <a:ext cx="1440" cy="7920"/>
          </a:xfrm>
          <a:custGeom>
            <a:avLst/>
            <a:gdLst/>
            <a:ahLst/>
            <a:rect l="l" t="t" r="r" b="b"/>
            <a:pathLst>
              <a:path w="1" h="26">
                <a:moveTo>
                  <a:pt x="20017" y="7962"/>
                </a:moveTo>
                <a:cubicBezTo>
                  <a:pt x="20017" y="7970"/>
                  <a:pt x="20017" y="7979"/>
                  <a:pt x="20017" y="79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205760" y="28749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0017" y="7987"/>
                </a:moveTo>
                <a:lnTo>
                  <a:pt x="20017" y="7987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296120" y="2776680"/>
            <a:ext cx="125280" cy="107640"/>
          </a:xfrm>
          <a:custGeom>
            <a:avLst/>
            <a:gdLst/>
            <a:ahLst/>
            <a:rect l="l" t="t" r="r" b="b"/>
            <a:pathLst>
              <a:path w="349" h="299">
                <a:moveTo>
                  <a:pt x="20290" y="7764"/>
                </a:moveTo>
                <a:cubicBezTo>
                  <a:pt x="20367" y="7744"/>
                  <a:pt x="20385" y="7752"/>
                  <a:pt x="20414" y="7714"/>
                </a:cubicBezTo>
                <a:cubicBezTo>
                  <a:pt x="20414" y="7841"/>
                  <a:pt x="20350" y="7862"/>
                  <a:pt x="20290" y="7962"/>
                </a:cubicBezTo>
                <a:cubicBezTo>
                  <a:pt x="20290" y="7990"/>
                  <a:pt x="20288" y="8001"/>
                  <a:pt x="20265" y="8012"/>
                </a:cubicBezTo>
                <a:cubicBezTo>
                  <a:pt x="20381" y="8012"/>
                  <a:pt x="20497" y="8012"/>
                  <a:pt x="20613" y="80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95320" y="5786280"/>
            <a:ext cx="125640" cy="125640"/>
          </a:xfrm>
          <a:custGeom>
            <a:avLst/>
            <a:gdLst/>
            <a:ahLst/>
            <a:rect l="l" t="t" r="r" b="b"/>
            <a:pathLst>
              <a:path w="348" h="349">
                <a:moveTo>
                  <a:pt x="5060" y="16073"/>
                </a:moveTo>
                <a:cubicBezTo>
                  <a:pt x="5060" y="16179"/>
                  <a:pt x="5050" y="16271"/>
                  <a:pt x="5011" y="16371"/>
                </a:cubicBezTo>
                <a:cubicBezTo>
                  <a:pt x="5003" y="16388"/>
                  <a:pt x="4994" y="16404"/>
                  <a:pt x="4986" y="16421"/>
                </a:cubicBezTo>
                <a:cubicBezTo>
                  <a:pt x="5099" y="16421"/>
                  <a:pt x="5198" y="16391"/>
                  <a:pt x="5308" y="16371"/>
                </a:cubicBezTo>
                <a:cubicBezTo>
                  <a:pt x="5336" y="16371"/>
                  <a:pt x="5342" y="16369"/>
                  <a:pt x="5308" y="163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84240" y="5742000"/>
            <a:ext cx="9720" cy="231840"/>
          </a:xfrm>
          <a:custGeom>
            <a:avLst/>
            <a:gdLst/>
            <a:ahLst/>
            <a:rect l="l" t="t" r="r" b="b"/>
            <a:pathLst>
              <a:path w="26" h="646">
                <a:moveTo>
                  <a:pt x="5234" y="15949"/>
                </a:moveTo>
                <a:cubicBezTo>
                  <a:pt x="5234" y="16137"/>
                  <a:pt x="5288" y="16422"/>
                  <a:pt x="5259" y="16594"/>
                </a:cubicBezTo>
                <a:cubicBezTo>
                  <a:pt x="5251" y="16594"/>
                  <a:pt x="5242" y="16594"/>
                  <a:pt x="5234" y="1659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714680" y="6027840"/>
            <a:ext cx="277560" cy="36360"/>
          </a:xfrm>
          <a:custGeom>
            <a:avLst/>
            <a:gdLst/>
            <a:ahLst/>
            <a:rect l="l" t="t" r="r" b="b"/>
            <a:pathLst>
              <a:path w="770" h="100">
                <a:moveTo>
                  <a:pt x="4762" y="16842"/>
                </a:moveTo>
                <a:cubicBezTo>
                  <a:pt x="4991" y="16795"/>
                  <a:pt x="5296" y="16698"/>
                  <a:pt x="5531" y="16743"/>
                </a:cubicBezTo>
                <a:cubicBezTo>
                  <a:pt x="5531" y="16751"/>
                  <a:pt x="5531" y="16760"/>
                  <a:pt x="5531" y="167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830240" y="6089760"/>
            <a:ext cx="162000" cy="206280"/>
          </a:xfrm>
          <a:custGeom>
            <a:avLst/>
            <a:gdLst/>
            <a:ahLst/>
            <a:rect l="l" t="t" r="r" b="b"/>
            <a:pathLst>
              <a:path w="447" h="571">
                <a:moveTo>
                  <a:pt x="5135" y="16917"/>
                </a:moveTo>
                <a:cubicBezTo>
                  <a:pt x="5157" y="17030"/>
                  <a:pt x="5134" y="17120"/>
                  <a:pt x="5110" y="17239"/>
                </a:cubicBezTo>
                <a:cubicBezTo>
                  <a:pt x="5087" y="17352"/>
                  <a:pt x="5069" y="17483"/>
                  <a:pt x="5234" y="17487"/>
                </a:cubicBezTo>
                <a:cubicBezTo>
                  <a:pt x="5361" y="17490"/>
                  <a:pt x="5461" y="17383"/>
                  <a:pt x="5507" y="17289"/>
                </a:cubicBezTo>
                <a:cubicBezTo>
                  <a:pt x="5536" y="17230"/>
                  <a:pt x="5486" y="17151"/>
                  <a:pt x="5407" y="17190"/>
                </a:cubicBezTo>
                <a:cubicBezTo>
                  <a:pt x="5318" y="17234"/>
                  <a:pt x="5308" y="17329"/>
                  <a:pt x="5308" y="17413"/>
                </a:cubicBezTo>
                <a:cubicBezTo>
                  <a:pt x="5308" y="17460"/>
                  <a:pt x="5326" y="17456"/>
                  <a:pt x="5383" y="173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160720" y="5973840"/>
            <a:ext cx="98280" cy="19080"/>
          </a:xfrm>
          <a:custGeom>
            <a:avLst/>
            <a:gdLst/>
            <a:ahLst/>
            <a:rect l="l" t="t" r="r" b="b"/>
            <a:pathLst>
              <a:path w="274" h="51">
                <a:moveTo>
                  <a:pt x="6003" y="16594"/>
                </a:moveTo>
                <a:cubicBezTo>
                  <a:pt x="6102" y="16594"/>
                  <a:pt x="6259" y="16544"/>
                  <a:pt x="6276" y="166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170080" y="6062760"/>
            <a:ext cx="71640" cy="9360"/>
          </a:xfrm>
          <a:custGeom>
            <a:avLst/>
            <a:gdLst/>
            <a:ahLst/>
            <a:rect l="l" t="t" r="r" b="b"/>
            <a:pathLst>
              <a:path w="199" h="26">
                <a:moveTo>
                  <a:pt x="6028" y="16867"/>
                </a:moveTo>
                <a:cubicBezTo>
                  <a:pt x="6106" y="16867"/>
                  <a:pt x="6155" y="16866"/>
                  <a:pt x="6226" y="168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394000" y="5786280"/>
            <a:ext cx="142920" cy="179640"/>
          </a:xfrm>
          <a:custGeom>
            <a:avLst/>
            <a:gdLst/>
            <a:ahLst/>
            <a:rect l="l" t="t" r="r" b="b"/>
            <a:pathLst>
              <a:path w="398" h="498">
                <a:moveTo>
                  <a:pt x="6672" y="16197"/>
                </a:moveTo>
                <a:cubicBezTo>
                  <a:pt x="6692" y="16117"/>
                  <a:pt x="6763" y="16085"/>
                  <a:pt x="6846" y="16073"/>
                </a:cubicBezTo>
                <a:cubicBezTo>
                  <a:pt x="6879" y="16073"/>
                  <a:pt x="6912" y="16073"/>
                  <a:pt x="6945" y="16073"/>
                </a:cubicBezTo>
                <a:cubicBezTo>
                  <a:pt x="6961" y="16259"/>
                  <a:pt x="6837" y="16409"/>
                  <a:pt x="6697" y="16545"/>
                </a:cubicBezTo>
                <a:cubicBezTo>
                  <a:pt x="6681" y="16553"/>
                  <a:pt x="6664" y="16562"/>
                  <a:pt x="6648" y="16570"/>
                </a:cubicBezTo>
                <a:cubicBezTo>
                  <a:pt x="6774" y="16554"/>
                  <a:pt x="6897" y="16520"/>
                  <a:pt x="7020" y="16495"/>
                </a:cubicBezTo>
                <a:cubicBezTo>
                  <a:pt x="7028" y="16495"/>
                  <a:pt x="7037" y="16495"/>
                  <a:pt x="7045" y="164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367000" y="6037200"/>
            <a:ext cx="214200" cy="54000"/>
          </a:xfrm>
          <a:custGeom>
            <a:avLst/>
            <a:gdLst/>
            <a:ahLst/>
            <a:rect l="l" t="t" r="r" b="b"/>
            <a:pathLst>
              <a:path w="597" h="150">
                <a:moveTo>
                  <a:pt x="6573" y="16917"/>
                </a:moveTo>
                <a:cubicBezTo>
                  <a:pt x="6721" y="16861"/>
                  <a:pt x="6881" y="16791"/>
                  <a:pt x="7045" y="16768"/>
                </a:cubicBezTo>
                <a:cubicBezTo>
                  <a:pt x="7136" y="16768"/>
                  <a:pt x="7177" y="16735"/>
                  <a:pt x="7169" y="167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419200" y="6170760"/>
            <a:ext cx="135000" cy="187200"/>
          </a:xfrm>
          <a:custGeom>
            <a:avLst/>
            <a:gdLst/>
            <a:ahLst/>
            <a:rect l="l" t="t" r="r" b="b"/>
            <a:pathLst>
              <a:path w="373" h="522">
                <a:moveTo>
                  <a:pt x="6772" y="17239"/>
                </a:moveTo>
                <a:cubicBezTo>
                  <a:pt x="6793" y="17215"/>
                  <a:pt x="7001" y="17062"/>
                  <a:pt x="7020" y="17165"/>
                </a:cubicBezTo>
                <a:cubicBezTo>
                  <a:pt x="6995" y="17288"/>
                  <a:pt x="6987" y="17329"/>
                  <a:pt x="6921" y="17388"/>
                </a:cubicBezTo>
                <a:cubicBezTo>
                  <a:pt x="6904" y="17405"/>
                  <a:pt x="6888" y="17421"/>
                  <a:pt x="6871" y="17438"/>
                </a:cubicBezTo>
                <a:cubicBezTo>
                  <a:pt x="6977" y="17398"/>
                  <a:pt x="6992" y="17369"/>
                  <a:pt x="7094" y="17413"/>
                </a:cubicBezTo>
                <a:cubicBezTo>
                  <a:pt x="6996" y="17570"/>
                  <a:pt x="6938" y="17641"/>
                  <a:pt x="6747" y="17661"/>
                </a:cubicBezTo>
                <a:cubicBezTo>
                  <a:pt x="6739" y="17661"/>
                  <a:pt x="6730" y="17661"/>
                  <a:pt x="6722" y="176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367080" y="6045120"/>
            <a:ext cx="54000" cy="54000"/>
          </a:xfrm>
          <a:custGeom>
            <a:avLst/>
            <a:gdLst/>
            <a:ahLst/>
            <a:rect l="l" t="t" r="r" b="b"/>
            <a:pathLst>
              <a:path w="150" h="150">
                <a:moveTo>
                  <a:pt x="9351" y="16867"/>
                </a:moveTo>
                <a:cubicBezTo>
                  <a:pt x="9374" y="16867"/>
                  <a:pt x="9351" y="16875"/>
                  <a:pt x="9351" y="16942"/>
                </a:cubicBezTo>
                <a:cubicBezTo>
                  <a:pt x="9453" y="16916"/>
                  <a:pt x="9465" y="16922"/>
                  <a:pt x="9500" y="16818"/>
                </a:cubicBezTo>
                <a:cubicBezTo>
                  <a:pt x="9442" y="16818"/>
                  <a:pt x="9351" y="16867"/>
                  <a:pt x="9401" y="1691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517920" y="5840280"/>
            <a:ext cx="206280" cy="250920"/>
          </a:xfrm>
          <a:custGeom>
            <a:avLst/>
            <a:gdLst/>
            <a:ahLst/>
            <a:rect l="l" t="t" r="r" b="b"/>
            <a:pathLst>
              <a:path w="572" h="696">
                <a:moveTo>
                  <a:pt x="9872" y="16222"/>
                </a:moveTo>
                <a:cubicBezTo>
                  <a:pt x="9872" y="16335"/>
                  <a:pt x="9831" y="16413"/>
                  <a:pt x="9798" y="16520"/>
                </a:cubicBezTo>
                <a:cubicBezTo>
                  <a:pt x="9767" y="16620"/>
                  <a:pt x="9767" y="16720"/>
                  <a:pt x="9798" y="16818"/>
                </a:cubicBezTo>
                <a:cubicBezTo>
                  <a:pt x="9825" y="16902"/>
                  <a:pt x="9942" y="16929"/>
                  <a:pt x="10021" y="16917"/>
                </a:cubicBezTo>
                <a:cubicBezTo>
                  <a:pt x="10109" y="16904"/>
                  <a:pt x="10235" y="16862"/>
                  <a:pt x="10294" y="16793"/>
                </a:cubicBezTo>
                <a:cubicBezTo>
                  <a:pt x="10329" y="16752"/>
                  <a:pt x="10344" y="16696"/>
                  <a:pt x="10344" y="16644"/>
                </a:cubicBezTo>
                <a:cubicBezTo>
                  <a:pt x="10331" y="16642"/>
                  <a:pt x="10188" y="16593"/>
                  <a:pt x="10170" y="16619"/>
                </a:cubicBezTo>
                <a:cubicBezTo>
                  <a:pt x="10134" y="16671"/>
                  <a:pt x="10101" y="16768"/>
                  <a:pt x="10096" y="16842"/>
                </a:cubicBezTo>
                <a:cubicBezTo>
                  <a:pt x="10093" y="16880"/>
                  <a:pt x="10109" y="16857"/>
                  <a:pt x="10120" y="168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490920" y="5732640"/>
            <a:ext cx="162000" cy="26640"/>
          </a:xfrm>
          <a:custGeom>
            <a:avLst/>
            <a:gdLst/>
            <a:ahLst/>
            <a:rect l="l" t="t" r="r" b="b"/>
            <a:pathLst>
              <a:path w="447" h="75">
                <a:moveTo>
                  <a:pt x="9723" y="15974"/>
                </a:moveTo>
                <a:cubicBezTo>
                  <a:pt x="9648" y="15948"/>
                  <a:pt x="9749" y="15953"/>
                  <a:pt x="9773" y="15949"/>
                </a:cubicBezTo>
                <a:cubicBezTo>
                  <a:pt x="9885" y="15929"/>
                  <a:pt x="10058" y="15944"/>
                  <a:pt x="9798" y="15974"/>
                </a:cubicBezTo>
                <a:cubicBezTo>
                  <a:pt x="9621" y="15994"/>
                  <a:pt x="9862" y="15952"/>
                  <a:pt x="9897" y="15949"/>
                </a:cubicBezTo>
                <a:cubicBezTo>
                  <a:pt x="10171" y="15928"/>
                  <a:pt x="9895" y="15955"/>
                  <a:pt x="9823" y="15949"/>
                </a:cubicBezTo>
                <a:cubicBezTo>
                  <a:pt x="9806" y="15949"/>
                  <a:pt x="9790" y="15949"/>
                  <a:pt x="9773" y="15949"/>
                </a:cubicBezTo>
                <a:cubicBezTo>
                  <a:pt x="9889" y="15949"/>
                  <a:pt x="10028" y="15841"/>
                  <a:pt x="10071" y="15949"/>
                </a:cubicBezTo>
                <a:cubicBezTo>
                  <a:pt x="10085" y="15985"/>
                  <a:pt x="9787" y="15970"/>
                  <a:pt x="9748" y="15999"/>
                </a:cubicBezTo>
                <a:cubicBezTo>
                  <a:pt x="9675" y="16054"/>
                  <a:pt x="9930" y="15986"/>
                  <a:pt x="10021" y="15974"/>
                </a:cubicBezTo>
                <a:cubicBezTo>
                  <a:pt x="10371" y="15898"/>
                  <a:pt x="9827" y="15974"/>
                  <a:pt x="9823" y="15974"/>
                </a:cubicBezTo>
                <a:cubicBezTo>
                  <a:pt x="9582" y="15989"/>
                  <a:pt x="9819" y="15974"/>
                  <a:pt x="9847" y="15974"/>
                </a:cubicBezTo>
                <a:cubicBezTo>
                  <a:pt x="9865" y="15971"/>
                  <a:pt x="10258" y="15899"/>
                  <a:pt x="9996" y="15949"/>
                </a:cubicBezTo>
                <a:cubicBezTo>
                  <a:pt x="9898" y="15968"/>
                  <a:pt x="10080" y="15953"/>
                  <a:pt x="10120" y="159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14800" y="6510240"/>
            <a:ext cx="36360" cy="34920"/>
          </a:xfrm>
          <a:custGeom>
            <a:avLst/>
            <a:gdLst/>
            <a:ahLst/>
            <a:rect l="l" t="t" r="r" b="b"/>
            <a:pathLst>
              <a:path w="100" h="100">
                <a:moveTo>
                  <a:pt x="8979" y="18107"/>
                </a:moveTo>
                <a:cubicBezTo>
                  <a:pt x="8934" y="18078"/>
                  <a:pt x="8941" y="18123"/>
                  <a:pt x="8930" y="18182"/>
                </a:cubicBezTo>
                <a:cubicBezTo>
                  <a:pt x="9000" y="18168"/>
                  <a:pt x="9039" y="18117"/>
                  <a:pt x="9029" y="18132"/>
                </a:cubicBezTo>
                <a:cubicBezTo>
                  <a:pt x="9021" y="18140"/>
                  <a:pt x="9012" y="18149"/>
                  <a:pt x="9004" y="181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357720" y="6367320"/>
            <a:ext cx="107640" cy="204840"/>
          </a:xfrm>
          <a:custGeom>
            <a:avLst/>
            <a:gdLst/>
            <a:ahLst/>
            <a:rect l="l" t="t" r="r" b="b"/>
            <a:pathLst>
              <a:path w="298" h="571">
                <a:moveTo>
                  <a:pt x="9475" y="17686"/>
                </a:moveTo>
                <a:cubicBezTo>
                  <a:pt x="9428" y="17799"/>
                  <a:pt x="9268" y="18086"/>
                  <a:pt x="9327" y="18207"/>
                </a:cubicBezTo>
                <a:cubicBezTo>
                  <a:pt x="9343" y="18207"/>
                  <a:pt x="9360" y="18207"/>
                  <a:pt x="9376" y="18207"/>
                </a:cubicBezTo>
                <a:cubicBezTo>
                  <a:pt x="9514" y="18146"/>
                  <a:pt x="9543" y="18114"/>
                  <a:pt x="9624" y="17983"/>
                </a:cubicBezTo>
                <a:cubicBezTo>
                  <a:pt x="9517" y="17966"/>
                  <a:pt x="9431" y="18107"/>
                  <a:pt x="9426" y="18231"/>
                </a:cubicBezTo>
                <a:cubicBezTo>
                  <a:pt x="9482" y="18287"/>
                  <a:pt x="9529" y="18276"/>
                  <a:pt x="9599" y="1818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527280" y="6384960"/>
            <a:ext cx="125640" cy="179280"/>
          </a:xfrm>
          <a:custGeom>
            <a:avLst/>
            <a:gdLst/>
            <a:ahLst/>
            <a:rect l="l" t="t" r="r" b="b"/>
            <a:pathLst>
              <a:path w="348" h="497">
                <a:moveTo>
                  <a:pt x="9872" y="17735"/>
                </a:moveTo>
                <a:cubicBezTo>
                  <a:pt x="9847" y="17887"/>
                  <a:pt x="9807" y="18025"/>
                  <a:pt x="9798" y="18182"/>
                </a:cubicBezTo>
                <a:cubicBezTo>
                  <a:pt x="9798" y="18198"/>
                  <a:pt x="9798" y="18215"/>
                  <a:pt x="9798" y="18231"/>
                </a:cubicBezTo>
                <a:cubicBezTo>
                  <a:pt x="9979" y="18195"/>
                  <a:pt x="10059" y="18144"/>
                  <a:pt x="10145" y="17983"/>
                </a:cubicBezTo>
                <a:cubicBezTo>
                  <a:pt x="10067" y="17984"/>
                  <a:pt x="9876" y="18065"/>
                  <a:pt x="9947" y="18207"/>
                </a:cubicBezTo>
                <a:cubicBezTo>
                  <a:pt x="9963" y="18215"/>
                  <a:pt x="9980" y="18223"/>
                  <a:pt x="9996" y="182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705120" y="6375240"/>
            <a:ext cx="108000" cy="169920"/>
          </a:xfrm>
          <a:custGeom>
            <a:avLst/>
            <a:gdLst/>
            <a:ahLst/>
            <a:rect l="l" t="t" r="r" b="b"/>
            <a:pathLst>
              <a:path w="299" h="472">
                <a:moveTo>
                  <a:pt x="10344" y="17711"/>
                </a:moveTo>
                <a:cubicBezTo>
                  <a:pt x="10329" y="17814"/>
                  <a:pt x="10246" y="18096"/>
                  <a:pt x="10319" y="18182"/>
                </a:cubicBezTo>
                <a:cubicBezTo>
                  <a:pt x="10335" y="18182"/>
                  <a:pt x="10352" y="18182"/>
                  <a:pt x="10368" y="18182"/>
                </a:cubicBezTo>
                <a:cubicBezTo>
                  <a:pt x="10440" y="18150"/>
                  <a:pt x="10736" y="17985"/>
                  <a:pt x="10567" y="17859"/>
                </a:cubicBezTo>
                <a:cubicBezTo>
                  <a:pt x="10550" y="17867"/>
                  <a:pt x="10534" y="17876"/>
                  <a:pt x="10517" y="17884"/>
                </a:cubicBezTo>
                <a:cubicBezTo>
                  <a:pt x="10432" y="18029"/>
                  <a:pt x="10351" y="18129"/>
                  <a:pt x="10542" y="1818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75040" y="6367320"/>
            <a:ext cx="135000" cy="223920"/>
          </a:xfrm>
          <a:custGeom>
            <a:avLst/>
            <a:gdLst/>
            <a:ahLst/>
            <a:rect l="l" t="t" r="r" b="b"/>
            <a:pathLst>
              <a:path w="373" h="621">
                <a:moveTo>
                  <a:pt x="10864" y="17686"/>
                </a:moveTo>
                <a:cubicBezTo>
                  <a:pt x="10801" y="17850"/>
                  <a:pt x="10745" y="18027"/>
                  <a:pt x="10765" y="18207"/>
                </a:cubicBezTo>
                <a:cubicBezTo>
                  <a:pt x="10773" y="18232"/>
                  <a:pt x="10782" y="18256"/>
                  <a:pt x="10790" y="18281"/>
                </a:cubicBezTo>
                <a:cubicBezTo>
                  <a:pt x="10967" y="18222"/>
                  <a:pt x="11067" y="18196"/>
                  <a:pt x="11137" y="18008"/>
                </a:cubicBezTo>
                <a:cubicBezTo>
                  <a:pt x="11029" y="18107"/>
                  <a:pt x="10983" y="18159"/>
                  <a:pt x="11038" y="183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identify the probability of an event as a decimal, fraction, percent and ratio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ressing your resul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ce you get your results as a fraction you can express them as a decimal or as a percent. Lets practic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) The probability of an event 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 this to a decimal and then to a perc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ive:  Students will identify the probability of an event as a decimal, fraction, percent and rat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ndsey is practicing her basketball shooting. She took 25 practice shots and her results are listed bel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de Missed Missed Made Made Missed Made Made Missd Missed Missed Made Made Made Made Made Missed Made Missed Made Made Made Missed Made Mi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sed on the results, what is the experimental probability she will make the next sho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30200" y="5419800"/>
            <a:ext cx="5867640" cy="411120"/>
          </a:xfrm>
          <a:custGeom>
            <a:avLst/>
            <a:gdLst/>
            <a:ahLst/>
            <a:rect l="l" t="t" r="r" b="b"/>
            <a:pathLst>
              <a:path w="16298" h="1142">
                <a:moveTo>
                  <a:pt x="15652" y="15056"/>
                </a:moveTo>
                <a:cubicBezTo>
                  <a:pt x="15910" y="15077"/>
                  <a:pt x="16161" y="15081"/>
                  <a:pt x="16421" y="15081"/>
                </a:cubicBezTo>
                <a:cubicBezTo>
                  <a:pt x="16876" y="15081"/>
                  <a:pt x="17329" y="15106"/>
                  <a:pt x="17785" y="15106"/>
                </a:cubicBezTo>
                <a:cubicBezTo>
                  <a:pt x="18414" y="15106"/>
                  <a:pt x="19042" y="15103"/>
                  <a:pt x="19670" y="15081"/>
                </a:cubicBezTo>
                <a:cubicBezTo>
                  <a:pt x="19777" y="15077"/>
                  <a:pt x="19886" y="15081"/>
                  <a:pt x="19993" y="15081"/>
                </a:cubicBezTo>
              </a:path>
              <a:path w="16298" h="1142">
                <a:moveTo>
                  <a:pt x="3696" y="16197"/>
                </a:moveTo>
                <a:cubicBezTo>
                  <a:pt x="3968" y="16175"/>
                  <a:pt x="4240" y="16166"/>
                  <a:pt x="4514" y="16148"/>
                </a:cubicBezTo>
                <a:cubicBezTo>
                  <a:pt x="4986" y="16117"/>
                  <a:pt x="5456" y="16123"/>
                  <a:pt x="5928" y="16123"/>
                </a:cubicBezTo>
                <a:cubicBezTo>
                  <a:pt x="6314" y="16123"/>
                  <a:pt x="6685" y="16070"/>
                  <a:pt x="7069" y="16049"/>
                </a:cubicBezTo>
                <a:cubicBezTo>
                  <a:pt x="7185" y="16043"/>
                  <a:pt x="7282" y="16036"/>
                  <a:pt x="7392" y="16024"/>
                </a:cubicBezTo>
                <a:cubicBezTo>
                  <a:pt x="7513" y="16011"/>
                  <a:pt x="7684" y="16029"/>
                  <a:pt x="7764" y="16049"/>
                </a:cubicBezTo>
              </a:path>
              <a:path w="16298" h="1142">
                <a:moveTo>
                  <a:pt x="10368" y="16173"/>
                </a:moveTo>
                <a:cubicBezTo>
                  <a:pt x="10433" y="16187"/>
                  <a:pt x="10486" y="16175"/>
                  <a:pt x="10567" y="16173"/>
                </a:cubicBezTo>
                <a:cubicBezTo>
                  <a:pt x="10735" y="16169"/>
                  <a:pt x="10897" y="16152"/>
                  <a:pt x="11063" y="16148"/>
                </a:cubicBezTo>
                <a:cubicBezTo>
                  <a:pt x="11183" y="16145"/>
                  <a:pt x="11291" y="16126"/>
                  <a:pt x="11410" y="16123"/>
                </a:cubicBezTo>
                <a:cubicBezTo>
                  <a:pt x="11640" y="16118"/>
                  <a:pt x="11877" y="16096"/>
                  <a:pt x="12105" y="16073"/>
                </a:cubicBezTo>
                <a:cubicBezTo>
                  <a:pt x="12335" y="16050"/>
                  <a:pt x="12568" y="16029"/>
                  <a:pt x="12799" y="16024"/>
                </a:cubicBezTo>
                <a:cubicBezTo>
                  <a:pt x="12958" y="16021"/>
                  <a:pt x="13111" y="15999"/>
                  <a:pt x="13271" y="15999"/>
                </a:cubicBezTo>
                <a:cubicBezTo>
                  <a:pt x="13392" y="15999"/>
                  <a:pt x="13494" y="16002"/>
                  <a:pt x="13618" y="15999"/>
                </a:cubicBezTo>
                <a:cubicBezTo>
                  <a:pt x="13731" y="15996"/>
                  <a:pt x="13835" y="16014"/>
                  <a:pt x="13940" y="16024"/>
                </a:cubicBezTo>
                <a:cubicBezTo>
                  <a:pt x="13982" y="16024"/>
                  <a:pt x="13990" y="16024"/>
                  <a:pt x="14015" y="160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000" y="1160640"/>
            <a:ext cx="1616040" cy="1304640"/>
          </a:xfrm>
          <a:custGeom>
            <a:avLst/>
            <a:gdLst/>
            <a:ahLst/>
            <a:rect l="l" t="t" r="r" b="b"/>
            <a:pathLst>
              <a:path w="4491" h="3622">
                <a:moveTo>
                  <a:pt x="695" y="4787"/>
                </a:moveTo>
                <a:cubicBezTo>
                  <a:pt x="715" y="4726"/>
                  <a:pt x="713" y="4712"/>
                  <a:pt x="744" y="4688"/>
                </a:cubicBezTo>
                <a:cubicBezTo>
                  <a:pt x="772" y="4853"/>
                  <a:pt x="847" y="5016"/>
                  <a:pt x="868" y="5184"/>
                </a:cubicBezTo>
                <a:cubicBezTo>
                  <a:pt x="884" y="5313"/>
                  <a:pt x="862" y="5314"/>
                  <a:pt x="843" y="5407"/>
                </a:cubicBezTo>
              </a:path>
              <a:path w="4491" h="3622">
                <a:moveTo>
                  <a:pt x="471" y="5680"/>
                </a:moveTo>
                <a:cubicBezTo>
                  <a:pt x="551" y="5639"/>
                  <a:pt x="1113" y="5270"/>
                  <a:pt x="1191" y="5358"/>
                </a:cubicBezTo>
                <a:cubicBezTo>
                  <a:pt x="1183" y="5374"/>
                  <a:pt x="1174" y="5391"/>
                  <a:pt x="1166" y="5407"/>
                </a:cubicBezTo>
              </a:path>
              <a:path w="4491" h="3622">
                <a:moveTo>
                  <a:pt x="819" y="5879"/>
                </a:moveTo>
                <a:cubicBezTo>
                  <a:pt x="938" y="5774"/>
                  <a:pt x="1045" y="5714"/>
                  <a:pt x="1191" y="5655"/>
                </a:cubicBezTo>
                <a:cubicBezTo>
                  <a:pt x="1143" y="5911"/>
                  <a:pt x="987" y="6095"/>
                  <a:pt x="868" y="6325"/>
                </a:cubicBezTo>
                <a:cubicBezTo>
                  <a:pt x="852" y="6366"/>
                  <a:pt x="835" y="6408"/>
                  <a:pt x="819" y="6449"/>
                </a:cubicBezTo>
                <a:cubicBezTo>
                  <a:pt x="957" y="6373"/>
                  <a:pt x="1093" y="6284"/>
                  <a:pt x="1240" y="6226"/>
                </a:cubicBezTo>
                <a:cubicBezTo>
                  <a:pt x="1259" y="6218"/>
                  <a:pt x="1323" y="6226"/>
                  <a:pt x="1339" y="6226"/>
                </a:cubicBezTo>
              </a:path>
              <a:path w="4491" h="3622">
                <a:moveTo>
                  <a:pt x="347" y="6598"/>
                </a:moveTo>
                <a:cubicBezTo>
                  <a:pt x="521" y="6820"/>
                  <a:pt x="694" y="6873"/>
                  <a:pt x="992" y="6846"/>
                </a:cubicBezTo>
                <a:cubicBezTo>
                  <a:pt x="1334" y="6815"/>
                  <a:pt x="1579" y="6643"/>
                  <a:pt x="1712" y="6325"/>
                </a:cubicBezTo>
                <a:cubicBezTo>
                  <a:pt x="1902" y="5870"/>
                  <a:pt x="1842" y="5430"/>
                  <a:pt x="1662" y="4986"/>
                </a:cubicBezTo>
                <a:cubicBezTo>
                  <a:pt x="1567" y="4750"/>
                  <a:pt x="1401" y="4467"/>
                  <a:pt x="1191" y="4316"/>
                </a:cubicBezTo>
                <a:cubicBezTo>
                  <a:pt x="1034" y="4203"/>
                  <a:pt x="857" y="4267"/>
                  <a:pt x="695" y="4341"/>
                </a:cubicBezTo>
                <a:cubicBezTo>
                  <a:pt x="434" y="4460"/>
                  <a:pt x="173" y="4618"/>
                  <a:pt x="99" y="4911"/>
                </a:cubicBezTo>
                <a:cubicBezTo>
                  <a:pt x="18" y="5235"/>
                  <a:pt x="88" y="5725"/>
                  <a:pt x="124" y="6052"/>
                </a:cubicBezTo>
                <a:cubicBezTo>
                  <a:pt x="157" y="6359"/>
                  <a:pt x="299" y="6540"/>
                  <a:pt x="595" y="6623"/>
                </a:cubicBezTo>
                <a:cubicBezTo>
                  <a:pt x="629" y="6633"/>
                  <a:pt x="824" y="6668"/>
                  <a:pt x="843" y="6672"/>
                </a:cubicBezTo>
              </a:path>
              <a:path w="4491" h="3622">
                <a:moveTo>
                  <a:pt x="1712" y="3473"/>
                </a:moveTo>
                <a:cubicBezTo>
                  <a:pt x="1854" y="3415"/>
                  <a:pt x="1980" y="3401"/>
                  <a:pt x="2133" y="3398"/>
                </a:cubicBezTo>
                <a:cubicBezTo>
                  <a:pt x="2430" y="3392"/>
                  <a:pt x="2787" y="3348"/>
                  <a:pt x="3076" y="3373"/>
                </a:cubicBezTo>
                <a:cubicBezTo>
                  <a:pt x="3187" y="3383"/>
                  <a:pt x="3281" y="3376"/>
                  <a:pt x="3398" y="3373"/>
                </a:cubicBezTo>
                <a:cubicBezTo>
                  <a:pt x="3515" y="3370"/>
                  <a:pt x="3655" y="3370"/>
                  <a:pt x="3770" y="3349"/>
                </a:cubicBezTo>
                <a:cubicBezTo>
                  <a:pt x="3888" y="3328"/>
                  <a:pt x="3999" y="3316"/>
                  <a:pt x="4118" y="3299"/>
                </a:cubicBezTo>
                <a:cubicBezTo>
                  <a:pt x="4257" y="3279"/>
                  <a:pt x="4405" y="3288"/>
                  <a:pt x="4539" y="3249"/>
                </a:cubicBezTo>
                <a:cubicBezTo>
                  <a:pt x="4564" y="3249"/>
                  <a:pt x="4572" y="3249"/>
                  <a:pt x="4564" y="32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61040" y="1803240"/>
            <a:ext cx="831960" cy="679680"/>
          </a:xfrm>
          <a:custGeom>
            <a:avLst/>
            <a:gdLst/>
            <a:ahLst/>
            <a:rect l="l" t="t" r="r" b="b"/>
            <a:pathLst>
              <a:path w="2308" h="1886">
                <a:moveTo>
                  <a:pt x="17314" y="5904"/>
                </a:moveTo>
                <a:cubicBezTo>
                  <a:pt x="17236" y="6016"/>
                  <a:pt x="17525" y="5914"/>
                  <a:pt x="17661" y="5904"/>
                </a:cubicBezTo>
                <a:cubicBezTo>
                  <a:pt x="17993" y="5880"/>
                  <a:pt x="18321" y="5879"/>
                  <a:pt x="18653" y="5879"/>
                </a:cubicBezTo>
              </a:path>
              <a:path w="2308" h="1886">
                <a:moveTo>
                  <a:pt x="17462" y="5011"/>
                </a:moveTo>
                <a:cubicBezTo>
                  <a:pt x="17482" y="5206"/>
                  <a:pt x="17467" y="5385"/>
                  <a:pt x="17462" y="5581"/>
                </a:cubicBezTo>
                <a:cubicBezTo>
                  <a:pt x="17462" y="5647"/>
                  <a:pt x="17462" y="5664"/>
                  <a:pt x="17462" y="5705"/>
                </a:cubicBezTo>
              </a:path>
              <a:path w="2308" h="1886">
                <a:moveTo>
                  <a:pt x="18207" y="5035"/>
                </a:moveTo>
                <a:cubicBezTo>
                  <a:pt x="18125" y="5045"/>
                  <a:pt x="17960" y="5031"/>
                  <a:pt x="17884" y="5060"/>
                </a:cubicBezTo>
                <a:cubicBezTo>
                  <a:pt x="17844" y="5075"/>
                  <a:pt x="17804" y="5293"/>
                  <a:pt x="17785" y="5333"/>
                </a:cubicBezTo>
                <a:cubicBezTo>
                  <a:pt x="17777" y="5341"/>
                  <a:pt x="17768" y="5350"/>
                  <a:pt x="17760" y="5358"/>
                </a:cubicBezTo>
                <a:cubicBezTo>
                  <a:pt x="17871" y="5358"/>
                  <a:pt x="17943" y="5283"/>
                  <a:pt x="18058" y="5283"/>
                </a:cubicBezTo>
                <a:cubicBezTo>
                  <a:pt x="18226" y="5283"/>
                  <a:pt x="18404" y="5452"/>
                  <a:pt x="18231" y="5606"/>
                </a:cubicBezTo>
                <a:cubicBezTo>
                  <a:pt x="18100" y="5722"/>
                  <a:pt x="18001" y="5668"/>
                  <a:pt x="17859" y="5631"/>
                </a:cubicBezTo>
              </a:path>
              <a:path w="2308" h="1886">
                <a:moveTo>
                  <a:pt x="17363" y="6424"/>
                </a:moveTo>
                <a:cubicBezTo>
                  <a:pt x="17386" y="6358"/>
                  <a:pt x="17465" y="6343"/>
                  <a:pt x="17537" y="6325"/>
                </a:cubicBezTo>
                <a:cubicBezTo>
                  <a:pt x="17613" y="6565"/>
                  <a:pt x="17550" y="6785"/>
                  <a:pt x="17264" y="6896"/>
                </a:cubicBezTo>
                <a:cubicBezTo>
                  <a:pt x="17223" y="6896"/>
                  <a:pt x="17181" y="6896"/>
                  <a:pt x="17140" y="6896"/>
                </a:cubicBezTo>
                <a:cubicBezTo>
                  <a:pt x="17126" y="6668"/>
                  <a:pt x="17241" y="6605"/>
                  <a:pt x="17487" y="6672"/>
                </a:cubicBezTo>
                <a:cubicBezTo>
                  <a:pt x="17592" y="6701"/>
                  <a:pt x="17653" y="7000"/>
                  <a:pt x="17686" y="6896"/>
                </a:cubicBezTo>
                <a:cubicBezTo>
                  <a:pt x="17694" y="6863"/>
                  <a:pt x="17703" y="6829"/>
                  <a:pt x="17711" y="6796"/>
                </a:cubicBezTo>
              </a:path>
              <a:path w="2308" h="1886">
                <a:moveTo>
                  <a:pt x="18405" y="6226"/>
                </a:moveTo>
                <a:cubicBezTo>
                  <a:pt x="18323" y="6195"/>
                  <a:pt x="18196" y="6178"/>
                  <a:pt x="18107" y="6226"/>
                </a:cubicBezTo>
                <a:cubicBezTo>
                  <a:pt x="18025" y="6270"/>
                  <a:pt x="18016" y="6443"/>
                  <a:pt x="18008" y="6524"/>
                </a:cubicBezTo>
                <a:cubicBezTo>
                  <a:pt x="18169" y="6484"/>
                  <a:pt x="18328" y="6381"/>
                  <a:pt x="18479" y="6524"/>
                </a:cubicBezTo>
                <a:cubicBezTo>
                  <a:pt x="18690" y="6723"/>
                  <a:pt x="18334" y="6868"/>
                  <a:pt x="18182" y="6846"/>
                </a:cubicBezTo>
                <a:cubicBezTo>
                  <a:pt x="18082" y="6806"/>
                  <a:pt x="18064" y="6800"/>
                  <a:pt x="18008" y="6772"/>
                </a:cubicBezTo>
              </a:path>
              <a:path w="2308" h="1886">
                <a:moveTo>
                  <a:pt x="19149" y="5680"/>
                </a:moveTo>
                <a:cubicBezTo>
                  <a:pt x="19225" y="5699"/>
                  <a:pt x="19298" y="5715"/>
                  <a:pt x="19372" y="5730"/>
                </a:cubicBezTo>
              </a:path>
              <a:path w="2308" h="1886">
                <a:moveTo>
                  <a:pt x="19174" y="5928"/>
                </a:moveTo>
                <a:cubicBezTo>
                  <a:pt x="19260" y="5912"/>
                  <a:pt x="19341" y="5903"/>
                  <a:pt x="19422" y="58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242120" y="1839960"/>
            <a:ext cx="169920" cy="554040"/>
          </a:xfrm>
          <a:custGeom>
            <a:avLst/>
            <a:gdLst/>
            <a:ahLst/>
            <a:rect l="l" t="t" r="r" b="b"/>
            <a:pathLst>
              <a:path w="472" h="1539">
                <a:moveTo>
                  <a:pt x="20290" y="5135"/>
                </a:moveTo>
                <a:cubicBezTo>
                  <a:pt x="20388" y="5102"/>
                  <a:pt x="20204" y="5144"/>
                  <a:pt x="20166" y="5159"/>
                </a:cubicBezTo>
                <a:cubicBezTo>
                  <a:pt x="20260" y="5132"/>
                  <a:pt x="20405" y="5043"/>
                  <a:pt x="20489" y="5159"/>
                </a:cubicBezTo>
                <a:cubicBezTo>
                  <a:pt x="20576" y="5279"/>
                  <a:pt x="20429" y="5371"/>
                  <a:pt x="20340" y="5407"/>
                </a:cubicBezTo>
                <a:cubicBezTo>
                  <a:pt x="20332" y="5407"/>
                  <a:pt x="20323" y="5407"/>
                  <a:pt x="20315" y="5407"/>
                </a:cubicBezTo>
                <a:cubicBezTo>
                  <a:pt x="20372" y="5366"/>
                  <a:pt x="20584" y="5396"/>
                  <a:pt x="20489" y="5556"/>
                </a:cubicBezTo>
                <a:cubicBezTo>
                  <a:pt x="20396" y="5712"/>
                  <a:pt x="20240" y="5718"/>
                  <a:pt x="20117" y="5631"/>
                </a:cubicBezTo>
              </a:path>
              <a:path w="472" h="1539">
                <a:moveTo>
                  <a:pt x="20141" y="6003"/>
                </a:moveTo>
                <a:cubicBezTo>
                  <a:pt x="20278" y="5966"/>
                  <a:pt x="20516" y="5846"/>
                  <a:pt x="20588" y="5953"/>
                </a:cubicBezTo>
              </a:path>
              <a:path w="472" h="1539">
                <a:moveTo>
                  <a:pt x="20414" y="6077"/>
                </a:moveTo>
                <a:cubicBezTo>
                  <a:pt x="20345" y="6109"/>
                  <a:pt x="20207" y="6153"/>
                  <a:pt x="20191" y="6226"/>
                </a:cubicBezTo>
                <a:cubicBezTo>
                  <a:pt x="20176" y="6295"/>
                  <a:pt x="20191" y="6378"/>
                  <a:pt x="20191" y="6449"/>
                </a:cubicBezTo>
                <a:cubicBezTo>
                  <a:pt x="20273" y="6408"/>
                  <a:pt x="20427" y="6304"/>
                  <a:pt x="20513" y="6400"/>
                </a:cubicBezTo>
                <a:cubicBezTo>
                  <a:pt x="20654" y="6559"/>
                  <a:pt x="20371" y="6648"/>
                  <a:pt x="20265" y="6648"/>
                </a:cubicBezTo>
                <a:cubicBezTo>
                  <a:pt x="20205" y="6628"/>
                  <a:pt x="20190" y="6629"/>
                  <a:pt x="20166" y="65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804080" y="1687680"/>
            <a:ext cx="741600" cy="1036440"/>
          </a:xfrm>
          <a:custGeom>
            <a:avLst/>
            <a:gdLst/>
            <a:ahLst/>
            <a:rect l="l" t="t" r="r" b="b"/>
            <a:pathLst>
              <a:path w="2060" h="2878">
                <a:moveTo>
                  <a:pt x="22647" y="5184"/>
                </a:moveTo>
                <a:cubicBezTo>
                  <a:pt x="22609" y="5207"/>
                  <a:pt x="22589" y="5234"/>
                  <a:pt x="22572" y="5283"/>
                </a:cubicBezTo>
                <a:cubicBezTo>
                  <a:pt x="22613" y="5288"/>
                  <a:pt x="22727" y="5262"/>
                  <a:pt x="22671" y="5234"/>
                </a:cubicBezTo>
              </a:path>
              <a:path w="2060" h="2878">
                <a:moveTo>
                  <a:pt x="23217" y="4688"/>
                </a:moveTo>
                <a:cubicBezTo>
                  <a:pt x="23176" y="4702"/>
                  <a:pt x="23124" y="4919"/>
                  <a:pt x="23118" y="4961"/>
                </a:cubicBezTo>
                <a:cubicBezTo>
                  <a:pt x="23106" y="5044"/>
                  <a:pt x="23094" y="5219"/>
                  <a:pt x="23168" y="5259"/>
                </a:cubicBezTo>
                <a:cubicBezTo>
                  <a:pt x="23301" y="5331"/>
                  <a:pt x="23431" y="5329"/>
                  <a:pt x="23564" y="5259"/>
                </a:cubicBezTo>
                <a:cubicBezTo>
                  <a:pt x="23594" y="5229"/>
                  <a:pt x="23605" y="5215"/>
                  <a:pt x="23614" y="5184"/>
                </a:cubicBezTo>
                <a:cubicBezTo>
                  <a:pt x="23595" y="5108"/>
                  <a:pt x="23527" y="5125"/>
                  <a:pt x="23465" y="5159"/>
                </a:cubicBezTo>
                <a:cubicBezTo>
                  <a:pt x="23383" y="5203"/>
                  <a:pt x="23380" y="5224"/>
                  <a:pt x="23366" y="5308"/>
                </a:cubicBezTo>
              </a:path>
              <a:path w="2060" h="2878">
                <a:moveTo>
                  <a:pt x="21977" y="6127"/>
                </a:moveTo>
                <a:cubicBezTo>
                  <a:pt x="21955" y="6278"/>
                  <a:pt x="21841" y="6435"/>
                  <a:pt x="21828" y="6598"/>
                </a:cubicBezTo>
                <a:cubicBezTo>
                  <a:pt x="21836" y="6631"/>
                  <a:pt x="21845" y="6664"/>
                  <a:pt x="21853" y="6697"/>
                </a:cubicBezTo>
                <a:cubicBezTo>
                  <a:pt x="22038" y="6731"/>
                  <a:pt x="22162" y="6640"/>
                  <a:pt x="22225" y="6449"/>
                </a:cubicBezTo>
                <a:cubicBezTo>
                  <a:pt x="22217" y="6441"/>
                  <a:pt x="22208" y="6432"/>
                  <a:pt x="22200" y="6424"/>
                </a:cubicBezTo>
                <a:cubicBezTo>
                  <a:pt x="22131" y="6442"/>
                  <a:pt x="21835" y="6622"/>
                  <a:pt x="22002" y="6747"/>
                </a:cubicBezTo>
                <a:cubicBezTo>
                  <a:pt x="22027" y="6739"/>
                  <a:pt x="22051" y="6730"/>
                  <a:pt x="22076" y="6722"/>
                </a:cubicBezTo>
              </a:path>
              <a:path w="2060" h="2878">
                <a:moveTo>
                  <a:pt x="22473" y="6226"/>
                </a:moveTo>
                <a:cubicBezTo>
                  <a:pt x="22381" y="6300"/>
                  <a:pt x="22309" y="6493"/>
                  <a:pt x="22374" y="6623"/>
                </a:cubicBezTo>
                <a:cubicBezTo>
                  <a:pt x="22399" y="6639"/>
                  <a:pt x="22423" y="6656"/>
                  <a:pt x="22448" y="6672"/>
                </a:cubicBezTo>
                <a:cubicBezTo>
                  <a:pt x="22613" y="6560"/>
                  <a:pt x="22758" y="6417"/>
                  <a:pt x="22622" y="6201"/>
                </a:cubicBezTo>
                <a:cubicBezTo>
                  <a:pt x="22557" y="6158"/>
                  <a:pt x="22542" y="6137"/>
                  <a:pt x="22498" y="6176"/>
                </a:cubicBezTo>
              </a:path>
              <a:path w="2060" h="2878">
                <a:moveTo>
                  <a:pt x="23044" y="6003"/>
                </a:moveTo>
                <a:cubicBezTo>
                  <a:pt x="22993" y="6109"/>
                  <a:pt x="22932" y="6144"/>
                  <a:pt x="22994" y="6226"/>
                </a:cubicBezTo>
                <a:cubicBezTo>
                  <a:pt x="23104" y="6161"/>
                  <a:pt x="23165" y="6103"/>
                  <a:pt x="23143" y="6003"/>
                </a:cubicBezTo>
                <a:cubicBezTo>
                  <a:pt x="23143" y="5995"/>
                  <a:pt x="23143" y="5986"/>
                  <a:pt x="23143" y="5978"/>
                </a:cubicBezTo>
                <a:cubicBezTo>
                  <a:pt x="23383" y="5943"/>
                  <a:pt x="23445" y="6051"/>
                  <a:pt x="23391" y="6300"/>
                </a:cubicBezTo>
                <a:cubicBezTo>
                  <a:pt x="23374" y="6379"/>
                  <a:pt x="23193" y="6649"/>
                  <a:pt x="23267" y="6697"/>
                </a:cubicBezTo>
              </a:path>
              <a:path w="2060" h="2878">
                <a:moveTo>
                  <a:pt x="23564" y="6548"/>
                </a:moveTo>
                <a:cubicBezTo>
                  <a:pt x="23594" y="6654"/>
                  <a:pt x="23665" y="6652"/>
                  <a:pt x="23713" y="6548"/>
                </a:cubicBezTo>
                <a:cubicBezTo>
                  <a:pt x="23773" y="6419"/>
                  <a:pt x="23672" y="6481"/>
                  <a:pt x="23589" y="6499"/>
                </a:cubicBezTo>
              </a:path>
              <a:path w="2060" h="2878">
                <a:moveTo>
                  <a:pt x="21704" y="7193"/>
                </a:moveTo>
                <a:cubicBezTo>
                  <a:pt x="21766" y="7157"/>
                  <a:pt x="21850" y="7149"/>
                  <a:pt x="21927" y="7144"/>
                </a:cubicBezTo>
                <a:cubicBezTo>
                  <a:pt x="21935" y="7144"/>
                  <a:pt x="21944" y="7144"/>
                  <a:pt x="21952" y="7144"/>
                </a:cubicBezTo>
                <a:cubicBezTo>
                  <a:pt x="21923" y="7213"/>
                  <a:pt x="21901" y="7260"/>
                  <a:pt x="21853" y="7317"/>
                </a:cubicBezTo>
                <a:cubicBezTo>
                  <a:pt x="21930" y="7330"/>
                  <a:pt x="22042" y="7351"/>
                  <a:pt x="21952" y="7466"/>
                </a:cubicBezTo>
                <a:cubicBezTo>
                  <a:pt x="21910" y="7520"/>
                  <a:pt x="21651" y="7650"/>
                  <a:pt x="21679" y="7491"/>
                </a:cubicBezTo>
                <a:cubicBezTo>
                  <a:pt x="21687" y="7474"/>
                  <a:pt x="21696" y="7458"/>
                  <a:pt x="21704" y="7441"/>
                </a:cubicBezTo>
              </a:path>
              <a:path w="2060" h="2878">
                <a:moveTo>
                  <a:pt x="22349" y="7218"/>
                </a:moveTo>
                <a:cubicBezTo>
                  <a:pt x="22326" y="7241"/>
                  <a:pt x="22318" y="7245"/>
                  <a:pt x="22324" y="7268"/>
                </a:cubicBezTo>
                <a:cubicBezTo>
                  <a:pt x="22354" y="7261"/>
                  <a:pt x="22405" y="7201"/>
                  <a:pt x="22349" y="7218"/>
                </a:cubicBezTo>
                <a:cubicBezTo>
                  <a:pt x="22332" y="7226"/>
                  <a:pt x="22316" y="7235"/>
                  <a:pt x="22299" y="7243"/>
                </a:cubicBezTo>
              </a:path>
              <a:path w="2060" h="2878">
                <a:moveTo>
                  <a:pt x="22324" y="7491"/>
                </a:moveTo>
                <a:cubicBezTo>
                  <a:pt x="22316" y="7508"/>
                  <a:pt x="22307" y="7524"/>
                  <a:pt x="22299" y="7541"/>
                </a:cubicBezTo>
                <a:cubicBezTo>
                  <a:pt x="22350" y="7541"/>
                  <a:pt x="22362" y="7541"/>
                  <a:pt x="22374" y="7491"/>
                </a:cubicBezTo>
              </a:path>
              <a:path w="2060" h="2878">
                <a:moveTo>
                  <a:pt x="23019" y="7119"/>
                </a:moveTo>
                <a:cubicBezTo>
                  <a:pt x="22923" y="7119"/>
                  <a:pt x="22870" y="7094"/>
                  <a:pt x="22820" y="7169"/>
                </a:cubicBezTo>
                <a:cubicBezTo>
                  <a:pt x="22782" y="7226"/>
                  <a:pt x="22752" y="7281"/>
                  <a:pt x="22721" y="7342"/>
                </a:cubicBezTo>
                <a:cubicBezTo>
                  <a:pt x="22775" y="7331"/>
                  <a:pt x="22865" y="7288"/>
                  <a:pt x="22920" y="7293"/>
                </a:cubicBezTo>
                <a:cubicBezTo>
                  <a:pt x="23017" y="7302"/>
                  <a:pt x="23042" y="7463"/>
                  <a:pt x="22969" y="7516"/>
                </a:cubicBezTo>
                <a:cubicBezTo>
                  <a:pt x="22871" y="7555"/>
                  <a:pt x="22858" y="7571"/>
                  <a:pt x="22796" y="75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59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bjective:  Students will identify the probability of an event as a decimal, fraction, percent and rati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essica rolled a number cube 30 times and her results are shown bel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 5 1 3 6 3 4 2 3 5 1 2 2 2 6 5 3 5 4 1 6 5 2 3 4 1 5 3 3 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sed on her results, what is the experimental probability that Jessica will roll an even number on her next ro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) 0.1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) 0.1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) 0.4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) 0.6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116000" y="4394160"/>
            <a:ext cx="849240" cy="623880"/>
          </a:xfrm>
          <a:custGeom>
            <a:avLst/>
            <a:gdLst/>
            <a:ahLst/>
            <a:rect l="l" t="t" r="r" b="b"/>
            <a:pathLst>
              <a:path w="2357" h="1737">
                <a:moveTo>
                  <a:pt x="3870" y="12774"/>
                </a:moveTo>
                <a:lnTo>
                  <a:pt x="3870" y="12774"/>
                </a:lnTo>
              </a:path>
              <a:path w="2357" h="1737">
                <a:moveTo>
                  <a:pt x="3820" y="12254"/>
                </a:moveTo>
                <a:cubicBezTo>
                  <a:pt x="3820" y="12378"/>
                  <a:pt x="3798" y="12501"/>
                  <a:pt x="3795" y="12626"/>
                </a:cubicBezTo>
                <a:cubicBezTo>
                  <a:pt x="3795" y="12717"/>
                  <a:pt x="3795" y="12725"/>
                  <a:pt x="3795" y="12774"/>
                </a:cubicBezTo>
              </a:path>
              <a:path w="2357" h="1737">
                <a:moveTo>
                  <a:pt x="4192" y="12254"/>
                </a:moveTo>
                <a:cubicBezTo>
                  <a:pt x="4344" y="12200"/>
                  <a:pt x="4362" y="12200"/>
                  <a:pt x="4514" y="12254"/>
                </a:cubicBezTo>
                <a:cubicBezTo>
                  <a:pt x="4464" y="12488"/>
                  <a:pt x="4299" y="12555"/>
                  <a:pt x="4118" y="12700"/>
                </a:cubicBezTo>
                <a:cubicBezTo>
                  <a:pt x="4101" y="12717"/>
                  <a:pt x="4085" y="12733"/>
                  <a:pt x="4068" y="12750"/>
                </a:cubicBezTo>
                <a:cubicBezTo>
                  <a:pt x="4219" y="12733"/>
                  <a:pt x="4362" y="12706"/>
                  <a:pt x="4514" y="12700"/>
                </a:cubicBezTo>
                <a:cubicBezTo>
                  <a:pt x="4522" y="12700"/>
                  <a:pt x="4531" y="12700"/>
                  <a:pt x="4539" y="12700"/>
                </a:cubicBezTo>
              </a:path>
              <a:path w="2357" h="1737">
                <a:moveTo>
                  <a:pt x="3101" y="13022"/>
                </a:moveTo>
                <a:cubicBezTo>
                  <a:pt x="3580" y="13010"/>
                  <a:pt x="4060" y="12954"/>
                  <a:pt x="4539" y="12973"/>
                </a:cubicBezTo>
                <a:cubicBezTo>
                  <a:pt x="4614" y="12976"/>
                  <a:pt x="4639" y="12987"/>
                  <a:pt x="4713" y="12998"/>
                </a:cubicBezTo>
              </a:path>
              <a:path w="2357" h="1737">
                <a:moveTo>
                  <a:pt x="3597" y="13271"/>
                </a:moveTo>
                <a:cubicBezTo>
                  <a:pt x="3759" y="13285"/>
                  <a:pt x="4059" y="13330"/>
                  <a:pt x="3795" y="13543"/>
                </a:cubicBezTo>
                <a:cubicBezTo>
                  <a:pt x="3701" y="13581"/>
                  <a:pt x="3683" y="13574"/>
                  <a:pt x="3646" y="13618"/>
                </a:cubicBezTo>
                <a:cubicBezTo>
                  <a:pt x="3751" y="13571"/>
                  <a:pt x="4058" y="13569"/>
                  <a:pt x="3944" y="13791"/>
                </a:cubicBezTo>
                <a:cubicBezTo>
                  <a:pt x="3862" y="13951"/>
                  <a:pt x="3680" y="13922"/>
                  <a:pt x="3547" y="13915"/>
                </a:cubicBezTo>
                <a:cubicBezTo>
                  <a:pt x="3513" y="13781"/>
                  <a:pt x="3530" y="13722"/>
                  <a:pt x="3671" y="13667"/>
                </a:cubicBezTo>
              </a:path>
              <a:path w="2357" h="1737">
                <a:moveTo>
                  <a:pt x="4514" y="13320"/>
                </a:moveTo>
                <a:cubicBezTo>
                  <a:pt x="4339" y="13496"/>
                  <a:pt x="4297" y="13601"/>
                  <a:pt x="4341" y="13841"/>
                </a:cubicBezTo>
                <a:cubicBezTo>
                  <a:pt x="4447" y="13823"/>
                  <a:pt x="5029" y="13636"/>
                  <a:pt x="4713" y="13419"/>
                </a:cubicBezTo>
                <a:cubicBezTo>
                  <a:pt x="4568" y="13399"/>
                  <a:pt x="4533" y="13407"/>
                  <a:pt x="4465" y="13345"/>
                </a:cubicBezTo>
              </a:path>
              <a:path w="2357" h="1737">
                <a:moveTo>
                  <a:pt x="5110" y="13022"/>
                </a:moveTo>
                <a:cubicBezTo>
                  <a:pt x="5217" y="13022"/>
                  <a:pt x="5325" y="13022"/>
                  <a:pt x="5432" y="13022"/>
                </a:cubicBezTo>
              </a:path>
              <a:path w="2357" h="1737">
                <a:moveTo>
                  <a:pt x="5159" y="13221"/>
                </a:moveTo>
                <a:cubicBezTo>
                  <a:pt x="5260" y="13215"/>
                  <a:pt x="5357" y="13203"/>
                  <a:pt x="5457" y="131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197080" y="4446720"/>
            <a:ext cx="276120" cy="554040"/>
          </a:xfrm>
          <a:custGeom>
            <a:avLst/>
            <a:gdLst/>
            <a:ahLst/>
            <a:rect l="l" t="t" r="r" b="b"/>
            <a:pathLst>
              <a:path w="770" h="1539">
                <a:moveTo>
                  <a:pt x="6325" y="12427"/>
                </a:moveTo>
                <a:cubicBezTo>
                  <a:pt x="6474" y="12378"/>
                  <a:pt x="6584" y="12364"/>
                  <a:pt x="6747" y="12378"/>
                </a:cubicBezTo>
                <a:cubicBezTo>
                  <a:pt x="6631" y="12609"/>
                  <a:pt x="6470" y="12644"/>
                  <a:pt x="6276" y="12799"/>
                </a:cubicBezTo>
                <a:cubicBezTo>
                  <a:pt x="6276" y="12807"/>
                  <a:pt x="6276" y="12816"/>
                  <a:pt x="6276" y="12824"/>
                </a:cubicBezTo>
                <a:cubicBezTo>
                  <a:pt x="6467" y="12792"/>
                  <a:pt x="6658" y="12750"/>
                  <a:pt x="6846" y="12774"/>
                </a:cubicBezTo>
              </a:path>
              <a:path w="770" h="1539">
                <a:moveTo>
                  <a:pt x="6102" y="13047"/>
                </a:moveTo>
                <a:cubicBezTo>
                  <a:pt x="6351" y="13035"/>
                  <a:pt x="6597" y="13005"/>
                  <a:pt x="6846" y="12998"/>
                </a:cubicBezTo>
                <a:cubicBezTo>
                  <a:pt x="6854" y="12998"/>
                  <a:pt x="6863" y="12998"/>
                  <a:pt x="6871" y="12998"/>
                </a:cubicBezTo>
              </a:path>
              <a:path w="770" h="1539">
                <a:moveTo>
                  <a:pt x="6548" y="13271"/>
                </a:moveTo>
                <a:cubicBezTo>
                  <a:pt x="6460" y="13245"/>
                  <a:pt x="6386" y="13180"/>
                  <a:pt x="6300" y="13246"/>
                </a:cubicBezTo>
                <a:cubicBezTo>
                  <a:pt x="6212" y="13313"/>
                  <a:pt x="6207" y="13467"/>
                  <a:pt x="6176" y="13568"/>
                </a:cubicBezTo>
                <a:cubicBezTo>
                  <a:pt x="6305" y="13552"/>
                  <a:pt x="6405" y="13494"/>
                  <a:pt x="6548" y="13519"/>
                </a:cubicBezTo>
                <a:cubicBezTo>
                  <a:pt x="6662" y="13564"/>
                  <a:pt x="6701" y="13570"/>
                  <a:pt x="6697" y="13667"/>
                </a:cubicBezTo>
                <a:cubicBezTo>
                  <a:pt x="6623" y="13825"/>
                  <a:pt x="6482" y="13943"/>
                  <a:pt x="6276" y="13891"/>
                </a:cubicBezTo>
                <a:cubicBezTo>
                  <a:pt x="6259" y="13874"/>
                  <a:pt x="6243" y="13858"/>
                  <a:pt x="6226" y="13841"/>
                </a:cubicBezTo>
              </a:path>
              <a:path w="770" h="1539">
                <a:moveTo>
                  <a:pt x="6548" y="13295"/>
                </a:moveTo>
                <a:cubicBezTo>
                  <a:pt x="6632" y="13295"/>
                  <a:pt x="6711" y="13274"/>
                  <a:pt x="6796" y="13271"/>
                </a:cubicBezTo>
                <a:cubicBezTo>
                  <a:pt x="6813" y="13271"/>
                  <a:pt x="6829" y="13271"/>
                  <a:pt x="6846" y="132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776680" y="4687920"/>
            <a:ext cx="90360" cy="339840"/>
          </a:xfrm>
          <a:custGeom>
            <a:avLst/>
            <a:gdLst/>
            <a:ahLst/>
            <a:rect l="l" t="t" r="r" b="b"/>
            <a:pathLst>
              <a:path w="249" h="944">
                <a:moveTo>
                  <a:pt x="7789" y="13022"/>
                </a:moveTo>
                <a:lnTo>
                  <a:pt x="7789" y="13022"/>
                </a:lnTo>
                <a:lnTo>
                  <a:pt x="7789" y="13022"/>
                </a:lnTo>
                <a:lnTo>
                  <a:pt x="7789" y="13022"/>
                </a:lnTo>
              </a:path>
              <a:path w="249" h="944">
                <a:moveTo>
                  <a:pt x="7962" y="13593"/>
                </a:moveTo>
                <a:cubicBezTo>
                  <a:pt x="7944" y="13813"/>
                  <a:pt x="7955" y="13941"/>
                  <a:pt x="7714" y="139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160800" y="4589640"/>
            <a:ext cx="617400" cy="447480"/>
          </a:xfrm>
          <a:custGeom>
            <a:avLst/>
            <a:gdLst/>
            <a:ahLst/>
            <a:rect l="l" t="t" r="r" b="b"/>
            <a:pathLst>
              <a:path w="1712" h="1241">
                <a:moveTo>
                  <a:pt x="8830" y="12898"/>
                </a:moveTo>
                <a:cubicBezTo>
                  <a:pt x="8911" y="12779"/>
                  <a:pt x="9014" y="12766"/>
                  <a:pt x="9153" y="12750"/>
                </a:cubicBezTo>
                <a:cubicBezTo>
                  <a:pt x="9153" y="13025"/>
                  <a:pt x="8978" y="13139"/>
                  <a:pt x="8830" y="13370"/>
                </a:cubicBezTo>
                <a:cubicBezTo>
                  <a:pt x="8814" y="13403"/>
                  <a:pt x="8797" y="13436"/>
                  <a:pt x="8781" y="13469"/>
                </a:cubicBezTo>
                <a:cubicBezTo>
                  <a:pt x="8925" y="13454"/>
                  <a:pt x="9057" y="13419"/>
                  <a:pt x="9203" y="13419"/>
                </a:cubicBezTo>
                <a:cubicBezTo>
                  <a:pt x="9219" y="13419"/>
                  <a:pt x="9236" y="13419"/>
                  <a:pt x="9252" y="13419"/>
                </a:cubicBezTo>
              </a:path>
              <a:path w="1712" h="1241">
                <a:moveTo>
                  <a:pt x="9649" y="12874"/>
                </a:moveTo>
                <a:cubicBezTo>
                  <a:pt x="9649" y="12882"/>
                  <a:pt x="9649" y="12890"/>
                  <a:pt x="9649" y="12898"/>
                </a:cubicBezTo>
              </a:path>
              <a:path w="1712" h="1241">
                <a:moveTo>
                  <a:pt x="9624" y="13122"/>
                </a:moveTo>
                <a:cubicBezTo>
                  <a:pt x="9601" y="13144"/>
                  <a:pt x="9593" y="13149"/>
                  <a:pt x="9599" y="13171"/>
                </a:cubicBezTo>
              </a:path>
              <a:path w="1712" h="1241">
                <a:moveTo>
                  <a:pt x="10269" y="12750"/>
                </a:moveTo>
                <a:cubicBezTo>
                  <a:pt x="10181" y="12750"/>
                  <a:pt x="10105" y="12767"/>
                  <a:pt x="10021" y="12774"/>
                </a:cubicBezTo>
                <a:cubicBezTo>
                  <a:pt x="9968" y="12779"/>
                  <a:pt x="9996" y="12947"/>
                  <a:pt x="9996" y="12998"/>
                </a:cubicBezTo>
                <a:cubicBezTo>
                  <a:pt x="9996" y="13006"/>
                  <a:pt x="9996" y="13014"/>
                  <a:pt x="9996" y="13022"/>
                </a:cubicBezTo>
                <a:cubicBezTo>
                  <a:pt x="10122" y="12997"/>
                  <a:pt x="10285" y="12892"/>
                  <a:pt x="10418" y="12973"/>
                </a:cubicBezTo>
                <a:cubicBezTo>
                  <a:pt x="10659" y="13120"/>
                  <a:pt x="10376" y="13256"/>
                  <a:pt x="10244" y="13271"/>
                </a:cubicBezTo>
                <a:cubicBezTo>
                  <a:pt x="10195" y="13271"/>
                  <a:pt x="10145" y="13271"/>
                  <a:pt x="10096" y="13271"/>
                </a:cubicBezTo>
              </a:path>
              <a:path w="1712" h="1241">
                <a:moveTo>
                  <a:pt x="9674" y="13791"/>
                </a:moveTo>
                <a:cubicBezTo>
                  <a:pt x="9578" y="13699"/>
                  <a:pt x="9533" y="13858"/>
                  <a:pt x="9500" y="13940"/>
                </a:cubicBezTo>
                <a:cubicBezTo>
                  <a:pt x="9563" y="13974"/>
                  <a:pt x="9865" y="14041"/>
                  <a:pt x="9798" y="13841"/>
                </a:cubicBezTo>
                <a:cubicBezTo>
                  <a:pt x="9779" y="13785"/>
                  <a:pt x="9645" y="13791"/>
                  <a:pt x="9699" y="13791"/>
                </a:cubicBezTo>
              </a:path>
              <a:path w="1712" h="1241">
                <a:moveTo>
                  <a:pt x="9996" y="13866"/>
                </a:moveTo>
                <a:cubicBezTo>
                  <a:pt x="9996" y="13924"/>
                  <a:pt x="10012" y="13948"/>
                  <a:pt x="9971" y="13940"/>
                </a:cubicBezTo>
                <a:cubicBezTo>
                  <a:pt x="10048" y="13830"/>
                  <a:pt x="10087" y="13755"/>
                  <a:pt x="10220" y="1371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276800" y="4616280"/>
            <a:ext cx="108000" cy="322560"/>
          </a:xfrm>
          <a:custGeom>
            <a:avLst/>
            <a:gdLst/>
            <a:ahLst/>
            <a:rect l="l" t="t" r="r" b="b"/>
            <a:pathLst>
              <a:path w="299" h="894">
                <a:moveTo>
                  <a:pt x="11981" y="12824"/>
                </a:moveTo>
                <a:cubicBezTo>
                  <a:pt x="11991" y="12887"/>
                  <a:pt x="11972" y="12874"/>
                  <a:pt x="12030" y="12874"/>
                </a:cubicBezTo>
                <a:cubicBezTo>
                  <a:pt x="12030" y="12841"/>
                  <a:pt x="12022" y="12833"/>
                  <a:pt x="11981" y="12849"/>
                </a:cubicBezTo>
              </a:path>
              <a:path w="299" h="894">
                <a:moveTo>
                  <a:pt x="12129" y="13395"/>
                </a:moveTo>
                <a:cubicBezTo>
                  <a:pt x="12196" y="13660"/>
                  <a:pt x="12146" y="13692"/>
                  <a:pt x="11881" y="136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749840" y="4545000"/>
            <a:ext cx="295200" cy="258840"/>
          </a:xfrm>
          <a:custGeom>
            <a:avLst/>
            <a:gdLst/>
            <a:ahLst/>
            <a:rect l="l" t="t" r="r" b="b"/>
            <a:pathLst>
              <a:path w="820" h="720">
                <a:moveTo>
                  <a:pt x="13221" y="13246"/>
                </a:moveTo>
                <a:cubicBezTo>
                  <a:pt x="13221" y="13182"/>
                  <a:pt x="13199" y="13325"/>
                  <a:pt x="13196" y="13345"/>
                </a:cubicBezTo>
                <a:cubicBezTo>
                  <a:pt x="13253" y="13331"/>
                  <a:pt x="13343" y="13295"/>
                  <a:pt x="13271" y="13246"/>
                </a:cubicBezTo>
              </a:path>
              <a:path w="820" h="720">
                <a:moveTo>
                  <a:pt x="13643" y="12824"/>
                </a:moveTo>
                <a:cubicBezTo>
                  <a:pt x="13619" y="12867"/>
                  <a:pt x="13503" y="13078"/>
                  <a:pt x="13618" y="13097"/>
                </a:cubicBezTo>
                <a:cubicBezTo>
                  <a:pt x="13738" y="13117"/>
                  <a:pt x="13894" y="13015"/>
                  <a:pt x="14015" y="12998"/>
                </a:cubicBezTo>
              </a:path>
              <a:path w="820" h="720">
                <a:moveTo>
                  <a:pt x="13965" y="12626"/>
                </a:moveTo>
                <a:cubicBezTo>
                  <a:pt x="13983" y="12826"/>
                  <a:pt x="13990" y="13020"/>
                  <a:pt x="13990" y="13221"/>
                </a:cubicBezTo>
                <a:cubicBezTo>
                  <a:pt x="13990" y="13246"/>
                  <a:pt x="13990" y="13270"/>
                  <a:pt x="13990" y="132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429160" y="4616280"/>
            <a:ext cx="142920" cy="401760"/>
          </a:xfrm>
          <a:custGeom>
            <a:avLst/>
            <a:gdLst/>
            <a:ahLst/>
            <a:rect l="l" t="t" r="r" b="b"/>
            <a:pathLst>
              <a:path w="398" h="1117">
                <a:moveTo>
                  <a:pt x="15478" y="12849"/>
                </a:moveTo>
                <a:cubicBezTo>
                  <a:pt x="15405" y="12840"/>
                  <a:pt x="15329" y="12948"/>
                  <a:pt x="15379" y="12948"/>
                </a:cubicBezTo>
                <a:cubicBezTo>
                  <a:pt x="15452" y="12948"/>
                  <a:pt x="15476" y="12898"/>
                  <a:pt x="15379" y="12898"/>
                </a:cubicBezTo>
              </a:path>
              <a:path w="398" h="1117">
                <a:moveTo>
                  <a:pt x="15379" y="13419"/>
                </a:moveTo>
                <a:cubicBezTo>
                  <a:pt x="15396" y="13603"/>
                  <a:pt x="15421" y="13877"/>
                  <a:pt x="15180" y="13940"/>
                </a:cubicBezTo>
                <a:cubicBezTo>
                  <a:pt x="15147" y="13932"/>
                  <a:pt x="15114" y="13923"/>
                  <a:pt x="15081" y="139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062760" y="4554360"/>
            <a:ext cx="741240" cy="320760"/>
          </a:xfrm>
          <a:custGeom>
            <a:avLst/>
            <a:gdLst/>
            <a:ahLst/>
            <a:rect l="l" t="t" r="r" b="b"/>
            <a:pathLst>
              <a:path w="2060" h="894">
                <a:moveTo>
                  <a:pt x="17041" y="12824"/>
                </a:moveTo>
                <a:cubicBezTo>
                  <a:pt x="16994" y="12917"/>
                  <a:pt x="16966" y="13069"/>
                  <a:pt x="16842" y="12998"/>
                </a:cubicBezTo>
                <a:cubicBezTo>
                  <a:pt x="16998" y="12959"/>
                  <a:pt x="17126" y="13115"/>
                  <a:pt x="17289" y="13097"/>
                </a:cubicBezTo>
                <a:cubicBezTo>
                  <a:pt x="17379" y="13036"/>
                  <a:pt x="17404" y="12999"/>
                  <a:pt x="17363" y="12898"/>
                </a:cubicBezTo>
              </a:path>
              <a:path w="2060" h="894">
                <a:moveTo>
                  <a:pt x="17338" y="12725"/>
                </a:moveTo>
                <a:cubicBezTo>
                  <a:pt x="17324" y="12870"/>
                  <a:pt x="17258" y="13315"/>
                  <a:pt x="17289" y="13345"/>
                </a:cubicBezTo>
              </a:path>
              <a:path w="2060" h="894">
                <a:moveTo>
                  <a:pt x="17661" y="12774"/>
                </a:moveTo>
                <a:cubicBezTo>
                  <a:pt x="17573" y="13030"/>
                  <a:pt x="17499" y="13163"/>
                  <a:pt x="17711" y="13345"/>
                </a:cubicBezTo>
                <a:cubicBezTo>
                  <a:pt x="17902" y="13201"/>
                  <a:pt x="18008" y="13041"/>
                  <a:pt x="17785" y="12824"/>
                </a:cubicBezTo>
                <a:cubicBezTo>
                  <a:pt x="17725" y="12804"/>
                  <a:pt x="17710" y="12805"/>
                  <a:pt x="17686" y="12774"/>
                </a:cubicBezTo>
              </a:path>
              <a:path w="2060" h="894">
                <a:moveTo>
                  <a:pt x="18331" y="12675"/>
                </a:moveTo>
                <a:cubicBezTo>
                  <a:pt x="18241" y="12758"/>
                  <a:pt x="18207" y="12782"/>
                  <a:pt x="18207" y="12898"/>
                </a:cubicBezTo>
                <a:cubicBezTo>
                  <a:pt x="18390" y="12910"/>
                  <a:pt x="18478" y="12872"/>
                  <a:pt x="18355" y="12700"/>
                </a:cubicBezTo>
                <a:cubicBezTo>
                  <a:pt x="18333" y="12678"/>
                  <a:pt x="18322" y="12669"/>
                  <a:pt x="18355" y="12675"/>
                </a:cubicBezTo>
                <a:cubicBezTo>
                  <a:pt x="18584" y="12662"/>
                  <a:pt x="18785" y="12723"/>
                  <a:pt x="18678" y="13022"/>
                </a:cubicBezTo>
                <a:cubicBezTo>
                  <a:pt x="18632" y="13151"/>
                  <a:pt x="18288" y="13474"/>
                  <a:pt x="18405" y="13543"/>
                </a:cubicBezTo>
              </a:path>
              <a:path w="2060" h="894">
                <a:moveTo>
                  <a:pt x="18777" y="13370"/>
                </a:moveTo>
                <a:cubicBezTo>
                  <a:pt x="18736" y="13520"/>
                  <a:pt x="18767" y="13525"/>
                  <a:pt x="18901" y="13469"/>
                </a:cubicBezTo>
                <a:cubicBezTo>
                  <a:pt x="18901" y="13410"/>
                  <a:pt x="18892" y="13390"/>
                  <a:pt x="18827" y="133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87800" y="5241960"/>
            <a:ext cx="822240" cy="214200"/>
          </a:xfrm>
          <a:custGeom>
            <a:avLst/>
            <a:gdLst/>
            <a:ahLst/>
            <a:rect l="l" t="t" r="r" b="b"/>
            <a:pathLst>
              <a:path w="2283" h="597">
                <a:moveTo>
                  <a:pt x="8855" y="14585"/>
                </a:moveTo>
                <a:cubicBezTo>
                  <a:pt x="8868" y="14671"/>
                  <a:pt x="8823" y="15100"/>
                  <a:pt x="8855" y="15131"/>
                </a:cubicBezTo>
                <a:cubicBezTo>
                  <a:pt x="8863" y="15114"/>
                  <a:pt x="8872" y="15098"/>
                  <a:pt x="8880" y="15081"/>
                </a:cubicBezTo>
              </a:path>
              <a:path w="2283" h="597">
                <a:moveTo>
                  <a:pt x="9054" y="14660"/>
                </a:moveTo>
                <a:cubicBezTo>
                  <a:pt x="9162" y="14660"/>
                  <a:pt x="9204" y="14662"/>
                  <a:pt x="9277" y="14684"/>
                </a:cubicBezTo>
                <a:cubicBezTo>
                  <a:pt x="9291" y="14872"/>
                  <a:pt x="9163" y="14950"/>
                  <a:pt x="9054" y="15106"/>
                </a:cubicBezTo>
                <a:cubicBezTo>
                  <a:pt x="9046" y="15123"/>
                  <a:pt x="9037" y="15139"/>
                  <a:pt x="9029" y="15156"/>
                </a:cubicBezTo>
                <a:cubicBezTo>
                  <a:pt x="9155" y="15147"/>
                  <a:pt x="9279" y="15137"/>
                  <a:pt x="9401" y="15106"/>
                </a:cubicBezTo>
              </a:path>
              <a:path w="2283" h="597">
                <a:moveTo>
                  <a:pt x="9649" y="14684"/>
                </a:moveTo>
                <a:lnTo>
                  <a:pt x="9649" y="14684"/>
                </a:lnTo>
              </a:path>
              <a:path w="2283" h="597">
                <a:moveTo>
                  <a:pt x="9723" y="14957"/>
                </a:moveTo>
                <a:cubicBezTo>
                  <a:pt x="9723" y="14965"/>
                  <a:pt x="9723" y="14974"/>
                  <a:pt x="9723" y="14982"/>
                </a:cubicBezTo>
              </a:path>
              <a:path w="2283" h="597">
                <a:moveTo>
                  <a:pt x="9723" y="14982"/>
                </a:moveTo>
                <a:lnTo>
                  <a:pt x="9723" y="14982"/>
                </a:lnTo>
              </a:path>
              <a:path w="2283" h="597">
                <a:moveTo>
                  <a:pt x="10021" y="14585"/>
                </a:moveTo>
                <a:cubicBezTo>
                  <a:pt x="10104" y="14573"/>
                  <a:pt x="10307" y="14531"/>
                  <a:pt x="10220" y="14684"/>
                </a:cubicBezTo>
                <a:cubicBezTo>
                  <a:pt x="10195" y="14717"/>
                  <a:pt x="10170" y="14751"/>
                  <a:pt x="10145" y="14784"/>
                </a:cubicBezTo>
                <a:cubicBezTo>
                  <a:pt x="10129" y="14792"/>
                  <a:pt x="10112" y="14800"/>
                  <a:pt x="10096" y="14808"/>
                </a:cubicBezTo>
                <a:cubicBezTo>
                  <a:pt x="10198" y="14808"/>
                  <a:pt x="10364" y="14803"/>
                  <a:pt x="10393" y="14932"/>
                </a:cubicBezTo>
                <a:cubicBezTo>
                  <a:pt x="10441" y="15147"/>
                  <a:pt x="10021" y="15170"/>
                  <a:pt x="10021" y="15106"/>
                </a:cubicBezTo>
                <a:cubicBezTo>
                  <a:pt x="10046" y="15065"/>
                  <a:pt x="10071" y="15023"/>
                  <a:pt x="10096" y="14982"/>
                </a:cubicBezTo>
              </a:path>
              <a:path w="2283" h="597">
                <a:moveTo>
                  <a:pt x="10765" y="14709"/>
                </a:moveTo>
                <a:cubicBezTo>
                  <a:pt x="10702" y="14849"/>
                  <a:pt x="10573" y="15235"/>
                  <a:pt x="10914" y="15156"/>
                </a:cubicBezTo>
                <a:cubicBezTo>
                  <a:pt x="11165" y="15098"/>
                  <a:pt x="11207" y="14757"/>
                  <a:pt x="10964" y="14660"/>
                </a:cubicBezTo>
                <a:cubicBezTo>
                  <a:pt x="10856" y="14660"/>
                  <a:pt x="10815" y="14676"/>
                  <a:pt x="10840" y="145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38120" y="4705200"/>
            <a:ext cx="1303200" cy="430200"/>
          </a:xfrm>
          <a:custGeom>
            <a:avLst/>
            <a:gdLst/>
            <a:ahLst/>
            <a:rect l="l" t="t" r="r" b="b"/>
            <a:pathLst>
              <a:path w="3623" h="1192">
                <a:moveTo>
                  <a:pt x="1612" y="14015"/>
                </a:moveTo>
                <a:cubicBezTo>
                  <a:pt x="1664" y="14032"/>
                  <a:pt x="1659" y="14054"/>
                  <a:pt x="1712" y="14064"/>
                </a:cubicBezTo>
                <a:cubicBezTo>
                  <a:pt x="1874" y="14096"/>
                  <a:pt x="2044" y="14071"/>
                  <a:pt x="2208" y="14089"/>
                </a:cubicBezTo>
                <a:cubicBezTo>
                  <a:pt x="2373" y="14107"/>
                  <a:pt x="2539" y="14097"/>
                  <a:pt x="2704" y="14114"/>
                </a:cubicBezTo>
                <a:cubicBezTo>
                  <a:pt x="2919" y="14136"/>
                  <a:pt x="3130" y="14114"/>
                  <a:pt x="3349" y="14114"/>
                </a:cubicBezTo>
                <a:cubicBezTo>
                  <a:pt x="3492" y="14114"/>
                  <a:pt x="3652" y="14107"/>
                  <a:pt x="3795" y="14089"/>
                </a:cubicBezTo>
                <a:cubicBezTo>
                  <a:pt x="3997" y="14064"/>
                  <a:pt x="4251" y="14041"/>
                  <a:pt x="4440" y="13965"/>
                </a:cubicBezTo>
                <a:cubicBezTo>
                  <a:pt x="4547" y="13922"/>
                  <a:pt x="4614" y="13862"/>
                  <a:pt x="4688" y="13791"/>
                </a:cubicBezTo>
                <a:cubicBezTo>
                  <a:pt x="4800" y="13683"/>
                  <a:pt x="4876" y="13576"/>
                  <a:pt x="4812" y="13419"/>
                </a:cubicBezTo>
                <a:cubicBezTo>
                  <a:pt x="4764" y="13301"/>
                  <a:pt x="4700" y="13244"/>
                  <a:pt x="4589" y="13196"/>
                </a:cubicBezTo>
                <a:cubicBezTo>
                  <a:pt x="4508" y="13161"/>
                  <a:pt x="4422" y="13146"/>
                  <a:pt x="4341" y="13122"/>
                </a:cubicBezTo>
                <a:cubicBezTo>
                  <a:pt x="4234" y="13090"/>
                  <a:pt x="4105" y="13080"/>
                  <a:pt x="3994" y="13072"/>
                </a:cubicBezTo>
                <a:cubicBezTo>
                  <a:pt x="3669" y="13048"/>
                  <a:pt x="3320" y="13063"/>
                  <a:pt x="3001" y="13097"/>
                </a:cubicBezTo>
                <a:cubicBezTo>
                  <a:pt x="2897" y="13108"/>
                  <a:pt x="2782" y="13114"/>
                  <a:pt x="2679" y="13122"/>
                </a:cubicBezTo>
                <a:cubicBezTo>
                  <a:pt x="2534" y="13133"/>
                  <a:pt x="2374" y="13129"/>
                  <a:pt x="2232" y="13171"/>
                </a:cubicBezTo>
                <a:cubicBezTo>
                  <a:pt x="2067" y="13220"/>
                  <a:pt x="1907" y="13275"/>
                  <a:pt x="1761" y="13370"/>
                </a:cubicBezTo>
                <a:cubicBezTo>
                  <a:pt x="1638" y="13450"/>
                  <a:pt x="1507" y="13552"/>
                  <a:pt x="1414" y="13667"/>
                </a:cubicBezTo>
                <a:cubicBezTo>
                  <a:pt x="1341" y="13757"/>
                  <a:pt x="1285" y="13834"/>
                  <a:pt x="1240" y="13940"/>
                </a:cubicBezTo>
                <a:cubicBezTo>
                  <a:pt x="1200" y="14034"/>
                  <a:pt x="1204" y="14044"/>
                  <a:pt x="1265" y="14114"/>
                </a:cubicBezTo>
                <a:cubicBezTo>
                  <a:pt x="1338" y="14198"/>
                  <a:pt x="1432" y="14234"/>
                  <a:pt x="1538" y="14238"/>
                </a:cubicBezTo>
                <a:cubicBezTo>
                  <a:pt x="1641" y="14242"/>
                  <a:pt x="1737" y="14254"/>
                  <a:pt x="1836" y="14263"/>
                </a:cubicBezTo>
                <a:cubicBezTo>
                  <a:pt x="2035" y="14282"/>
                  <a:pt x="2256" y="14224"/>
                  <a:pt x="2456" y="14213"/>
                </a:cubicBezTo>
                <a:cubicBezTo>
                  <a:pt x="2598" y="14205"/>
                  <a:pt x="2738" y="14211"/>
                  <a:pt x="2877" y="14188"/>
                </a:cubicBezTo>
                <a:cubicBezTo>
                  <a:pt x="2951" y="14169"/>
                  <a:pt x="2958" y="14161"/>
                  <a:pt x="3001" y="141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1:32:58Z</dcterms:created>
  <dc:creator>TAMMY  COON</dc:creator>
  <dc:description/>
  <dc:language>en-US</dc:language>
  <cp:lastModifiedBy>deanne elizabeth mcgrath</cp:lastModifiedBy>
  <cp:lastPrinted>2010-03-04T04:54:40Z</cp:lastPrinted>
  <dcterms:modified xsi:type="dcterms:W3CDTF">2011-03-02T18:43:18Z</dcterms:modified>
  <cp:revision>13</cp:revision>
  <dc:subject/>
  <dc:title>Opener:</dc:title>
</cp:coreProperties>
</file>